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511-9942-4110-9998-BB072F79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B6D-D621-4A23-9F3F-B11873E6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02A-896B-4909-B3A9-E6476D61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4FC-340A-477D-8969-1FC7BB0B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305-6E94-4074-8F6F-68D40A5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872-1BBF-4095-BDBC-ED44F93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ECE-F9DA-4446-924D-4A7B7E5C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D73-83AF-4D4C-A34E-88AB30E7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B00-28A9-4603-9072-A0C15F03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7ED-E56A-4670-8071-5818FF83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7FD-D62F-4C3D-99DE-38DAD4B9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D32-6185-446F-8955-AD7FBCA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D676-B2DB-47BD-9629-3CE22DC1F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3C60-9FB5-4229-8303-6A4279609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aport privind preg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irea lotului lărgit al României în vederea participării la competiţiile internaţ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572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Impact"/>
              </a:rPr>
              <a:t>PUNCTE 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istenta unei pregătiri intense calitativ superioare prin Centrele de excelenta judeţene şi regi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aborarea unor subiecte unice la etapa judeţeană, ceea ce a permis de timpuriu selectarea elevilor cu reale calităţi pentru studiul fizic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istenţa unor colective de elaborare a subiectelor din care pentru gimnaziu au facut parte şi profesori din învăţământul liceal, iar pentru liceu au făcut parte şi profesori din învăţământul universi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ţia riguroasă a lotului lărgit de fizic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ul de pregătire centralizat - în care dimineaţa s-au studiat teme teoretice din programa pentru Olimpiada Internaţională iar după amiaza s-au propus şi rezolvat probleme având la bază tematica studiată în cursul dimineţ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istenţa unei stagiu anual de pregătire împreună cu lotul Ungariei şi conlucrarea excelentă între profesorii români şi cei maghia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ocarea unei perioade de două săptămâni pentru pregătirea lotului restrâns al Românie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4972_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99072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838080"/>
            <a:ext cx="723888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PUNCTE SLA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existenţa unui laborator performant pentru pregătirea experimentală a lotul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ţiul de cazare deficitar sub aspectul asigurării confortului necesar unei astfel de solicitari şi al studiului 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existenţa unei reglementări care să permită o mai bună motivare sub aspect material a profesorilor care participă la această pregatire atât în Centrele de excelenţă de la nivelul judeţului cât şi în perioada de pregătire a lotului naţiona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24_" descr=""/>
          <p:cNvPicPr/>
          <p:nvPr/>
        </p:nvPicPr>
        <p:blipFill>
          <a:blip r:embed="rId1"/>
          <a:stretch/>
        </p:blipFill>
        <p:spPr>
          <a:xfrm>
            <a:off x="7010280" y="0"/>
            <a:ext cx="1114560" cy="150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rsu Steli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1D8-7525-4326-A105-7BDA9DEC8EBB}" type="slidenum">
              <a:t>2</a:t>
            </a:fld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Monotype Corsiva"/>
              </a:rPr>
              <a:t>REZULTATELE</a:t>
            </a:r>
            <a:br>
              <a:rPr sz="2400"/>
            </a:br>
            <a:r>
              <a:rPr b="0" i="1" lang="en-US" sz="2400" spc="-1" strike="noStrike">
                <a:solidFill>
                  <a:srgbClr val="800000"/>
                </a:solidFill>
                <a:latin typeface="Monotype Corsiva"/>
              </a:rPr>
              <a:t>la concursul de selec</a:t>
            </a:r>
            <a:r>
              <a:rPr b="0" i="1" lang="ro-RO" sz="2400" spc="-1" strike="noStrike">
                <a:solidFill>
                  <a:srgbClr val="800000"/>
                </a:solidFill>
                <a:latin typeface="Monotype Corsiva"/>
              </a:rPr>
              <a:t>ţ</a:t>
            </a:r>
            <a:r>
              <a:rPr b="0" i="1" lang="en-US" sz="2400" spc="-1" strike="noStrike">
                <a:solidFill>
                  <a:srgbClr val="800000"/>
                </a:solidFill>
                <a:latin typeface="Monotype Corsiva"/>
              </a:rPr>
              <a:t>ie al lotului restrâns pentru IPhO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62320" y="1828800"/>
          <a:ext cx="6095880" cy="524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828800"/>
                    <a:ext cx="609588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rsu Steli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8EA-C62A-4E2B-BC38-CB86D894BE83}" type="slidenum">
              <a:t>3</a:t>
            </a:fld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382680"/>
          <a:ext cx="9144000" cy="60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2680"/>
                    <a:ext cx="914400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95280" y="1905120"/>
            <a:ext cx="1524240" cy="685800"/>
          </a:xfrm>
          <a:prstGeom prst="wedgeEllipseCallout">
            <a:avLst>
              <a:gd name="adj1" fmla="val 42189"/>
              <a:gd name="adj2" fmla="val 86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52480"/>
            <a:ext cx="1447920" cy="609840"/>
          </a:xfrm>
          <a:prstGeom prst="wedgeEllipseCallout">
            <a:avLst>
              <a:gd name="adj1" fmla="val -29712"/>
              <a:gd name="adj2" fmla="val 82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600200"/>
            <a:ext cx="1524240" cy="685800"/>
          </a:xfrm>
          <a:prstGeom prst="wedgeEllipseCallout">
            <a:avLst>
              <a:gd name="adj1" fmla="val -68231"/>
              <a:gd name="adj2" fmla="val 953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1447920"/>
            <a:ext cx="1447920" cy="609480"/>
          </a:xfrm>
          <a:prstGeom prst="wedgeEllipseCallout">
            <a:avLst>
              <a:gd name="adj1" fmla="val -122699"/>
              <a:gd name="adj2" fmla="val 182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1981080"/>
            <a:ext cx="1447920" cy="609840"/>
          </a:xfrm>
          <a:prstGeom prst="wedgeEllipseCallout">
            <a:avLst>
              <a:gd name="adj1" fmla="val -59541"/>
              <a:gd name="adj2" fmla="val 71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rsu Steli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2AC-25CF-4221-97F3-0F431997F696}" type="slidenum">
              <a:t>4</a:t>
            </a:fld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382680"/>
          <a:ext cx="9144000" cy="60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2680"/>
                    <a:ext cx="914400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752480" y="2209680"/>
            <a:ext cx="1447920" cy="609840"/>
          </a:xfrm>
          <a:prstGeom prst="wedgeEllipseCallout">
            <a:avLst>
              <a:gd name="adj1" fmla="val 15898"/>
              <a:gd name="adj2" fmla="val 1197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1752480"/>
            <a:ext cx="1447920" cy="609840"/>
          </a:xfrm>
          <a:prstGeom prst="wedgeEllipseCallout">
            <a:avLst>
              <a:gd name="adj1" fmla="val -17435"/>
              <a:gd name="adj2" fmla="val 167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286000"/>
            <a:ext cx="1447920" cy="609480"/>
          </a:xfrm>
          <a:prstGeom prst="wedgeEllipseCallout">
            <a:avLst>
              <a:gd name="adj1" fmla="val -16555"/>
              <a:gd name="adj2" fmla="val 80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438280"/>
            <a:ext cx="1600200" cy="609840"/>
          </a:xfrm>
          <a:prstGeom prst="wedgeEllipseCallout">
            <a:avLst>
              <a:gd name="adj1" fmla="val -54662"/>
              <a:gd name="adj2" fmla="val 121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1524240" cy="609480"/>
          </a:xfrm>
          <a:prstGeom prst="wedgeEllipseCallout">
            <a:avLst>
              <a:gd name="adj1" fmla="val -32393"/>
              <a:gd name="adj2" fmla="val 107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rsu Steli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C73-4135-4647-91C8-E302C86BE1A4}" type="slidenum">
              <a:t>5</a:t>
            </a:fld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8:18:46Z</dcterms:created>
  <dc:creator>ursu stelian</dc:creator>
  <dc:description/>
  <dc:language>en-US</dc:language>
  <cp:lastModifiedBy>ursu stelian</cp:lastModifiedBy>
  <dcterms:modified xsi:type="dcterms:W3CDTF">2004-01-21T11:02:38Z</dcterms:modified>
  <cp:revision>7</cp:revision>
  <dc:subject/>
  <dc:title>No Slide Title</dc:title>
</cp:coreProperties>
</file>