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B79-71FB-4BCE-BC88-E34AA8E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E21-CA2F-4C04-80AD-C85AC6F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B60-8CF1-4FC3-8B80-E10265FC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D69-6C46-4326-B9A1-3DB0C22E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846-7430-4487-AE7A-66D6363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874-5668-4190-9553-34C45ED9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D6A-4E4B-48AD-A453-17B0842E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D43-9067-4609-93AC-198C39B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041-634A-4495-BF00-C200CC02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38E-3419-431B-8203-F732B47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289-9F90-4F41-AA73-68C3D58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08C-7A73-4AEE-B92A-6343B3F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A7C-BCA2-45AA-9F40-8D5299399F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77120" y="4724280"/>
          <a:ext cx="251460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724280"/>
                    <a:ext cx="25146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2057400"/>
            <a:ext cx="8353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Experimental Competi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99"/>
                </a:solidFill>
                <a:latin typeface="Arial"/>
              </a:rPr>
              <a:t>Mechanical Black Box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ipho_emblem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62260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27280" y="5229360"/>
            <a:ext cx="28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724280"/>
            <a:ext cx="6095880" cy="167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b2b2b2"/>
                </a:solidFill>
                <a:latin typeface="Times New Roman"/>
              </a:rPr>
              <a:t>Academic Committee Members for Experimental Competi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Chair :</a:t>
            </a:r>
            <a:r>
              <a:rPr b="0" lang="ko-KR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Prof. Insuk Yu (SNU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Members :  Chung Ki Hong, Moo-hyun Cho (POSTECH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                       </a:t>
            </a: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Soonchil Lee, Yong Hee Lee (KAIST)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                       </a:t>
            </a:r>
            <a:r>
              <a:rPr b="1" lang="ko-KR" sz="1800" spc="-1" strike="noStrike">
                <a:solidFill>
                  <a:srgbClr val="b2b2b2"/>
                </a:solidFill>
                <a:latin typeface="Times New Roman"/>
              </a:rPr>
              <a:t>Jean Soo Chung (CBNU)</a:t>
            </a:r>
            <a:r>
              <a:rPr b="0" lang="ko-KR" sz="1800" spc="-1" strike="noStrike">
                <a:solidFill>
                  <a:srgbClr val="b2b2b2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698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ART-A   </a:t>
            </a: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m</a:t>
            </a: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x</a:t>
            </a: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4076640"/>
            <a:ext cx="79056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06520" y="3636720"/>
            <a:ext cx="788400" cy="736560"/>
            <a:chOff x="5006520" y="3636720"/>
            <a:chExt cx="788400" cy="736560"/>
          </a:xfrm>
        </p:grpSpPr>
        <p:sp>
          <p:nvSpPr>
            <p:cNvPr id="227" name=""/>
            <p:cNvSpPr/>
            <p:nvPr/>
          </p:nvSpPr>
          <p:spPr>
            <a:xfrm rot="19058400">
              <a:off x="4932360" y="3933360"/>
              <a:ext cx="93672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9640" y="3789360"/>
              <a:ext cx="360360" cy="360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365720"/>
            <a:ext cx="806436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5896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  <a:ea typeface="PMingLiU"/>
              </a:rPr>
              <a:t>PART-B</a:t>
            </a:r>
            <a:r>
              <a:rPr b="1" i="1" lang="ko-KR" sz="2800" spc="-1" strike="noStrike" u="sng">
                <a:solidFill>
                  <a:srgbClr val="333399"/>
                </a:solidFill>
                <a:uFillTx/>
                <a:latin typeface="Arial"/>
                <a:ea typeface="華康楷書體W5"/>
              </a:rPr>
              <a:t> </a:t>
            </a:r>
            <a:r>
              <a:rPr b="1" i="1" lang="ko-KR" sz="2800" spc="-1" strike="noStrike" u="sng">
                <a:solidFill>
                  <a:srgbClr val="333399"/>
                </a:solidFill>
                <a:uFillTx/>
                <a:latin typeface="굴림"/>
                <a:ea typeface="華康楷書體W5"/>
              </a:rPr>
              <a:t>  </a:t>
            </a:r>
            <a:r>
              <a:rPr b="1" lang="ko-KR" sz="32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42920" y="1125360"/>
          <a:ext cx="489600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489600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26920" y="4470480"/>
            <a:ext cx="79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B1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ario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Identify the slow and fast rotation regio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B2. From your measurement, show that 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in the slow rotation region and 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ko-K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in the fast rotation reg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Relate the coefficient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to the parameters such as 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m, l,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B4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Relate the coefficients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to the parameters such as 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</a:rPr>
              <a:t>m, l,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5.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Det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ART-B 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굴림"/>
              </a:rPr>
              <a:t>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Data Plotting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844640"/>
          <a:ext cx="482472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48247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157000" y="4076640"/>
            <a:ext cx="98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6150240" y="270828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ko-KR" sz="1800" spc="-1" strike="noStrike" baseline="-25000">
                <a:solidFill>
                  <a:srgbClr val="000066"/>
                </a:solidFill>
                <a:latin typeface="Times New Roman"/>
              </a:rPr>
              <a:t>f  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i="1" lang="ko-KR" sz="1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  +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33336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844640"/>
            <a:ext cx="77043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low Rotation Regime]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 = 0,    Energy Conserv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 = ½ [ 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I/R</a:t>
            </a:r>
            <a:r>
              <a:rPr b="1" i="1" lang="en-US" sz="1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+ m(l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5)/R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] v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 = - 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 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3284640"/>
            <a:ext cx="7704360" cy="21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[Fast Rotation Regime]     </a:t>
            </a:r>
            <a:r>
              <a:rPr b="1" i="1" lang="ko-KR" sz="2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ko-KR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r>
              <a:rPr b="1" i="1" lang="ko-KR" sz="28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i="1" lang="ko-KR" sz="2800" spc="-1" strike="noStrike" baseline="30000">
                <a:solidFill>
                  <a:srgbClr val="000066"/>
                </a:solidFill>
                <a:latin typeface="Times New Roman"/>
              </a:rPr>
              <a:t>2  </a:t>
            </a:r>
            <a:r>
              <a:rPr b="1" i="1" lang="ko-KR" sz="2800" spc="-1" strike="noStrike">
                <a:solidFill>
                  <a:srgbClr val="000066"/>
                </a:solidFill>
                <a:latin typeface="Times New Roman"/>
              </a:rPr>
              <a:t>+ 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1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U + </a:t>
            </a:r>
            <a:r>
              <a:rPr b="1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ko-KR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= 0,   Energy Conserv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K = ½ [ m</a:t>
            </a:r>
            <a:r>
              <a:rPr b="1" i="1" lang="ko-KR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ko-KR" sz="1400" spc="-1" strike="noStrike">
                <a:solidFill>
                  <a:srgbClr val="cc0000"/>
                </a:solidFill>
                <a:latin typeface="Times New Roman"/>
              </a:rPr>
              <a:t>I/R</a:t>
            </a:r>
            <a:r>
              <a:rPr b="1" i="1" lang="ko-KR" sz="1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+ m {(L/2 –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/5}/R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] v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ko-KR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= ½[ -k</a:t>
            </a:r>
            <a:r>
              <a:rPr b="1" i="1" lang="ko-K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(L/2 – l –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1" i="1" lang="ko-KR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{(L -2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- 2r)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– (L/2 + l –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}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U = - m</a:t>
            </a:r>
            <a:r>
              <a:rPr b="1" i="1" lang="ko-KR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ko-KR" sz="1400" spc="-1" strike="noStrike">
                <a:solidFill>
                  <a:srgbClr val="000000"/>
                </a:solidFill>
                <a:latin typeface="Times New Roman"/>
              </a:rPr>
              <a:t> g 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5661000"/>
            <a:ext cx="460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427640" y="5661000"/>
            <a:ext cx="0" cy="9367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6732720" y="5661000"/>
            <a:ext cx="14436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5661000"/>
            <a:ext cx="14436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5734080"/>
            <a:ext cx="287280" cy="287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5734080"/>
            <a:ext cx="287280" cy="287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5589720"/>
            <a:ext cx="28796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58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L/2+l-</a:t>
            </a:r>
            <a:r>
              <a:rPr b="1" i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-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2124000" y="623736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-2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2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73272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372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7672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44364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003640" y="53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43640" y="53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222640"/>
            <a:ext cx="4824360" cy="3616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33336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aration I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68360" y="2457360"/>
            <a:ext cx="4608720" cy="3457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aration I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03760" cy="3529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 of Setup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848120" cy="363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698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ART-B    </a:t>
            </a: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Times New Roman"/>
              </a:rPr>
              <a:t>m ,  l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4076640"/>
            <a:ext cx="79056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3573360"/>
            <a:ext cx="431640" cy="43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4365720"/>
            <a:ext cx="863640" cy="1681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26920" y="4508640"/>
            <a:ext cx="74883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576000"/>
            <a:ext cx="81723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  <a:ea typeface="PMingLiU"/>
              </a:rPr>
              <a:t>PART-</a:t>
            </a:r>
            <a:r>
              <a:rPr b="1" i="1" lang="ko-KR" sz="3200" spc="-1" strike="noStrike" u="sng">
                <a:solidFill>
                  <a:srgbClr val="333399"/>
                </a:solidFill>
                <a:uFillTx/>
                <a:latin typeface="Arial"/>
                <a:ea typeface="PMingLiU"/>
              </a:rPr>
              <a:t>C</a:t>
            </a:r>
            <a:r>
              <a:rPr b="0" i="1" lang="ko-KR" sz="3200" spc="-1" strike="noStrike" u="sng">
                <a:solidFill>
                  <a:srgbClr val="333399"/>
                </a:solidFill>
                <a:uFillTx/>
                <a:latin typeface="Arial"/>
                <a:ea typeface="PMingLiU"/>
              </a:rPr>
              <a:t>  </a:t>
            </a:r>
            <a:r>
              <a:rPr b="1" lang="ko-KR" sz="32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The Spring Constants </a:t>
            </a:r>
            <a:r>
              <a:rPr b="1" i="1" lang="ko-KR" sz="32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k</a:t>
            </a:r>
            <a:r>
              <a:rPr b="1" lang="ko-KR" sz="3200" spc="-1" strike="noStrike" u="sng" baseline="-30000">
                <a:solidFill>
                  <a:srgbClr val="333399"/>
                </a:solidFill>
                <a:uFillTx/>
                <a:latin typeface="Arial"/>
                <a:ea typeface="바탕"/>
              </a:rPr>
              <a:t>1</a:t>
            </a:r>
            <a:r>
              <a:rPr b="1" lang="ko-KR" sz="32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 and </a:t>
            </a:r>
            <a:r>
              <a:rPr b="1" i="1" lang="ko-KR" sz="32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k</a:t>
            </a:r>
            <a:r>
              <a:rPr b="1" lang="ko-KR" sz="3200" spc="-1" strike="noStrike" u="sng" baseline="-30000">
                <a:solidFill>
                  <a:srgbClr val="333399"/>
                </a:solidFill>
                <a:uFillTx/>
                <a:latin typeface="Arial"/>
                <a:ea typeface="바탕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340000" y="1573200"/>
          <a:ext cx="334656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3200"/>
                    <a:ext cx="33465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95280" y="4585320"/>
            <a:ext cx="80643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87480" indent="-45396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C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the perio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mall oscill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87480" indent="-45396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Explain why the angular frequencies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ko-KR" sz="1800" spc="-1" strike="noStrike" baseline="-30000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and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ko-KR" sz="1800" spc="-1" strike="noStrike" baseline="-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 are differen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87480" indent="-45396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C2   Find an equation that can be used to evaluate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l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87480" indent="-45396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C4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Fi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the value of the effective total spring constan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87480" indent="-453960"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C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Ob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the respective valu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565360"/>
            <a:ext cx="640908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omprehensive Understanding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of Physic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br>
              <a:rPr sz="2000"/>
            </a:b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imple but Challenging 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69850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dentification of Issue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esign of Experime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Experimental Skill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nalyse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Experimental Data (A, B, C) + Physic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835280" y="6165720"/>
            <a:ext cx="547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Spring Consta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653000"/>
            <a:ext cx="79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[MgL/2 + mg(L/2 + l + 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] / [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m { (L/2 + l + 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5}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5300640"/>
            <a:ext cx="79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[MgL/2 + mg(L/2 - l + 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] / [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m { (L/2 - l + </a:t>
            </a:r>
            <a:r>
              <a:rPr b="1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5}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1692360" y="6093000"/>
            <a:ext cx="567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cc0000"/>
                </a:solidFill>
                <a:latin typeface="Arial"/>
              </a:rPr>
              <a:t>Elliminate </a:t>
            </a:r>
            <a:r>
              <a:rPr b="1" i="1" lang="ko-KR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i="1" lang="ko-KR" sz="2800" spc="-1" strike="noStrike" baseline="-25000">
                <a:solidFill>
                  <a:srgbClr val="cc0000"/>
                </a:solidFill>
                <a:latin typeface="Times New Roman"/>
              </a:rPr>
              <a:t>0</a:t>
            </a:r>
            <a:r>
              <a:rPr b="1" i="1" lang="ko-KR" sz="2800" spc="-1" strike="noStrike">
                <a:solidFill>
                  <a:srgbClr val="cc0000"/>
                </a:solidFill>
                <a:latin typeface="Arial"/>
              </a:rPr>
              <a:t>  and obtain </a:t>
            </a:r>
            <a:r>
              <a:rPr b="1" i="1" lang="ko-KR" sz="28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ko-KR" sz="2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ko-KR" sz="2800" spc="-1" strike="noStrike">
                <a:solidFill>
                  <a:srgbClr val="cc0000"/>
                </a:solidFill>
                <a:latin typeface="Arial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71640" y="1268280"/>
          <a:ext cx="3961080" cy="29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268280"/>
                    <a:ext cx="3961080" cy="29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1116000" y="2708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2708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1692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411280" y="3213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1835280" y="321300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1835280" y="3573360"/>
            <a:ext cx="295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1908000" y="2781360"/>
            <a:ext cx="590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6659640" y="2349360"/>
            <a:ext cx="0" cy="4320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86200" y="3213000"/>
            <a:ext cx="1440" cy="36036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34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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03280" y="3212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267120" y="35733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Position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227664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468720" y="1844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of MB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2349360"/>
            <a:ext cx="28796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7107480" y="162864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Position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740720" y="191628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Spring Consta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195880" cy="3897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Spring Consta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&amp; Measureme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062680" cy="3797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Spring Consta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of Period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6983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ART C: m, l, k</a:t>
            </a:r>
            <a:r>
              <a:rPr b="1" i="1" lang="en-US" sz="4400" spc="-1" strike="noStrike" u="sng" baseline="-25000">
                <a:solidFill>
                  <a:srgbClr val="ccecff"/>
                </a:solidFill>
                <a:uFillTx/>
                <a:latin typeface="Arial"/>
              </a:rPr>
              <a:t>1</a:t>
            </a: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, k</a:t>
            </a:r>
            <a:r>
              <a:rPr b="1" i="1" lang="en-US" sz="4400" spc="-1" strike="noStrike" u="sng" baseline="-25000">
                <a:solidFill>
                  <a:srgbClr val="ccecff"/>
                </a:solidFill>
                <a:uFillTx/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1763640" y="4365720"/>
            <a:ext cx="79056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5148360" y="3068640"/>
            <a:ext cx="503280" cy="503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003640" y="3933720"/>
            <a:ext cx="863640" cy="168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859280" y="4508280"/>
            <a:ext cx="1295280" cy="360360"/>
            <a:chOff x="4859280" y="4508280"/>
            <a:chExt cx="1295280" cy="360360"/>
          </a:xfrm>
        </p:grpSpPr>
        <p:grpSp>
          <p:nvGrpSpPr>
            <p:cNvPr id="314" name=""/>
            <p:cNvGrpSpPr/>
            <p:nvPr/>
          </p:nvGrpSpPr>
          <p:grpSpPr>
            <a:xfrm>
              <a:off x="5895360" y="4508280"/>
              <a:ext cx="259200" cy="360360"/>
              <a:chOff x="5895360" y="4508280"/>
              <a:chExt cx="259200" cy="360360"/>
            </a:xfrm>
          </p:grpSpPr>
          <p:sp>
            <p:nvSpPr>
              <p:cNvPr id="315" name=""/>
              <p:cNvSpPr/>
              <p:nvPr/>
            </p:nvSpPr>
            <p:spPr>
              <a:xfrm rot="10800000">
                <a:off x="59986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0800000">
                <a:off x="594684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589536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740200" y="4508280"/>
              <a:ext cx="259200" cy="360360"/>
              <a:chOff x="5740200" y="4508280"/>
              <a:chExt cx="259200" cy="360360"/>
            </a:xfrm>
          </p:grpSpPr>
          <p:sp>
            <p:nvSpPr>
              <p:cNvPr id="319" name=""/>
              <p:cNvSpPr/>
              <p:nvPr/>
            </p:nvSpPr>
            <p:spPr>
              <a:xfrm rot="10800000">
                <a:off x="584352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57916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0800000">
                <a:off x="57402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584680" y="4508280"/>
              <a:ext cx="259200" cy="360360"/>
              <a:chOff x="5584680" y="4508280"/>
              <a:chExt cx="259200" cy="360360"/>
            </a:xfrm>
          </p:grpSpPr>
          <p:sp>
            <p:nvSpPr>
              <p:cNvPr id="323" name=""/>
              <p:cNvSpPr/>
              <p:nvPr/>
            </p:nvSpPr>
            <p:spPr>
              <a:xfrm rot="10800000">
                <a:off x="56880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0800000">
                <a:off x="563616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0800000">
                <a:off x="55846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429520" y="4508280"/>
              <a:ext cx="259200" cy="360360"/>
              <a:chOff x="5429520" y="4508280"/>
              <a:chExt cx="259200" cy="360360"/>
            </a:xfrm>
          </p:grpSpPr>
          <p:sp>
            <p:nvSpPr>
              <p:cNvPr id="327" name=""/>
              <p:cNvSpPr/>
              <p:nvPr/>
            </p:nvSpPr>
            <p:spPr>
              <a:xfrm rot="10800000">
                <a:off x="553284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0800000">
                <a:off x="54810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0800000">
                <a:off x="542952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325480" y="4508280"/>
              <a:ext cx="259200" cy="360360"/>
              <a:chOff x="5325480" y="4508280"/>
              <a:chExt cx="259200" cy="360360"/>
            </a:xfrm>
          </p:grpSpPr>
          <p:sp>
            <p:nvSpPr>
              <p:cNvPr id="331" name=""/>
              <p:cNvSpPr/>
              <p:nvPr/>
            </p:nvSpPr>
            <p:spPr>
              <a:xfrm rot="10800000">
                <a:off x="54288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0800000">
                <a:off x="537696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0800000">
                <a:off x="53254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169960" y="4508280"/>
              <a:ext cx="259200" cy="360360"/>
              <a:chOff x="5169960" y="4508280"/>
              <a:chExt cx="259200" cy="360360"/>
            </a:xfrm>
          </p:grpSpPr>
          <p:sp>
            <p:nvSpPr>
              <p:cNvPr id="335" name=""/>
              <p:cNvSpPr/>
              <p:nvPr/>
            </p:nvSpPr>
            <p:spPr>
              <a:xfrm rot="10800000">
                <a:off x="52732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0800000">
                <a:off x="522144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0800000">
                <a:off x="516996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014800" y="4508280"/>
              <a:ext cx="259200" cy="360360"/>
              <a:chOff x="5014800" y="4508280"/>
              <a:chExt cx="259200" cy="360360"/>
            </a:xfrm>
          </p:grpSpPr>
          <p:sp>
            <p:nvSpPr>
              <p:cNvPr id="339" name=""/>
              <p:cNvSpPr/>
              <p:nvPr/>
            </p:nvSpPr>
            <p:spPr>
              <a:xfrm rot="10800000">
                <a:off x="511812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0800000">
                <a:off x="50662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800000">
                <a:off x="50148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859280" y="4508280"/>
              <a:ext cx="259200" cy="360360"/>
              <a:chOff x="4859280" y="4508280"/>
              <a:chExt cx="259200" cy="360360"/>
            </a:xfrm>
          </p:grpSpPr>
          <p:sp>
            <p:nvSpPr>
              <p:cNvPr id="343" name=""/>
              <p:cNvSpPr/>
              <p:nvPr/>
            </p:nvSpPr>
            <p:spPr>
              <a:xfrm rot="10800000">
                <a:off x="496260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0800000">
                <a:off x="491076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0800000">
                <a:off x="4859280" y="4508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4932360" y="5229000"/>
            <a:ext cx="1008000" cy="360360"/>
            <a:chOff x="4932360" y="5229000"/>
            <a:chExt cx="1008000" cy="360360"/>
          </a:xfrm>
        </p:grpSpPr>
        <p:grpSp>
          <p:nvGrpSpPr>
            <p:cNvPr id="347" name=""/>
            <p:cNvGrpSpPr/>
            <p:nvPr/>
          </p:nvGrpSpPr>
          <p:grpSpPr>
            <a:xfrm>
              <a:off x="5738760" y="5229000"/>
              <a:ext cx="201600" cy="360360"/>
              <a:chOff x="5738760" y="5229000"/>
              <a:chExt cx="201600" cy="360360"/>
            </a:xfrm>
          </p:grpSpPr>
          <p:sp>
            <p:nvSpPr>
              <p:cNvPr id="348" name=""/>
              <p:cNvSpPr/>
              <p:nvPr/>
            </p:nvSpPr>
            <p:spPr>
              <a:xfrm rot="10800000">
                <a:off x="58190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0800000">
                <a:off x="57787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0800000">
                <a:off x="573876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618160" y="5229000"/>
              <a:ext cx="201600" cy="360360"/>
              <a:chOff x="5618160" y="5229000"/>
              <a:chExt cx="201600" cy="360360"/>
            </a:xfrm>
          </p:grpSpPr>
          <p:sp>
            <p:nvSpPr>
              <p:cNvPr id="352" name=""/>
              <p:cNvSpPr/>
              <p:nvPr/>
            </p:nvSpPr>
            <p:spPr>
              <a:xfrm rot="10800000">
                <a:off x="56984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0800000">
                <a:off x="56581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0800000">
                <a:off x="561816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497200" y="5229000"/>
              <a:ext cx="201600" cy="360360"/>
              <a:chOff x="5497200" y="5229000"/>
              <a:chExt cx="201600" cy="360360"/>
            </a:xfrm>
          </p:grpSpPr>
          <p:sp>
            <p:nvSpPr>
              <p:cNvPr id="356" name=""/>
              <p:cNvSpPr/>
              <p:nvPr/>
            </p:nvSpPr>
            <p:spPr>
              <a:xfrm rot="10800000">
                <a:off x="557748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0800000">
                <a:off x="553716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0800000">
                <a:off x="549720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76240" y="5229000"/>
              <a:ext cx="201600" cy="360360"/>
              <a:chOff x="5376240" y="5229000"/>
              <a:chExt cx="201600" cy="360360"/>
            </a:xfrm>
          </p:grpSpPr>
          <p:sp>
            <p:nvSpPr>
              <p:cNvPr id="360" name=""/>
              <p:cNvSpPr/>
              <p:nvPr/>
            </p:nvSpPr>
            <p:spPr>
              <a:xfrm rot="10800000">
                <a:off x="54565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0800000">
                <a:off x="541620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0800000">
                <a:off x="53762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295240" y="5229000"/>
              <a:ext cx="201600" cy="360360"/>
              <a:chOff x="5295240" y="5229000"/>
              <a:chExt cx="201600" cy="360360"/>
            </a:xfrm>
          </p:grpSpPr>
          <p:sp>
            <p:nvSpPr>
              <p:cNvPr id="364" name=""/>
              <p:cNvSpPr/>
              <p:nvPr/>
            </p:nvSpPr>
            <p:spPr>
              <a:xfrm rot="10800000">
                <a:off x="53755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0800000">
                <a:off x="533520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0800000">
                <a:off x="52952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174280" y="5229000"/>
              <a:ext cx="201600" cy="360360"/>
              <a:chOff x="5174280" y="5229000"/>
              <a:chExt cx="201600" cy="360360"/>
            </a:xfrm>
          </p:grpSpPr>
          <p:sp>
            <p:nvSpPr>
              <p:cNvPr id="368" name=""/>
              <p:cNvSpPr/>
              <p:nvPr/>
            </p:nvSpPr>
            <p:spPr>
              <a:xfrm rot="10800000">
                <a:off x="525456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52142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0800000">
                <a:off x="517428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053320" y="5229000"/>
              <a:ext cx="201600" cy="360360"/>
              <a:chOff x="5053320" y="5229000"/>
              <a:chExt cx="201600" cy="360360"/>
            </a:xfrm>
          </p:grpSpPr>
          <p:sp>
            <p:nvSpPr>
              <p:cNvPr id="372" name=""/>
              <p:cNvSpPr/>
              <p:nvPr/>
            </p:nvSpPr>
            <p:spPr>
              <a:xfrm rot="10800000">
                <a:off x="513360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0800000">
                <a:off x="509328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0800000">
                <a:off x="50533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932360" y="5229000"/>
              <a:ext cx="201600" cy="360360"/>
              <a:chOff x="4932360" y="5229000"/>
              <a:chExt cx="201600" cy="360360"/>
            </a:xfrm>
          </p:grpSpPr>
          <p:sp>
            <p:nvSpPr>
              <p:cNvPr id="376" name=""/>
              <p:cNvSpPr/>
              <p:nvPr/>
            </p:nvSpPr>
            <p:spPr>
              <a:xfrm rot="10800000">
                <a:off x="501264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0800000">
                <a:off x="497232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0800000">
                <a:off x="4932360" y="5229000"/>
                <a:ext cx="1213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ipho_emblem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3024360" cy="1827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31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2340000" y="3789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ecff"/>
                </a:solidFill>
                <a:latin typeface="Arial"/>
              </a:rPr>
              <a:t>Thanks !!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2920" y="24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268360" y="2692440"/>
            <a:ext cx="4559400" cy="3419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echanical Black Box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-through MBB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07040" cy="3905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5280" y="47628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echanical Black Box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68360" y="54936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echanical Black Box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ll Oscill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698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lack Box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3068640"/>
            <a:ext cx="2089080" cy="1871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2781360"/>
            <a:ext cx="2520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350028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32000" y="3141720"/>
            <a:ext cx="1295640" cy="431640"/>
            <a:chOff x="3132000" y="3141720"/>
            <a:chExt cx="1295640" cy="431640"/>
          </a:xfrm>
        </p:grpSpPr>
        <p:grpSp>
          <p:nvGrpSpPr>
            <p:cNvPr id="55" name=""/>
            <p:cNvGrpSpPr/>
            <p:nvPr/>
          </p:nvGrpSpPr>
          <p:grpSpPr>
            <a:xfrm>
              <a:off x="3132000" y="3141720"/>
              <a:ext cx="259200" cy="431640"/>
              <a:chOff x="3132000" y="3141720"/>
              <a:chExt cx="259200" cy="431640"/>
            </a:xfrm>
          </p:grpSpPr>
          <p:sp>
            <p:nvSpPr>
              <p:cNvPr id="56" name=""/>
              <p:cNvSpPr/>
              <p:nvPr/>
            </p:nvSpPr>
            <p:spPr>
              <a:xfrm>
                <a:off x="313200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838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3532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287160" y="3141720"/>
              <a:ext cx="259200" cy="431640"/>
              <a:chOff x="3287160" y="3141720"/>
              <a:chExt cx="259200" cy="43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8716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33900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9048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442680" y="3141720"/>
              <a:ext cx="259200" cy="431640"/>
              <a:chOff x="3442680" y="3141720"/>
              <a:chExt cx="259200" cy="431640"/>
            </a:xfrm>
          </p:grpSpPr>
          <p:sp>
            <p:nvSpPr>
              <p:cNvPr id="64" name=""/>
              <p:cNvSpPr/>
              <p:nvPr/>
            </p:nvSpPr>
            <p:spPr>
              <a:xfrm>
                <a:off x="344268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9452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4600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598200" y="3141720"/>
              <a:ext cx="259200" cy="431640"/>
              <a:chOff x="3598200" y="3141720"/>
              <a:chExt cx="259200" cy="431640"/>
            </a:xfrm>
          </p:grpSpPr>
          <p:sp>
            <p:nvSpPr>
              <p:cNvPr id="68" name=""/>
              <p:cNvSpPr/>
              <p:nvPr/>
            </p:nvSpPr>
            <p:spPr>
              <a:xfrm>
                <a:off x="359820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500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0152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702240" y="3141720"/>
              <a:ext cx="259200" cy="431640"/>
              <a:chOff x="3702240" y="3141720"/>
              <a:chExt cx="259200" cy="431640"/>
            </a:xfrm>
          </p:grpSpPr>
          <p:sp>
            <p:nvSpPr>
              <p:cNvPr id="72" name=""/>
              <p:cNvSpPr/>
              <p:nvPr/>
            </p:nvSpPr>
            <p:spPr>
              <a:xfrm>
                <a:off x="37022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5408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556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57400" y="3141720"/>
              <a:ext cx="259200" cy="431640"/>
              <a:chOff x="3857400" y="3141720"/>
              <a:chExt cx="259200" cy="431640"/>
            </a:xfrm>
          </p:grpSpPr>
          <p:sp>
            <p:nvSpPr>
              <p:cNvPr id="76" name=""/>
              <p:cNvSpPr/>
              <p:nvPr/>
            </p:nvSpPr>
            <p:spPr>
              <a:xfrm>
                <a:off x="385740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092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6072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012920" y="3141720"/>
              <a:ext cx="259200" cy="431640"/>
              <a:chOff x="4012920" y="3141720"/>
              <a:chExt cx="259200" cy="431640"/>
            </a:xfrm>
          </p:grpSpPr>
          <p:sp>
            <p:nvSpPr>
              <p:cNvPr id="80" name=""/>
              <p:cNvSpPr/>
              <p:nvPr/>
            </p:nvSpPr>
            <p:spPr>
              <a:xfrm>
                <a:off x="401292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6476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162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168440" y="3141720"/>
              <a:ext cx="259200" cy="431640"/>
              <a:chOff x="4168440" y="3141720"/>
              <a:chExt cx="259200" cy="4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416844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2028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71760" y="3141720"/>
                <a:ext cx="15588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3282120" y="3261960"/>
            <a:ext cx="780120" cy="1340640"/>
            <a:chOff x="3282120" y="3261960"/>
            <a:chExt cx="780120" cy="1340640"/>
          </a:xfrm>
        </p:grpSpPr>
        <p:grpSp>
          <p:nvGrpSpPr>
            <p:cNvPr id="88" name=""/>
            <p:cNvGrpSpPr/>
            <p:nvPr/>
          </p:nvGrpSpPr>
          <p:grpSpPr>
            <a:xfrm>
              <a:off x="3634920" y="3261960"/>
              <a:ext cx="427320" cy="366480"/>
              <a:chOff x="3634920" y="3261960"/>
              <a:chExt cx="427320" cy="366480"/>
            </a:xfrm>
          </p:grpSpPr>
          <p:sp>
            <p:nvSpPr>
              <p:cNvPr id="89" name=""/>
              <p:cNvSpPr/>
              <p:nvPr/>
            </p:nvSpPr>
            <p:spPr>
              <a:xfrm rot="6594600">
                <a:off x="3788280" y="32162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6594600">
                <a:off x="3770640" y="32648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6594600">
                <a:off x="3753000" y="33134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582000" y="3407760"/>
              <a:ext cx="427320" cy="366480"/>
              <a:chOff x="3582000" y="3407760"/>
              <a:chExt cx="427320" cy="366480"/>
            </a:xfrm>
          </p:grpSpPr>
          <p:sp>
            <p:nvSpPr>
              <p:cNvPr id="93" name=""/>
              <p:cNvSpPr/>
              <p:nvPr/>
            </p:nvSpPr>
            <p:spPr>
              <a:xfrm rot="6594600">
                <a:off x="3735360" y="33620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6594600">
                <a:off x="3717720" y="34106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6594600">
                <a:off x="3700080" y="34592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529080" y="3553920"/>
              <a:ext cx="427320" cy="366480"/>
              <a:chOff x="3529080" y="3553920"/>
              <a:chExt cx="427320" cy="366480"/>
            </a:xfrm>
          </p:grpSpPr>
          <p:sp>
            <p:nvSpPr>
              <p:cNvPr id="97" name=""/>
              <p:cNvSpPr/>
              <p:nvPr/>
            </p:nvSpPr>
            <p:spPr>
              <a:xfrm rot="6594600">
                <a:off x="3682440" y="35082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594600">
                <a:off x="3664800" y="35571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594600">
                <a:off x="3647160" y="36054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476160" y="3699720"/>
              <a:ext cx="427320" cy="366480"/>
              <a:chOff x="3476160" y="3699720"/>
              <a:chExt cx="427320" cy="366480"/>
            </a:xfrm>
          </p:grpSpPr>
          <p:sp>
            <p:nvSpPr>
              <p:cNvPr id="101" name=""/>
              <p:cNvSpPr/>
              <p:nvPr/>
            </p:nvSpPr>
            <p:spPr>
              <a:xfrm rot="6594600">
                <a:off x="3629520" y="36540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594600">
                <a:off x="3611880" y="37029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594600">
                <a:off x="3594240" y="37512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440880" y="3797640"/>
              <a:ext cx="427320" cy="366480"/>
              <a:chOff x="3440880" y="3797640"/>
              <a:chExt cx="427320" cy="366480"/>
            </a:xfrm>
          </p:grpSpPr>
          <p:sp>
            <p:nvSpPr>
              <p:cNvPr id="105" name=""/>
              <p:cNvSpPr/>
              <p:nvPr/>
            </p:nvSpPr>
            <p:spPr>
              <a:xfrm rot="6594600">
                <a:off x="3594240" y="37519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594600">
                <a:off x="3576600" y="38008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594600">
                <a:off x="3558960" y="38491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387960" y="3943800"/>
              <a:ext cx="427320" cy="366480"/>
              <a:chOff x="3387960" y="3943800"/>
              <a:chExt cx="427320" cy="366480"/>
            </a:xfrm>
          </p:grpSpPr>
          <p:sp>
            <p:nvSpPr>
              <p:cNvPr id="109" name=""/>
              <p:cNvSpPr/>
              <p:nvPr/>
            </p:nvSpPr>
            <p:spPr>
              <a:xfrm rot="6594600">
                <a:off x="3541320" y="38980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6594600">
                <a:off x="3523680" y="39470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6594600">
                <a:off x="3506040" y="3995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335040" y="4089960"/>
              <a:ext cx="427320" cy="366120"/>
              <a:chOff x="3335040" y="4089960"/>
              <a:chExt cx="427320" cy="366120"/>
            </a:xfrm>
          </p:grpSpPr>
          <p:sp>
            <p:nvSpPr>
              <p:cNvPr id="113" name=""/>
              <p:cNvSpPr/>
              <p:nvPr/>
            </p:nvSpPr>
            <p:spPr>
              <a:xfrm rot="6594600">
                <a:off x="3488400" y="40442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594600">
                <a:off x="3470760" y="40928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594600">
                <a:off x="3453120" y="41410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282120" y="4236120"/>
              <a:ext cx="427320" cy="366480"/>
              <a:chOff x="3282120" y="4236120"/>
              <a:chExt cx="427320" cy="366480"/>
            </a:xfrm>
          </p:grpSpPr>
          <p:sp>
            <p:nvSpPr>
              <p:cNvPr id="117" name=""/>
              <p:cNvSpPr/>
              <p:nvPr/>
            </p:nvSpPr>
            <p:spPr>
              <a:xfrm rot="6594600">
                <a:off x="3435480" y="41904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594600">
                <a:off x="3417840" y="42390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594600">
                <a:off x="3400200" y="42876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4211640" y="2781360"/>
            <a:ext cx="43164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304080" y="3084120"/>
            <a:ext cx="853200" cy="1185840"/>
            <a:chOff x="3304080" y="3084120"/>
            <a:chExt cx="853200" cy="1185840"/>
          </a:xfrm>
        </p:grpSpPr>
        <p:grpSp>
          <p:nvGrpSpPr>
            <p:cNvPr id="122" name=""/>
            <p:cNvGrpSpPr/>
            <p:nvPr/>
          </p:nvGrpSpPr>
          <p:grpSpPr>
            <a:xfrm>
              <a:off x="3304080" y="3084120"/>
              <a:ext cx="654840" cy="352440"/>
              <a:chOff x="3304080" y="3084120"/>
              <a:chExt cx="654840" cy="352440"/>
            </a:xfrm>
          </p:grpSpPr>
          <p:sp>
            <p:nvSpPr>
              <p:cNvPr id="123" name=""/>
              <p:cNvSpPr/>
              <p:nvPr/>
            </p:nvSpPr>
            <p:spPr>
              <a:xfrm rot="4596600">
                <a:off x="3556800" y="290772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4596600">
                <a:off x="3566520" y="29494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596600">
                <a:off x="3576600" y="29908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333600" y="3209040"/>
              <a:ext cx="654840" cy="352080"/>
              <a:chOff x="3333600" y="3209040"/>
              <a:chExt cx="654840" cy="352080"/>
            </a:xfrm>
          </p:grpSpPr>
          <p:sp>
            <p:nvSpPr>
              <p:cNvPr id="127" name=""/>
              <p:cNvSpPr/>
              <p:nvPr/>
            </p:nvSpPr>
            <p:spPr>
              <a:xfrm rot="4596600">
                <a:off x="3586320" y="30326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596600">
                <a:off x="3596400" y="30740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596600">
                <a:off x="3606120" y="31154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363480" y="3334320"/>
              <a:ext cx="654840" cy="352440"/>
              <a:chOff x="3363480" y="3334320"/>
              <a:chExt cx="654840" cy="352440"/>
            </a:xfrm>
          </p:grpSpPr>
          <p:sp>
            <p:nvSpPr>
              <p:cNvPr id="131" name=""/>
              <p:cNvSpPr/>
              <p:nvPr/>
            </p:nvSpPr>
            <p:spPr>
              <a:xfrm rot="4596600">
                <a:off x="3616200" y="315792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596600">
                <a:off x="3626280" y="31996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596600">
                <a:off x="3636000" y="32410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393360" y="3458880"/>
              <a:ext cx="654840" cy="352440"/>
              <a:chOff x="3393360" y="3458880"/>
              <a:chExt cx="654840" cy="352440"/>
            </a:xfrm>
          </p:grpSpPr>
          <p:sp>
            <p:nvSpPr>
              <p:cNvPr id="135" name=""/>
              <p:cNvSpPr/>
              <p:nvPr/>
            </p:nvSpPr>
            <p:spPr>
              <a:xfrm rot="4596600">
                <a:off x="3646080" y="32824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596600">
                <a:off x="3655800" y="33242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4596600">
                <a:off x="3665880" y="33656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413160" y="3542760"/>
              <a:ext cx="654840" cy="352080"/>
              <a:chOff x="3413160" y="3542760"/>
              <a:chExt cx="654840" cy="352080"/>
            </a:xfrm>
          </p:grpSpPr>
          <p:sp>
            <p:nvSpPr>
              <p:cNvPr id="139" name=""/>
              <p:cNvSpPr/>
              <p:nvPr/>
            </p:nvSpPr>
            <p:spPr>
              <a:xfrm rot="4596600">
                <a:off x="3665880" y="336636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4596600">
                <a:off x="3675960" y="340812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4596600">
                <a:off x="3685680" y="344916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443040" y="3667680"/>
              <a:ext cx="654840" cy="352440"/>
              <a:chOff x="3443040" y="3667680"/>
              <a:chExt cx="654840" cy="352440"/>
            </a:xfrm>
          </p:grpSpPr>
          <p:sp>
            <p:nvSpPr>
              <p:cNvPr id="143" name=""/>
              <p:cNvSpPr/>
              <p:nvPr/>
            </p:nvSpPr>
            <p:spPr>
              <a:xfrm rot="4596600">
                <a:off x="3695760" y="34912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4596600">
                <a:off x="3705480" y="35330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4596600">
                <a:off x="3715560" y="357444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472560" y="3792600"/>
              <a:ext cx="654840" cy="352440"/>
              <a:chOff x="3472560" y="3792600"/>
              <a:chExt cx="654840" cy="352440"/>
            </a:xfrm>
          </p:grpSpPr>
          <p:sp>
            <p:nvSpPr>
              <p:cNvPr id="147" name=""/>
              <p:cNvSpPr/>
              <p:nvPr/>
            </p:nvSpPr>
            <p:spPr>
              <a:xfrm rot="4596600">
                <a:off x="3725280" y="361620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4596600">
                <a:off x="3735360" y="365796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596600">
                <a:off x="3745080" y="369936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502440" y="3917880"/>
              <a:ext cx="654840" cy="352080"/>
              <a:chOff x="3502440" y="3917880"/>
              <a:chExt cx="654840" cy="352080"/>
            </a:xfrm>
          </p:grpSpPr>
          <p:sp>
            <p:nvSpPr>
              <p:cNvPr id="151" name=""/>
              <p:cNvSpPr/>
              <p:nvPr/>
            </p:nvSpPr>
            <p:spPr>
              <a:xfrm rot="4596600">
                <a:off x="3755160" y="37414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4596600">
                <a:off x="3765240" y="37828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4596600">
                <a:off x="3774960" y="3824280"/>
                <a:ext cx="128880" cy="62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33336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ART-B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he Mass of the B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y with fri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1844640"/>
            <a:ext cx="7704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[Slow Rotation Regime]     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ko-KR" sz="18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 +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W= 0,    Energy Conserv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K = ½ [ m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I/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ko-KR" sz="18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ko-KR" sz="1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/5)/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] v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 = - m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g h,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W = f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213000"/>
            <a:ext cx="770436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[Fast Rotation Regime]     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h = A</a:t>
            </a:r>
            <a:r>
              <a:rPr b="1" i="1" lang="ko-KR" sz="1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i="1" lang="ko-KR" sz="1800" spc="-1" strike="noStrike" baseline="30000">
                <a:solidFill>
                  <a:srgbClr val="000066"/>
                </a:solidFill>
                <a:latin typeface="Times New Roman"/>
              </a:rPr>
              <a:t>2  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+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 +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= 0,   Energy Conserv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K = ½ [ m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I/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ko-KR" sz="18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{(L/2 –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2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/5}/R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] v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= ½[ -k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(L/2 – </a:t>
            </a:r>
            <a:r>
              <a:rPr b="1" i="1" lang="ko-KR" sz="1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{(L -2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- 2r)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– (L/2 + </a:t>
            </a:r>
            <a:r>
              <a:rPr b="1" i="1" lang="ko-KR" sz="1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- r)</a:t>
            </a:r>
            <a:r>
              <a:rPr b="1" i="1" lang="ko-K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}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U = - m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g h ,   </a:t>
            </a:r>
            <a:r>
              <a:rPr b="1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W = f</a:t>
            </a:r>
            <a:r>
              <a:rPr b="1" i="1" lang="ko-KR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5661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rictional energy loss is  8-10% of the gravitational energy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698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- D Black Box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005360"/>
            <a:ext cx="79056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371628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102560" y="2907360"/>
            <a:ext cx="1155960" cy="1185840"/>
            <a:chOff x="4102560" y="2907360"/>
            <a:chExt cx="1155960" cy="1185840"/>
          </a:xfrm>
        </p:grpSpPr>
        <p:grpSp>
          <p:nvGrpSpPr>
            <p:cNvPr id="158" name=""/>
            <p:cNvGrpSpPr/>
            <p:nvPr/>
          </p:nvGrpSpPr>
          <p:grpSpPr>
            <a:xfrm>
              <a:off x="4818600" y="2907360"/>
              <a:ext cx="439920" cy="436680"/>
              <a:chOff x="4818600" y="2907360"/>
              <a:chExt cx="439920" cy="436680"/>
            </a:xfrm>
          </p:grpSpPr>
          <p:sp>
            <p:nvSpPr>
              <p:cNvPr id="159" name=""/>
              <p:cNvSpPr/>
              <p:nvPr/>
            </p:nvSpPr>
            <p:spPr>
              <a:xfrm rot="8022600">
                <a:off x="4996440" y="29080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8022600">
                <a:off x="4960440" y="29455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8022600">
                <a:off x="4924800" y="29829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711320" y="3019680"/>
              <a:ext cx="439920" cy="436320"/>
              <a:chOff x="4711320" y="3019680"/>
              <a:chExt cx="439920" cy="436320"/>
            </a:xfrm>
          </p:grpSpPr>
          <p:sp>
            <p:nvSpPr>
              <p:cNvPr id="163" name=""/>
              <p:cNvSpPr/>
              <p:nvPr/>
            </p:nvSpPr>
            <p:spPr>
              <a:xfrm rot="8022600">
                <a:off x="4889160" y="30204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8022600">
                <a:off x="4853160" y="30578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8022600">
                <a:off x="4817520" y="30949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604040" y="3132000"/>
              <a:ext cx="439560" cy="436320"/>
              <a:chOff x="4604040" y="3132000"/>
              <a:chExt cx="439560" cy="436320"/>
            </a:xfrm>
          </p:grpSpPr>
          <p:sp>
            <p:nvSpPr>
              <p:cNvPr id="167" name=""/>
              <p:cNvSpPr/>
              <p:nvPr/>
            </p:nvSpPr>
            <p:spPr>
              <a:xfrm rot="8022600">
                <a:off x="4781520" y="31327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8022600">
                <a:off x="4745880" y="31701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8022600">
                <a:off x="4710240" y="32072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496400" y="3244320"/>
              <a:ext cx="439920" cy="436680"/>
              <a:chOff x="4496400" y="3244320"/>
              <a:chExt cx="439920" cy="436680"/>
            </a:xfrm>
          </p:grpSpPr>
          <p:sp>
            <p:nvSpPr>
              <p:cNvPr id="171" name=""/>
              <p:cNvSpPr/>
              <p:nvPr/>
            </p:nvSpPr>
            <p:spPr>
              <a:xfrm rot="8022600">
                <a:off x="4674240" y="32450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8022600">
                <a:off x="4638240" y="32824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8022600">
                <a:off x="4602600" y="33199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424760" y="3319560"/>
              <a:ext cx="439560" cy="436680"/>
              <a:chOff x="4424760" y="3319560"/>
              <a:chExt cx="439560" cy="436680"/>
            </a:xfrm>
          </p:grpSpPr>
          <p:sp>
            <p:nvSpPr>
              <p:cNvPr id="175" name=""/>
              <p:cNvSpPr/>
              <p:nvPr/>
            </p:nvSpPr>
            <p:spPr>
              <a:xfrm rot="8022600">
                <a:off x="4602240" y="33202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022600">
                <a:off x="4566240" y="33577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022600">
                <a:off x="4530960" y="33951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17480" y="3431880"/>
              <a:ext cx="439560" cy="436320"/>
              <a:chOff x="4317480" y="3431880"/>
              <a:chExt cx="439560" cy="436320"/>
            </a:xfrm>
          </p:grpSpPr>
          <p:sp>
            <p:nvSpPr>
              <p:cNvPr id="179" name=""/>
              <p:cNvSpPr/>
              <p:nvPr/>
            </p:nvSpPr>
            <p:spPr>
              <a:xfrm rot="8022600">
                <a:off x="4494960" y="343260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8022600">
                <a:off x="4459320" y="34700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8022600">
                <a:off x="4423680" y="35071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09840" y="3544200"/>
              <a:ext cx="439920" cy="436320"/>
              <a:chOff x="4209840" y="3544200"/>
              <a:chExt cx="439920" cy="436320"/>
            </a:xfrm>
          </p:grpSpPr>
          <p:sp>
            <p:nvSpPr>
              <p:cNvPr id="183" name=""/>
              <p:cNvSpPr/>
              <p:nvPr/>
            </p:nvSpPr>
            <p:spPr>
              <a:xfrm rot="8022600">
                <a:off x="4387680" y="35449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8022600">
                <a:off x="4351680" y="358236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8022600">
                <a:off x="4316040" y="36194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102560" y="3656520"/>
              <a:ext cx="439560" cy="436680"/>
              <a:chOff x="4102560" y="3656520"/>
              <a:chExt cx="439560" cy="436680"/>
            </a:xfrm>
          </p:grpSpPr>
          <p:sp>
            <p:nvSpPr>
              <p:cNvPr id="187" name=""/>
              <p:cNvSpPr/>
              <p:nvPr/>
            </p:nvSpPr>
            <p:spPr>
              <a:xfrm rot="8022600">
                <a:off x="4280040" y="365724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8022600">
                <a:off x="4244400" y="369468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8022600">
                <a:off x="4208760" y="3732120"/>
                <a:ext cx="15588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rot="19058400">
            <a:off x="3780000" y="3789000"/>
            <a:ext cx="936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5084640"/>
            <a:ext cx="3168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 unknow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35280" y="3284640"/>
            <a:ext cx="5184720" cy="1942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68000" y="2923920"/>
            <a:ext cx="47516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Consta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of the bal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adius of the bal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260280"/>
            <a:ext cx="822960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What’s inside ?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627280" y="1413000"/>
          <a:ext cx="3819600" cy="17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413000"/>
                    <a:ext cx="3819600" cy="17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00000" y="5661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experiments based on physical understanding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55736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413000"/>
            <a:ext cx="4175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2565360"/>
            <a:ext cx="4174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43280" y="1989000"/>
            <a:ext cx="4248360" cy="23749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-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tation of Rigid Bo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xperimental equation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ontaining m and 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all Pictur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1844640"/>
            <a:ext cx="345600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-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enter of Mass Measureme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005360"/>
            <a:ext cx="3024000" cy="25207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-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rmonic Oscil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pring Consta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1125360"/>
            <a:ext cx="2808360" cy="936720"/>
          </a:xfrm>
          <a:prstGeom prst="wedgeRoundRectCallout">
            <a:avLst>
              <a:gd name="adj1" fmla="val -2796"/>
              <a:gd name="adj2" fmla="val 165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one has to combine results from Part A and Part 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5373720"/>
            <a:ext cx="2520720" cy="936720"/>
          </a:xfrm>
          <a:prstGeom prst="wedgeRoundRectCallout">
            <a:avLst>
              <a:gd name="adj1" fmla="val -91875"/>
              <a:gd name="adj2" fmla="val -177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one needs results from Part A and Part 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500280"/>
            <a:ext cx="1871640" cy="122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hysical Concept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ton's laws, conservation of energ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stic forces, frictional forc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s of Rigid Bod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 of rigid bodies, rotation, angular veloc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ment of inertia, kinetic energy of a rotating body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cillations and wav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harmonic oscilla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requirements for practical proble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laboratory instrument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of error sources and their influ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tion of a dependence to the linear for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941720"/>
            <a:ext cx="7704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5692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PART-</a:t>
            </a:r>
            <a:r>
              <a:rPr b="1" i="1" lang="ko-KR" sz="24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A</a:t>
            </a:r>
            <a:r>
              <a:rPr b="0" i="1" lang="ko-KR" sz="24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     </a:t>
            </a:r>
            <a:r>
              <a:rPr b="1" i="1" lang="ko-K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 </a:t>
            </a:r>
            <a:r>
              <a:rPr b="1" lang="ko-KR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1" lang="ko-K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ko-KR" sz="2800" spc="-1" strike="noStrike" u="sng">
                <a:solidFill>
                  <a:srgbClr val="000000"/>
                </a:solidFill>
                <a:uFillTx/>
                <a:latin typeface="Times New Roman"/>
              </a:rPr>
              <a:t>l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Arial"/>
                <a:ea typeface="바탕"/>
              </a:rPr>
              <a:t>Product of Mass and Position of Bal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124000" y="2205000"/>
          <a:ext cx="432108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05000"/>
                    <a:ext cx="432108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55640" y="49572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1.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Suggest and justify a method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allowing to obta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roduc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7560"/>
                <a:tab algn="l" pos="4818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華康楷書體W5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PMingLiU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xperimentally determine the valu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3336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-A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 Product of Mass and Position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er of Mass Measureme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268360" y="5734080"/>
            <a:ext cx="4032360" cy="78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m l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(M +m)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n-US" sz="4000" spc="-1" strike="noStrike" baseline="-25000">
                <a:solidFill>
                  <a:srgbClr val="333399"/>
                </a:solidFill>
                <a:latin typeface="Times New Roman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859280" y="2598840"/>
          <a:ext cx="3748320" cy="17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98840"/>
                    <a:ext cx="3748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940360" y="4941720"/>
            <a:ext cx="1224000" cy="360360"/>
          </a:xfrm>
          <a:prstGeom prst="wedgeRoundRectCallout">
            <a:avLst>
              <a:gd name="adj1" fmla="val -141828"/>
              <a:gd name="adj2" fmla="val 174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5734080"/>
            <a:ext cx="1295280" cy="431640"/>
          </a:xfrm>
          <a:prstGeom prst="wedgeRectCallout">
            <a:avLst>
              <a:gd name="adj1" fmla="val 115194"/>
              <a:gd name="adj2" fmla="val 36398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2205000"/>
            <a:ext cx="0" cy="1440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1:25:44Z</dcterms:created>
  <dc:creator>SEC</dc:creator>
  <dc:description/>
  <dc:language>en-US</dc:language>
  <cp:lastModifiedBy>유인석</cp:lastModifiedBy>
  <dcterms:modified xsi:type="dcterms:W3CDTF">2004-07-27T04:05:38Z</dcterms:modified>
  <cp:revision>34</cp:revision>
  <dc:subject/>
  <dc:title>슬라이드 1</dc:title>
</cp:coreProperties>
</file>