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009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6100920"/>
            <a:ext cx="4358520" cy="735120"/>
            <a:chOff x="0" y="6100920"/>
            <a:chExt cx="4358520" cy="73512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6100920"/>
              <a:ext cx="11872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259280" y="6377040"/>
              <a:ext cx="309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ff"/>
                  </a:solidFill>
                  <a:latin typeface="Arial"/>
                </a:rPr>
                <a:t>35th International Physics Olympia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Theoretical Competition, Saturday, 17 July 200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pho_emblem" descr=""/>
          <p:cNvPicPr/>
          <p:nvPr/>
        </p:nvPicPr>
        <p:blipFill>
          <a:blip r:embed="rId1"/>
          <a:stretch/>
        </p:blipFill>
        <p:spPr>
          <a:xfrm>
            <a:off x="3132000" y="927000"/>
            <a:ext cx="2808360" cy="17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9040" y="2769480"/>
            <a:ext cx="4704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바탕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 International Physics Olympi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Pohang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15 ~ 23 Jul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860640"/>
            <a:ext cx="7655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2600" y="5359680"/>
            <a:ext cx="337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tical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day, 17 Jul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04640"/>
            <a:ext cx="8569080" cy="612000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2080" y="426708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Vernada"/>
              </a:rPr>
              <a:t>Theoretical 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1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Ping-Pong Resistor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47184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00560" y="4071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79640" y="2565360"/>
            <a:ext cx="4675320" cy="2347200"/>
            <a:chOff x="1979640" y="2565360"/>
            <a:chExt cx="4675320" cy="2347200"/>
          </a:xfrm>
        </p:grpSpPr>
        <p:sp>
          <p:nvSpPr>
            <p:cNvPr id="57" name=""/>
            <p:cNvSpPr/>
            <p:nvPr/>
          </p:nvSpPr>
          <p:spPr>
            <a:xfrm>
              <a:off x="1979640" y="3650040"/>
              <a:ext cx="293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7440" y="3375000"/>
              <a:ext cx="40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78680" y="3801600"/>
              <a:ext cx="2610000" cy="45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8680" y="3390120"/>
              <a:ext cx="2610000" cy="45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883680" y="2565360"/>
              <a:ext cx="0" cy="10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3680" y="2565360"/>
              <a:ext cx="22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51320" y="2565360"/>
              <a:ext cx="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1320" y="380160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906720" y="4259520"/>
              <a:ext cx="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906720" y="3984480"/>
              <a:ext cx="0" cy="2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7360" y="371016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58800" y="3801600"/>
              <a:ext cx="18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2960" y="3961800"/>
              <a:ext cx="4572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61000" y="361872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2920" y="361872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12920" y="40305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350080" y="3618360"/>
              <a:ext cx="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82960" y="3618720"/>
              <a:ext cx="12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03800" y="3310200"/>
              <a:ext cx="320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699720" y="4821840"/>
              <a:ext cx="412560" cy="90720"/>
              <a:chOff x="3699720" y="4821840"/>
              <a:chExt cx="412560" cy="90720"/>
            </a:xfrm>
          </p:grpSpPr>
          <p:sp>
            <p:nvSpPr>
              <p:cNvPr id="77" name=""/>
              <p:cNvSpPr/>
              <p:nvPr/>
            </p:nvSpPr>
            <p:spPr>
              <a:xfrm>
                <a:off x="3699720" y="4821840"/>
                <a:ext cx="4125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68480" y="4860360"/>
                <a:ext cx="2750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34000" y="4912200"/>
                <a:ext cx="144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943240" y="4821840"/>
              <a:ext cx="411480" cy="90720"/>
              <a:chOff x="5943240" y="4821840"/>
              <a:chExt cx="411480" cy="90720"/>
            </a:xfrm>
          </p:grpSpPr>
          <p:sp>
            <p:nvSpPr>
              <p:cNvPr id="81" name=""/>
              <p:cNvSpPr/>
              <p:nvPr/>
            </p:nvSpPr>
            <p:spPr>
              <a:xfrm>
                <a:off x="5943240" y="4821840"/>
                <a:ext cx="411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11640" y="4860360"/>
                <a:ext cx="2743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77160" y="4912200"/>
                <a:ext cx="144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530280" y="148428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nada"/>
              </a:rPr>
              <a:t>  To find current through the capacitor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1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Ping-Pong Resistor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1989000"/>
            <a:ext cx="4674960" cy="2347200"/>
            <a:chOff x="324000" y="1989000"/>
            <a:chExt cx="4674960" cy="2347200"/>
          </a:xfrm>
        </p:grpSpPr>
        <p:sp>
          <p:nvSpPr>
            <p:cNvPr id="87" name=""/>
            <p:cNvSpPr/>
            <p:nvPr/>
          </p:nvSpPr>
          <p:spPr>
            <a:xfrm>
              <a:off x="324000" y="3073680"/>
              <a:ext cx="293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91440" y="2798640"/>
              <a:ext cx="40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3040" y="3225240"/>
              <a:ext cx="2610000" cy="45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3040" y="2813760"/>
              <a:ext cx="2610000" cy="45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28040" y="1989000"/>
              <a:ext cx="0" cy="10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28040" y="1989000"/>
              <a:ext cx="22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320" y="1989000"/>
              <a:ext cx="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5320" y="322524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250720" y="3683160"/>
              <a:ext cx="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250720" y="3408120"/>
              <a:ext cx="0" cy="27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11360" y="31338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02800" y="3225240"/>
              <a:ext cx="18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26960" y="3385440"/>
              <a:ext cx="4572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05360" y="304236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7280" y="30423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80" y="34542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94440" y="3042000"/>
              <a:ext cx="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6960" y="3042360"/>
              <a:ext cx="12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48160" y="2733840"/>
              <a:ext cx="320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880" rIns="38880" tIns="19440" bIns="19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044080" y="4245480"/>
              <a:ext cx="412560" cy="90720"/>
              <a:chOff x="2044080" y="4245480"/>
              <a:chExt cx="412560" cy="90720"/>
            </a:xfrm>
          </p:grpSpPr>
          <p:sp>
            <p:nvSpPr>
              <p:cNvPr id="107" name=""/>
              <p:cNvSpPr/>
              <p:nvPr/>
            </p:nvSpPr>
            <p:spPr>
              <a:xfrm>
                <a:off x="2044080" y="4245480"/>
                <a:ext cx="4125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2840" y="4284000"/>
                <a:ext cx="2750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78360" y="4335840"/>
                <a:ext cx="144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287240" y="4245480"/>
              <a:ext cx="411480" cy="90720"/>
              <a:chOff x="4287240" y="4245480"/>
              <a:chExt cx="411480" cy="90720"/>
            </a:xfrm>
          </p:grpSpPr>
          <p:sp>
            <p:nvSpPr>
              <p:cNvPr id="111" name=""/>
              <p:cNvSpPr/>
              <p:nvPr/>
            </p:nvSpPr>
            <p:spPr>
              <a:xfrm>
                <a:off x="4287240" y="4245480"/>
                <a:ext cx="411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55640" y="4284000"/>
                <a:ext cx="2743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21160" y="4335840"/>
                <a:ext cx="144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4788000" y="3860640"/>
            <a:ext cx="3197880" cy="2101680"/>
            <a:chOff x="4788000" y="3860640"/>
            <a:chExt cx="3197880" cy="2101680"/>
          </a:xfrm>
        </p:grpSpPr>
        <p:sp>
          <p:nvSpPr>
            <p:cNvPr id="115" name=""/>
            <p:cNvSpPr/>
            <p:nvPr/>
          </p:nvSpPr>
          <p:spPr>
            <a:xfrm>
              <a:off x="5018760" y="4340520"/>
              <a:ext cx="296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8760" y="5388480"/>
              <a:ext cx="296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9120" y="5342040"/>
              <a:ext cx="0" cy="4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4720" y="5613480"/>
              <a:ext cx="3956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m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164280" y="5342040"/>
              <a:ext cx="749520" cy="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9120" y="512820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913800" y="512820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120" y="5197680"/>
              <a:ext cx="37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3000" y="53420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51991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019920" y="537696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9320" y="5007960"/>
              <a:ext cx="1936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9360" y="4776480"/>
              <a:ext cx="275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125680" y="4340160"/>
              <a:ext cx="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2280" y="4647960"/>
              <a:ext cx="239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68680" y="4919400"/>
              <a:ext cx="1472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54600" y="4026960"/>
              <a:ext cx="41400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+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88000" y="3860640"/>
              <a:ext cx="1107360" cy="38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side 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456680" y="5403960"/>
              <a:ext cx="320040" cy="364680"/>
              <a:chOff x="7456680" y="5403960"/>
              <a:chExt cx="320040" cy="364680"/>
            </a:xfrm>
          </p:grpSpPr>
          <p:sp>
            <p:nvSpPr>
              <p:cNvPr id="134" name=""/>
              <p:cNvSpPr/>
              <p:nvPr/>
            </p:nvSpPr>
            <p:spPr>
              <a:xfrm>
                <a:off x="7616520" y="5403960"/>
                <a:ext cx="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56680" y="5659560"/>
                <a:ext cx="32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509960" y="5704560"/>
                <a:ext cx="213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545600" y="5765040"/>
                <a:ext cx="142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250920" y="4437000"/>
            <a:ext cx="1584360" cy="936720"/>
          </a:xfrm>
          <a:prstGeom prst="wedgeRoundRectCallout">
            <a:avLst>
              <a:gd name="adj1" fmla="val 49898"/>
              <a:gd name="adj2" fmla="val -135254"/>
              <a:gd name="adj3" fmla="val 16667"/>
            </a:avLst>
          </a:prstGeom>
          <a:noFill/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Vernada"/>
              </a:rPr>
              <a:t>Q=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443640" y="2852640"/>
            <a:ext cx="2089080" cy="1081080"/>
            <a:chOff x="6443640" y="2852640"/>
            <a:chExt cx="2089080" cy="1081080"/>
          </a:xfrm>
        </p:grpSpPr>
        <p:sp>
          <p:nvSpPr>
            <p:cNvPr id="140" name=""/>
            <p:cNvSpPr/>
            <p:nvPr/>
          </p:nvSpPr>
          <p:spPr>
            <a:xfrm>
              <a:off x="6443640" y="2852640"/>
              <a:ext cx="2089080" cy="1081080"/>
            </a:xfrm>
            <a:prstGeom prst="wedgeRoundRectCallout">
              <a:avLst>
                <a:gd name="adj1" fmla="val -45212"/>
                <a:gd name="adj2" fmla="val 157194"/>
                <a:gd name="adj3" fmla="val 16667"/>
              </a:avLst>
            </a:prstGeom>
            <a:noFill/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6732720" y="3213000"/>
                  <a:ext cx="143964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q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32000" y="4870440"/>
            <a:ext cx="3816360" cy="1222560"/>
            <a:chOff x="3132000" y="4870440"/>
            <a:chExt cx="3816360" cy="1222560"/>
          </a:xfrm>
        </p:grpSpPr>
        <p:sp>
          <p:nvSpPr>
            <p:cNvPr id="144" name=""/>
            <p:cNvSpPr/>
            <p:nvPr/>
          </p:nvSpPr>
          <p:spPr>
            <a:xfrm>
              <a:off x="3132000" y="5013360"/>
              <a:ext cx="1584360" cy="1079640"/>
            </a:xfrm>
            <a:prstGeom prst="wedgeRoundRectCallout">
              <a:avLst>
                <a:gd name="adj1" fmla="val 159319"/>
                <a:gd name="adj2" fmla="val -60587"/>
                <a:gd name="adj3" fmla="val 16667"/>
              </a:avLst>
            </a:prstGeom>
            <a:noFill/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Vernada"/>
                </a:rPr>
                <a:t>F=qE - m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56360" y="4870440"/>
              <a:ext cx="792000" cy="7128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63120" y="140652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Vernada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Vernada"/>
              </a:rPr>
              <a:t>Problem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-V Curv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881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etical Question 1: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Ping-Pong Resistor”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Physical concepts requir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osta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Field,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’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90920" y="2421000"/>
            <a:ext cx="4752720" cy="2458800"/>
            <a:chOff x="4390920" y="2421000"/>
            <a:chExt cx="4752720" cy="2458800"/>
          </a:xfrm>
        </p:grpSpPr>
        <p:sp>
          <p:nvSpPr>
            <p:cNvPr id="152" name=""/>
            <p:cNvSpPr/>
            <p:nvPr/>
          </p:nvSpPr>
          <p:spPr>
            <a:xfrm>
              <a:off x="8746200" y="3330720"/>
              <a:ext cx="3974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7640" y="3715920"/>
              <a:ext cx="2731320" cy="47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7640" y="3284280"/>
              <a:ext cx="2731320" cy="47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23240" y="3859560"/>
              <a:ext cx="287280" cy="95760"/>
            </a:xfrm>
            <a:prstGeom prst="ellipse">
              <a:avLst/>
            </a:prstGeom>
            <a:solidFill>
              <a:srgbClr val="11111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243840" y="2421000"/>
              <a:ext cx="0" cy="11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3840" y="2421000"/>
              <a:ext cx="237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16960" y="2421000"/>
              <a:ext cx="0" cy="11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16960" y="3715920"/>
              <a:ext cx="0" cy="10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267960" y="419544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267960" y="390708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24720" y="3620160"/>
              <a:ext cx="38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20480" y="3715920"/>
              <a:ext cx="191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3120" y="3882960"/>
              <a:ext cx="4716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0080" y="3524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4600" y="3524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4600" y="39556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638240" y="352404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3120" y="352404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7680" y="3259800"/>
              <a:ext cx="225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90920" y="3618360"/>
              <a:ext cx="2066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51600" y="4784040"/>
              <a:ext cx="430920" cy="95760"/>
              <a:chOff x="6051600" y="4784040"/>
              <a:chExt cx="430920" cy="95760"/>
            </a:xfrm>
          </p:grpSpPr>
          <p:sp>
            <p:nvSpPr>
              <p:cNvPr id="173" name=""/>
              <p:cNvSpPr/>
              <p:nvPr/>
            </p:nvSpPr>
            <p:spPr>
              <a:xfrm>
                <a:off x="6051600" y="4784040"/>
                <a:ext cx="4309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3240" y="4824720"/>
                <a:ext cx="2872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92000" y="4879080"/>
                <a:ext cx="1508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399160" y="4784040"/>
              <a:ext cx="430920" cy="95760"/>
              <a:chOff x="8399160" y="4784040"/>
              <a:chExt cx="430920" cy="95760"/>
            </a:xfrm>
          </p:grpSpPr>
          <p:sp>
            <p:nvSpPr>
              <p:cNvPr id="177" name=""/>
              <p:cNvSpPr/>
              <p:nvPr/>
            </p:nvSpPr>
            <p:spPr>
              <a:xfrm>
                <a:off x="8399160" y="4784040"/>
                <a:ext cx="4309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470800" y="4824720"/>
                <a:ext cx="2872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39560" y="4879080"/>
                <a:ext cx="1508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00:33:48Z</dcterms:created>
  <dc:creator>Jaejun Yu</dc:creator>
  <dc:description/>
  <dc:language>en-US</dc:language>
  <cp:lastModifiedBy>Jaejun Yu</cp:lastModifiedBy>
  <cp:lastPrinted>2000-09-06T01:04:38Z</cp:lastPrinted>
  <dcterms:modified xsi:type="dcterms:W3CDTF">2004-07-27T08:52:35Z</dcterms:modified>
  <cp:revision>356</cp:revision>
  <dc:subject/>
  <dc:title>슬라이드 제목 없음</dc:title>
</cp:coreProperties>
</file>