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6212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44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621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44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9012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776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6212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9012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776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6212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4360" y="404280"/>
            <a:ext cx="7772400" cy="28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4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21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4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4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4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6212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66680" y="1125360"/>
            <a:ext cx="8798040" cy="2019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6100920"/>
            <a:ext cx="1187280" cy="712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166680" y="1125360"/>
            <a:ext cx="8798040" cy="201960"/>
          </a:xfrm>
          <a:prstGeom prst="rect">
            <a:avLst/>
          </a:prstGeom>
          <a:ln w="0">
            <a:noFill/>
          </a:ln>
        </p:spPr>
      </p:pic>
      <p:grpSp>
        <p:nvGrpSpPr>
          <p:cNvPr id="7" name=""/>
          <p:cNvGrpSpPr/>
          <p:nvPr/>
        </p:nvGrpSpPr>
        <p:grpSpPr>
          <a:xfrm>
            <a:off x="0" y="6100920"/>
            <a:ext cx="4358520" cy="735120"/>
            <a:chOff x="0" y="6100920"/>
            <a:chExt cx="4358520" cy="735120"/>
          </a:xfrm>
        </p:grpSpPr>
        <p:pic>
          <p:nvPicPr>
            <p:cNvPr id="8" name="" descr=""/>
            <p:cNvPicPr/>
            <p:nvPr/>
          </p:nvPicPr>
          <p:blipFill>
            <a:blip r:embed="rId5"/>
            <a:stretch/>
          </p:blipFill>
          <p:spPr>
            <a:xfrm>
              <a:off x="0" y="6100920"/>
              <a:ext cx="118728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259280" y="6377040"/>
              <a:ext cx="3099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ccff"/>
                  </a:solidFill>
                  <a:latin typeface="Arial"/>
                </a:rPr>
                <a:t>35th International Physics Olympiad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6699"/>
                  </a:solidFill>
                  <a:latin typeface="Arial"/>
                </a:rPr>
                <a:t>Theoretical Competition, Saturday, 17 July 2004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67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ipho_emblem" descr=""/>
          <p:cNvPicPr/>
          <p:nvPr/>
        </p:nvPicPr>
        <p:blipFill>
          <a:blip r:embed="rId1"/>
          <a:stretch/>
        </p:blipFill>
        <p:spPr>
          <a:xfrm>
            <a:off x="3132000" y="927000"/>
            <a:ext cx="2808360" cy="1710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19040" y="2769480"/>
            <a:ext cx="47041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바탕"/>
              </a:rPr>
              <a:t>35</a:t>
            </a:r>
            <a:r>
              <a:rPr b="1" lang="en-US" sz="2000" spc="-1" strike="noStrike" baseline="30000">
                <a:solidFill>
                  <a:srgbClr val="000000"/>
                </a:solidFill>
                <a:latin typeface="Verdana"/>
                <a:ea typeface="바탕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바탕"/>
              </a:rPr>
              <a:t> International Physics Olympi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바탕"/>
              </a:rPr>
              <a:t>Pohang, Ko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바탕"/>
              </a:rPr>
              <a:t>15 ~ 23 July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26920" y="4148280"/>
            <a:ext cx="76550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57840" y="5443920"/>
            <a:ext cx="3376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oretical 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turday, 17 July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404640"/>
            <a:ext cx="8569080" cy="6120000"/>
          </a:xfrm>
          <a:prstGeom prst="rect">
            <a:avLst/>
          </a:prstGeom>
          <a:noFill/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77600" y="4581360"/>
            <a:ext cx="40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Vernada"/>
              </a:rPr>
              <a:t>Theoretical 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oretical Question 2:</a:t>
            </a:r>
            <a:br>
              <a:rPr sz="18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“Rising Balloon”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132000" y="2133720"/>
            <a:ext cx="2914920" cy="3809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19160" y="1479600"/>
            <a:ext cx="56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Vernada"/>
              </a:rPr>
              <a:t>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ea typeface="Vernada"/>
              </a:rPr>
              <a:t>Objectiv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Vernada"/>
              </a:rPr>
              <a:t>  To find out how high a balloon 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oretical Question 2:</a:t>
            </a:r>
            <a:br>
              <a:rPr sz="18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“Rising Balloon”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7" name=""/>
          <p:cNvSpPr/>
          <p:nvPr/>
        </p:nvSpPr>
        <p:spPr>
          <a:xfrm>
            <a:off x="826920" y="1628640"/>
            <a:ext cx="21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3333cc"/>
                </a:solidFill>
                <a:uFillTx/>
                <a:latin typeface="Arial"/>
                <a:ea typeface="Vernada"/>
              </a:rPr>
              <a:t>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ea typeface="Vernada"/>
              </a:rPr>
              <a:t>Problem desig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65800" y="184464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Vernada"/>
              </a:rPr>
              <a:t>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2492280"/>
            <a:ext cx="2016000" cy="1152720"/>
          </a:xfrm>
          <a:prstGeom prst="wedgeRoundRectCallout">
            <a:avLst>
              <a:gd name="adj1" fmla="val 87245"/>
              <a:gd name="adj2" fmla="val 54958"/>
              <a:gd name="adj3" fmla="val 16667"/>
            </a:avLst>
          </a:prstGeom>
          <a:noFill/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Vernada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Vernada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Vernada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Vernada"/>
              </a:rPr>
              <a:t>air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Vernada"/>
              </a:rPr>
              <a:t>V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516720" y="1773360"/>
            <a:ext cx="1942920" cy="1224000"/>
            <a:chOff x="6516720" y="1773360"/>
            <a:chExt cx="1942920" cy="1224000"/>
          </a:xfrm>
        </p:grpSpPr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7012080" y="2011320"/>
                  <a:ext cx="1089000" cy="64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P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z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ρg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3" name=""/>
            <p:cNvSpPr/>
            <p:nvPr/>
          </p:nvSpPr>
          <p:spPr>
            <a:xfrm>
              <a:off x="6516720" y="1773360"/>
              <a:ext cx="1942920" cy="1224000"/>
            </a:xfrm>
            <a:prstGeom prst="wedgeEllipseCallout">
              <a:avLst>
                <a:gd name="adj1" fmla="val -84393"/>
                <a:gd name="adj2" fmla="val -20814"/>
              </a:avLst>
            </a:prstGeom>
            <a:noFill/>
            <a:ln w="158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443640" y="4005360"/>
            <a:ext cx="2305080" cy="1368360"/>
          </a:xfrm>
          <a:prstGeom prst="wedgeRoundRectCallout">
            <a:avLst>
              <a:gd name="adj1" fmla="val -70180"/>
              <a:gd name="adj2" fmla="val -79583"/>
              <a:gd name="adj3" fmla="val 16667"/>
            </a:avLst>
          </a:prstGeom>
          <a:noFill/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Vernada"/>
              </a:rPr>
              <a:t>W=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Vernada"/>
              </a:rPr>
              <a:t>diff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Vernada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71640" y="4724280"/>
            <a:ext cx="2016000" cy="1081080"/>
          </a:xfrm>
          <a:prstGeom prst="wedgeRoundRectCallout">
            <a:avLst>
              <a:gd name="adj1" fmla="val 135435"/>
              <a:gd name="adj2" fmla="val 57782"/>
              <a:gd name="adj3" fmla="val 16667"/>
            </a:avLst>
          </a:prstGeom>
          <a:noFill/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Vernada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Vernada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Vernada"/>
              </a:rPr>
              <a:t>=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Vernada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Vernada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564000" y="2492280"/>
            <a:ext cx="2374920" cy="4103640"/>
            <a:chOff x="3564000" y="2492280"/>
            <a:chExt cx="2374920" cy="4103640"/>
          </a:xfrm>
        </p:grpSpPr>
        <p:sp>
          <p:nvSpPr>
            <p:cNvPr id="67" name=""/>
            <p:cNvSpPr/>
            <p:nvPr/>
          </p:nvSpPr>
          <p:spPr>
            <a:xfrm>
              <a:off x="4446360" y="342900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Vernada"/>
                </a:rPr>
                <a:t>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564000" y="2492280"/>
              <a:ext cx="2374920" cy="4103640"/>
              <a:chOff x="3564000" y="2492280"/>
              <a:chExt cx="2374920" cy="4103640"/>
            </a:xfrm>
          </p:grpSpPr>
          <p:sp>
            <p:nvSpPr>
              <p:cNvPr id="69" name=""/>
              <p:cNvSpPr/>
              <p:nvPr/>
            </p:nvSpPr>
            <p:spPr>
              <a:xfrm>
                <a:off x="3564000" y="2492280"/>
                <a:ext cx="2374920" cy="2305080"/>
              </a:xfrm>
              <a:prstGeom prst="ellipse">
                <a:avLst/>
              </a:prstGeom>
              <a:noFill/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672080" y="4711680"/>
                <a:ext cx="233280" cy="1270080"/>
              </a:xfrm>
              <a:custGeom>
                <a:avLst/>
                <a:gdLst/>
                <a:ahLst/>
                <a:rect l="l" t="t" r="r" b="b"/>
                <a:pathLst>
                  <a:path w="147" h="800">
                    <a:moveTo>
                      <a:pt x="64" y="60"/>
                    </a:moveTo>
                    <a:cubicBezTo>
                      <a:pt x="24" y="86"/>
                      <a:pt x="9" y="94"/>
                      <a:pt x="55" y="124"/>
                    </a:cubicBezTo>
                    <a:cubicBezTo>
                      <a:pt x="109" y="106"/>
                      <a:pt x="123" y="122"/>
                      <a:pt x="101" y="69"/>
                    </a:cubicBezTo>
                    <a:cubicBezTo>
                      <a:pt x="97" y="59"/>
                      <a:pt x="89" y="51"/>
                      <a:pt x="83" y="42"/>
                    </a:cubicBezTo>
                    <a:cubicBezTo>
                      <a:pt x="38" y="57"/>
                      <a:pt x="0" y="51"/>
                      <a:pt x="55" y="87"/>
                    </a:cubicBezTo>
                    <a:cubicBezTo>
                      <a:pt x="63" y="92"/>
                      <a:pt x="74" y="93"/>
                      <a:pt x="83" y="96"/>
                    </a:cubicBezTo>
                    <a:cubicBezTo>
                      <a:pt x="95" y="93"/>
                      <a:pt x="109" y="95"/>
                      <a:pt x="119" y="87"/>
                    </a:cubicBezTo>
                    <a:cubicBezTo>
                      <a:pt x="147" y="65"/>
                      <a:pt x="113" y="22"/>
                      <a:pt x="101" y="5"/>
                    </a:cubicBezTo>
                    <a:cubicBezTo>
                      <a:pt x="47" y="13"/>
                      <a:pt x="16" y="0"/>
                      <a:pt x="0" y="51"/>
                    </a:cubicBezTo>
                    <a:cubicBezTo>
                      <a:pt x="3" y="60"/>
                      <a:pt x="2" y="71"/>
                      <a:pt x="9" y="78"/>
                    </a:cubicBezTo>
                    <a:cubicBezTo>
                      <a:pt x="16" y="85"/>
                      <a:pt x="37" y="87"/>
                      <a:pt x="37" y="87"/>
                    </a:cubicBezTo>
                    <a:cubicBezTo>
                      <a:pt x="22" y="135"/>
                      <a:pt x="43" y="162"/>
                      <a:pt x="83" y="188"/>
                    </a:cubicBezTo>
                    <a:cubicBezTo>
                      <a:pt x="80" y="225"/>
                      <a:pt x="78" y="262"/>
                      <a:pt x="73" y="298"/>
                    </a:cubicBezTo>
                    <a:cubicBezTo>
                      <a:pt x="72" y="307"/>
                      <a:pt x="63" y="316"/>
                      <a:pt x="64" y="325"/>
                    </a:cubicBezTo>
                    <a:cubicBezTo>
                      <a:pt x="66" y="344"/>
                      <a:pt x="77" y="362"/>
                      <a:pt x="83" y="380"/>
                    </a:cubicBezTo>
                    <a:cubicBezTo>
                      <a:pt x="86" y="389"/>
                      <a:pt x="92" y="407"/>
                      <a:pt x="92" y="407"/>
                    </a:cubicBezTo>
                    <a:cubicBezTo>
                      <a:pt x="83" y="435"/>
                      <a:pt x="73" y="462"/>
                      <a:pt x="64" y="490"/>
                    </a:cubicBezTo>
                    <a:cubicBezTo>
                      <a:pt x="86" y="553"/>
                      <a:pt x="77" y="526"/>
                      <a:pt x="92" y="572"/>
                    </a:cubicBezTo>
                    <a:cubicBezTo>
                      <a:pt x="85" y="691"/>
                      <a:pt x="92" y="707"/>
                      <a:pt x="92" y="800"/>
                    </a:cubicBezTo>
                  </a:path>
                </a:pathLst>
              </a:custGeom>
              <a:noFill/>
              <a:ln w="2844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788000" y="5877000"/>
                <a:ext cx="144360" cy="718920"/>
              </a:xfrm>
              <a:prstGeom prst="rect">
                <a:avLst/>
              </a:prstGeom>
              <a:solidFill>
                <a:srgbClr val="ccccff"/>
              </a:solidFill>
              <a:ln w="3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" name=""/>
          <p:cNvSpPr/>
          <p:nvPr/>
        </p:nvSpPr>
        <p:spPr>
          <a:xfrm>
            <a:off x="5796000" y="6308640"/>
            <a:ext cx="1368360" cy="352440"/>
          </a:xfrm>
          <a:prstGeom prst="borderCallout1">
            <a:avLst>
              <a:gd name="adj1" fmla="val 18750"/>
              <a:gd name="adj2" fmla="val -8333"/>
              <a:gd name="adj3" fmla="val 449"/>
              <a:gd name="adj4" fmla="val -61370"/>
            </a:avLst>
          </a:prstGeom>
          <a:noFill/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Vernada"/>
              </a:rPr>
              <a:t>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2000" fill="hold"/>
                                        <p:tgtEl>
                                          <p:spTgt spid="6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oretical Question 2:</a:t>
            </a:r>
            <a:br>
              <a:rPr sz="18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“Rising Balloon”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Verdana"/>
              </a:rPr>
              <a:t>Physical concepts require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ydrodynam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oya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modynam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 gas 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aw of Thermodynam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and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 Equilib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300720" y="198900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oretical Question 2:</a:t>
            </a:r>
            <a:br>
              <a:rPr sz="18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“Rising Balloon”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44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4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334880" y="1773360"/>
            <a:ext cx="5613480" cy="4248000"/>
            <a:chOff x="1334880" y="1773360"/>
            <a:chExt cx="5613480" cy="424800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1908000" y="2922480"/>
              <a:ext cx="5040360" cy="30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1334880" y="1773360"/>
              <a:ext cx="48139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Vernad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Vernada"/>
                </a:rPr>
                <a:t>Real data of temperature versus heigh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Vernada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Vernada"/>
                </a:rPr>
                <a:t>from a radiosonde flight on July 29, 1998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1479960" y="2349360"/>
            <a:ext cx="5326920" cy="3584880"/>
            <a:chOff x="1479960" y="2349360"/>
            <a:chExt cx="5326920" cy="3584880"/>
          </a:xfrm>
        </p:grpSpPr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1909440" y="2924280"/>
              <a:ext cx="4897440" cy="30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1479960" y="2349360"/>
              <a:ext cx="511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Vernad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Vernada"/>
                </a:rPr>
                <a:t>Linear fit of the temperature by 303(1-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Vernada"/>
                </a:rPr>
                <a:t>z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Vernada"/>
                </a:rPr>
                <a:t>/49000)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Vernad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oretical Question 2:</a:t>
            </a:r>
            <a:br>
              <a:rPr sz="18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“Rising Balloon”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4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4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4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336320" y="1700280"/>
            <a:ext cx="5861880" cy="4106880"/>
            <a:chOff x="1336320" y="1700280"/>
            <a:chExt cx="5861880" cy="4106880"/>
          </a:xfrm>
        </p:grpSpPr>
        <p:pic>
          <p:nvPicPr>
            <p:cNvPr id="95" name="" descr=""/>
            <p:cNvPicPr/>
            <p:nvPr/>
          </p:nvPicPr>
          <p:blipFill>
            <a:blip r:embed="rId1"/>
            <a:stretch/>
          </p:blipFill>
          <p:spPr>
            <a:xfrm>
              <a:off x="1959120" y="2708280"/>
              <a:ext cx="5040360" cy="30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336320" y="1700280"/>
              <a:ext cx="586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Vernad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Vernada"/>
                </a:rPr>
                <a:t>Real data of pressure versus height on the same fligh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Vernad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363680" y="2205000"/>
            <a:ext cx="5797080" cy="3740040"/>
            <a:chOff x="1363680" y="2205000"/>
            <a:chExt cx="5797080" cy="3740040"/>
          </a:xfrm>
        </p:grpSpPr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2081160" y="3068640"/>
              <a:ext cx="4680000" cy="28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1363680" y="2205000"/>
              <a:ext cx="5797080" cy="67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Vernad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Vernada"/>
                </a:rPr>
                <a:t>Power law fit of the pressure dat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Vernad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Vernada"/>
                </a:rPr>
                <a:t>by 1013.*(1-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Vernada"/>
                </a:rPr>
                <a:t>z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Vernada"/>
                </a:rPr>
                <a:t>/49000)5.5. Log of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Vernada"/>
                </a:rPr>
                <a:t>P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Vernada"/>
                </a:rPr>
                <a:t> versus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Vernada"/>
                </a:rPr>
                <a:t>z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Vernada"/>
                </a:rPr>
                <a:t> is shown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Vernad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30T00:33:48Z</dcterms:created>
  <dc:creator>Jaejun Yu</dc:creator>
  <dc:description/>
  <dc:language>en-US</dc:language>
  <cp:lastModifiedBy>Jaejun Yu</cp:lastModifiedBy>
  <cp:lastPrinted>2000-09-06T01:04:38Z</cp:lastPrinted>
  <dcterms:modified xsi:type="dcterms:W3CDTF">2004-07-27T08:53:20Z</dcterms:modified>
  <cp:revision>355</cp:revision>
  <dc:subject/>
  <dc:title>슬라이드 제목 없음</dc:title>
</cp:coreProperties>
</file>