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009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6100920"/>
            <a:ext cx="4358520" cy="735120"/>
            <a:chOff x="0" y="6100920"/>
            <a:chExt cx="4358520" cy="73512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6100920"/>
              <a:ext cx="11872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259280" y="6377040"/>
              <a:ext cx="309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ff"/>
                  </a:solidFill>
                  <a:latin typeface="Arial"/>
                </a:rPr>
                <a:t>35th International Physics Olympia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Theoretical Competition, Saturday, 17 July 200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eb.mit.edu/cortiz/www/afm.gif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chem.ox.ac.uk/researchguide/fschreiber/nc-afm-op.gif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m.ox.ac.uk/researchguide/fschreiber/nc-afm-op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pho_emblem" descr=""/>
          <p:cNvPicPr/>
          <p:nvPr/>
        </p:nvPicPr>
        <p:blipFill>
          <a:blip r:embed="rId1"/>
          <a:stretch/>
        </p:blipFill>
        <p:spPr>
          <a:xfrm>
            <a:off x="3132000" y="927000"/>
            <a:ext cx="2808360" cy="17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9040" y="2769480"/>
            <a:ext cx="4704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바탕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 International Physics Olympi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Pohang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15 ~ 23 Jul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148280"/>
            <a:ext cx="7655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7840" y="5299560"/>
            <a:ext cx="337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tical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day, 17 Jul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04640"/>
            <a:ext cx="8569080" cy="612000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7600" y="458136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Vernada"/>
              </a:rPr>
              <a:t>Theoretical 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3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Scanning Probe Microscope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26120" y="162252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  To locate a single electron under th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4680" cy="3749760"/>
          </a:xfrm>
          <a:prstGeom prst="rect">
            <a:avLst/>
          </a:prstGeom>
          <a:ln w="19080">
            <a:solidFill>
              <a:srgbClr val="333300"/>
            </a:solidFill>
            <a:miter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048360" cy="41878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2924280"/>
            <a:ext cx="4464000" cy="2816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556000" y="2492280"/>
            <a:ext cx="4155840" cy="2922480"/>
            <a:chOff x="2556000" y="2492280"/>
            <a:chExt cx="4155840" cy="2922480"/>
          </a:xfrm>
        </p:grpSpPr>
        <p:grpSp>
          <p:nvGrpSpPr>
            <p:cNvPr id="59" name=""/>
            <p:cNvGrpSpPr/>
            <p:nvPr/>
          </p:nvGrpSpPr>
          <p:grpSpPr>
            <a:xfrm>
              <a:off x="2556000" y="2492280"/>
              <a:ext cx="4155840" cy="2922480"/>
              <a:chOff x="2556000" y="2492280"/>
              <a:chExt cx="4155840" cy="2922480"/>
            </a:xfrm>
          </p:grpSpPr>
          <p:sp>
            <p:nvSpPr>
              <p:cNvPr id="60" name=""/>
              <p:cNvSpPr/>
              <p:nvPr/>
            </p:nvSpPr>
            <p:spPr>
              <a:xfrm>
                <a:off x="6160320" y="2880720"/>
                <a:ext cx="55152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ock-i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mplifi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556000" y="2764080"/>
                <a:ext cx="4083480" cy="2650680"/>
                <a:chOff x="2556000" y="2764080"/>
                <a:chExt cx="4083480" cy="26506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061240" y="2869920"/>
                  <a:ext cx="1135440" cy="6602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20432400">
                  <a:off x="2920680" y="3527640"/>
                  <a:ext cx="194040" cy="38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095640" y="3913920"/>
                  <a:ext cx="246240" cy="67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3337200" y="3297240"/>
                  <a:ext cx="1080" cy="128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3288960" y="4542120"/>
                  <a:ext cx="79092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280320" y="4594680"/>
                  <a:ext cx="72720" cy="2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357360" y="4588200"/>
                  <a:ext cx="3960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21283200">
                  <a:off x="4045680" y="4263840"/>
                  <a:ext cx="129240" cy="276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161520" y="2927880"/>
                  <a:ext cx="356040" cy="362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336120" y="2778840"/>
                  <a:ext cx="36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336120" y="2779200"/>
                  <a:ext cx="15541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16200000">
                  <a:off x="5562000" y="2979360"/>
                  <a:ext cx="153000" cy="165960"/>
                </a:xfrm>
                <a:prstGeom prst="ellipse">
                  <a:avLst/>
                </a:prstGeom>
                <a:solidFill>
                  <a:srgbClr val="5f5f5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16200000">
                  <a:off x="5369400" y="330624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6200000">
                  <a:off x="5847480" y="330732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95320" y="3370680"/>
                  <a:ext cx="360" cy="30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5872680" y="3355200"/>
                  <a:ext cx="1080" cy="68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90600" y="2779200"/>
                  <a:ext cx="360" cy="89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4883040" y="3678840"/>
                  <a:ext cx="50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073400" y="4035600"/>
                  <a:ext cx="23400" cy="2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901760" y="3912480"/>
                  <a:ext cx="823320" cy="25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725080" y="4042080"/>
                  <a:ext cx="14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5635800" y="2772360"/>
                  <a:ext cx="108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635800" y="2764080"/>
                  <a:ext cx="769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5393880" y="3074400"/>
                  <a:ext cx="360" cy="22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5392800" y="3063600"/>
                  <a:ext cx="156240" cy="1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5873040" y="3078720"/>
                  <a:ext cx="36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32640" y="3063960"/>
                  <a:ext cx="13788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334680" y="2932200"/>
                  <a:ext cx="360" cy="3560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62600" y="3102840"/>
                  <a:ext cx="3484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6200000">
                  <a:off x="3309480" y="3074040"/>
                  <a:ext cx="57240" cy="60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68120" y="4443480"/>
                  <a:ext cx="3240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74480" y="4132440"/>
                  <a:ext cx="32040" cy="7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339720" y="3821400"/>
                  <a:ext cx="36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005720" y="2780640"/>
                  <a:ext cx="320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398200" y="3568680"/>
                  <a:ext cx="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5398200" y="3160800"/>
                  <a:ext cx="0" cy="5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873040" y="3646800"/>
                  <a:ext cx="0" cy="5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873040" y="3180240"/>
                  <a:ext cx="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013440" y="2765520"/>
                  <a:ext cx="428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4447800" y="4035600"/>
                  <a:ext cx="53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16200000">
                  <a:off x="3568680" y="479124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16200000">
                  <a:off x="3531960" y="485064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6200000">
                  <a:off x="3607560" y="48495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16200000">
                  <a:off x="3687480" y="48495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16200000">
                  <a:off x="3294720" y="485064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6200000">
                  <a:off x="3369960" y="48495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6200000">
                  <a:off x="3449880" y="48495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6200000">
                  <a:off x="3650760" y="49089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16200000">
                  <a:off x="372636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6200000">
                  <a:off x="380628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6200000">
                  <a:off x="3413160" y="49089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6200000">
                  <a:off x="348876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6200000">
                  <a:off x="356868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6200000">
                  <a:off x="3175920" y="49089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6200000">
                  <a:off x="325152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6200000">
                  <a:off x="333144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6200000">
                  <a:off x="2938320" y="49089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6200000">
                  <a:off x="301392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6200000">
                  <a:off x="3093840" y="49078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6200000">
                  <a:off x="2981520" y="485064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6200000">
                  <a:off x="3057120" y="484956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6200000">
                  <a:off x="3693960" y="49672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6200000">
                  <a:off x="376956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6200000">
                  <a:off x="384948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6200000">
                  <a:off x="3456360" y="49672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6200000">
                  <a:off x="353196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6200000">
                  <a:off x="361188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6200000">
                  <a:off x="3219120" y="49672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200000">
                  <a:off x="329472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6200000">
                  <a:off x="337428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6200000">
                  <a:off x="2981520" y="4967280"/>
                  <a:ext cx="5724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305712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313704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6200000">
                  <a:off x="2899440" y="4966200"/>
                  <a:ext cx="5688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156560" y="4210200"/>
                  <a:ext cx="57528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iezotub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26080" y="4598640"/>
                  <a:ext cx="323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73040" y="3634920"/>
                  <a:ext cx="26424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3109320" y="4501800"/>
                  <a:ext cx="360" cy="19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063400" y="3627360"/>
                  <a:ext cx="24120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070520" y="4035600"/>
                  <a:ext cx="82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3640" y="3465000"/>
                  <a:ext cx="37764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p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849280" y="3456360"/>
                  <a:ext cx="30204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f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80040" y="45399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952880" y="3899520"/>
                  <a:ext cx="704160" cy="27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hase shif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476600" y="364644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131280" y="5045760"/>
                  <a:ext cx="496440" cy="2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ampl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38600" y="4326840"/>
                  <a:ext cx="1100880" cy="1087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43440" y="4406040"/>
                  <a:ext cx="129240" cy="281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66120" y="5142240"/>
                  <a:ext cx="56160" cy="21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5823360" y="5140800"/>
                  <a:ext cx="62640" cy="22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765040" y="5137560"/>
                  <a:ext cx="63684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16200000">
                  <a:off x="6405120" y="5098320"/>
                  <a:ext cx="57600" cy="60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5753880" y="4781880"/>
                  <a:ext cx="129240" cy="3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54240" y="4821120"/>
                  <a:ext cx="12924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5753880" y="4861080"/>
                  <a:ext cx="129240" cy="3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754240" y="4900320"/>
                  <a:ext cx="129240" cy="3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5753880" y="4939920"/>
                  <a:ext cx="129240" cy="3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54240" y="4979880"/>
                  <a:ext cx="129240" cy="3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5753880" y="5019120"/>
                  <a:ext cx="129240" cy="3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54240" y="5058720"/>
                  <a:ext cx="644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808240" y="4761720"/>
                  <a:ext cx="644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08240" y="4682880"/>
                  <a:ext cx="360" cy="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29480" y="5078520"/>
                  <a:ext cx="360" cy="5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83840" y="4920480"/>
                  <a:ext cx="203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62240" y="5078520"/>
                  <a:ext cx="233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62240" y="4446720"/>
                  <a:ext cx="658440" cy="46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iezotub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31040" y="4229280"/>
                  <a:ext cx="237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56000" y="3627360"/>
                  <a:ext cx="35928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a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90920" y="4450320"/>
                  <a:ext cx="32400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z=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740200" y="2506680"/>
                <a:ext cx="7336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utput sig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05680" y="2492280"/>
                <a:ext cx="931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=c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hoto-detec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4520" y="4862520"/>
              <a:ext cx="7016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ntile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78960" y="5018040"/>
              <a:ext cx="5288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926520" y="4629240"/>
              <a:ext cx="669240" cy="37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3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Scanning Probe Microscope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023480" y="155088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Problem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5589720"/>
            <a:ext cx="2160360" cy="792000"/>
          </a:xfrm>
          <a:prstGeom prst="wedgeRoundRectCallout">
            <a:avLst>
              <a:gd name="adj1" fmla="val -80050"/>
              <a:gd name="adj2" fmla="val -127953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Harmo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Oscil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1700280"/>
            <a:ext cx="2808360" cy="649080"/>
          </a:xfrm>
          <a:prstGeom prst="wedgeRoundRectCallout">
            <a:avLst>
              <a:gd name="adj1" fmla="val -56671"/>
              <a:gd name="adj2" fmla="val 197430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Harmonic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3933720"/>
            <a:ext cx="1728720" cy="1008000"/>
          </a:xfrm>
          <a:prstGeom prst="wedgeRoundRectCallout">
            <a:avLst>
              <a:gd name="adj1" fmla="val 141736"/>
              <a:gd name="adj2" fmla="val 13620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Hooke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5589720"/>
            <a:ext cx="2448000" cy="718920"/>
          </a:xfrm>
          <a:prstGeom prst="wedgeRoundRectCallout">
            <a:avLst>
              <a:gd name="adj1" fmla="val -63944"/>
              <a:gd name="adj2" fmla="val -132120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Coulomb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3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Scanning Probe Microscope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Physical concepts requir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c Osci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c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omb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133720"/>
            <a:ext cx="31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00:33:48Z</dcterms:created>
  <dc:creator>Jaejun Yu</dc:creator>
  <dc:description/>
  <dc:language>en-US</dc:language>
  <cp:lastModifiedBy>ipho</cp:lastModifiedBy>
  <cp:lastPrinted>2000-09-06T01:04:38Z</cp:lastPrinted>
  <dcterms:modified xsi:type="dcterms:W3CDTF">2004-07-16T02:45:04Z</dcterms:modified>
  <cp:revision>356</cp:revision>
  <dc:subject/>
  <dc:title>슬라이드 제목 없음</dc:title>
</cp:coreProperties>
</file>