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212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21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4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9012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212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9012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776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4360" y="404280"/>
            <a:ext cx="77724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4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66680" y="1125360"/>
            <a:ext cx="8798040" cy="2019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100920"/>
            <a:ext cx="1187280" cy="712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6680" y="1125360"/>
            <a:ext cx="8798040" cy="20196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0" y="6100920"/>
            <a:ext cx="4358520" cy="735120"/>
            <a:chOff x="0" y="6100920"/>
            <a:chExt cx="4358520" cy="735120"/>
          </a:xfrm>
        </p:grpSpPr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0" y="6100920"/>
              <a:ext cx="11872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259280" y="6377040"/>
              <a:ext cx="3099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ccff"/>
                  </a:solidFill>
                  <a:latin typeface="Arial"/>
                </a:rPr>
                <a:t>35th International Physics Olympia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99"/>
                  </a:solidFill>
                  <a:latin typeface="Arial"/>
                </a:rPr>
                <a:t>Theoretical Competition, Saturday, 17 July 2004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pho_emblem" descr=""/>
          <p:cNvPicPr/>
          <p:nvPr/>
        </p:nvPicPr>
        <p:blipFill>
          <a:blip r:embed="rId1"/>
          <a:stretch/>
        </p:blipFill>
        <p:spPr>
          <a:xfrm>
            <a:off x="3132000" y="476280"/>
            <a:ext cx="2808360" cy="170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19040" y="2349000"/>
            <a:ext cx="47041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바탕"/>
              </a:rPr>
              <a:t>3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바탕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바탕"/>
              </a:rPr>
              <a:t> International Physics Olympi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바탕"/>
              </a:rPr>
              <a:t>Pohang,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바탕"/>
              </a:rPr>
              <a:t>15 ~ 23 July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3429000"/>
            <a:ext cx="76550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13000" y="3913560"/>
            <a:ext cx="4485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Vernada"/>
              </a:rPr>
              <a:t>International Board Meeting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Vernada"/>
              </a:rPr>
              <a:t>Prizes and Win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dnesday, 21 July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04640"/>
            <a:ext cx="8569080" cy="612000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PhO-2004 Final Marking Results and Prizes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inima for Gold Medals, Silver Medals, Bronze Medals,  and Honourable Men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Total 39 points for Gold Med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31 Gold Med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Total 34 points for Silver Med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35 Silver Med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Total 25 points for Bronze Med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68 Bronze Med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Total 18 points for Honourable Men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82 Honourable M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est Sco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 score in Theory: 29.3 po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 score in Experiment: 18.7 poin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 score in all: 47.7 po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47184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00560" y="4071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Winners …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best score (Absolute winner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ander Mikhalychev (Belaru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best score in the theoretical part of the competi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ali Miao (Chin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best score in the experimental part of the competi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éter Kómár (Hungar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best participant from the countries which joined the IPhO in the last three year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(Prize of the President of the IPhOs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ng-fung Sum (Hong Kon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best score among female participant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(Samsung Sens Award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ena Udovina (US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ost original solution in all the competition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(Grant of Mueunjae Memorial Foundation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ena Udovina (US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00:33:48Z</dcterms:created>
  <dc:creator>Jaejun Yu</dc:creator>
  <dc:description/>
  <dc:language>en-US</dc:language>
  <cp:lastModifiedBy>ddd</cp:lastModifiedBy>
  <cp:lastPrinted>2000-09-06T01:04:38Z</cp:lastPrinted>
  <dcterms:modified xsi:type="dcterms:W3CDTF">2004-07-30T02:58:46Z</dcterms:modified>
  <cp:revision>372</cp:revision>
  <dc:subject/>
  <dc:title>슬라이드 제목 없음</dc:title>
</cp:coreProperties>
</file>