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076A-2283-41FA-895D-A1652253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0B87-24A9-4A47-8634-539D1454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5B58-F125-4671-B9D3-B57BEC25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5CF6-501D-4646-88E9-05DAB871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F22A-B69C-4EC1-B00C-6EA96815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73CD-0385-4843-8B01-F2A5A1BE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20C7-26E3-46BF-8598-4A87AB9B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BBA-96FD-4EAB-941B-FC203F34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2D54-F472-41CF-A1BD-75B37EC7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6F45-47B6-4F85-8370-E283B7D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7BA-9D41-42E4-BDE9-A82EC05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9F19-AFF9-45F4-BBDF-33FC61B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48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169-2C8B-4702-A9C7-9C495274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212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8BE5-41BF-4E9C-8DAD-3C5C0D2B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6212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31A9-E3D9-43D9-A877-1637100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6212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64C8-CB62-4120-BB36-6C5AF94B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6212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9012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776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A1DA-2C94-4B92-82CA-375550A2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B3B2-E993-42AF-BA59-D624DB9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729C-BCC6-4128-ADB7-E290112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3B0A-CD63-4042-AAEB-52A9CA2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196B-9CEA-4A90-8CFA-A57F6370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7E48-6595-460D-8186-9CF3B8C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210B-3654-4491-A003-82162952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E814-E97F-440D-8E90-57A9188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65F5-8C5F-44CA-A581-EF84D69F510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228600"/>
            <a:ext cx="739152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0240" bIns="302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752480"/>
            <a:ext cx="76320" cy="50292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241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381800" y="5373720"/>
            <a:ext cx="1582920" cy="1420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1258920" y="6165720"/>
            <a:ext cx="390600" cy="5493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2031840" y="6184800"/>
            <a:ext cx="5050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395280" y="6172200"/>
            <a:ext cx="504720" cy="4968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7"/>
          <a:stretch/>
        </p:blipFill>
        <p:spPr>
          <a:xfrm>
            <a:off x="2843280" y="6130800"/>
            <a:ext cx="5000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2485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4268-D607-4B57-9F17-E43EB0D110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438280"/>
            <a:ext cx="73911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0240" bIns="3024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76320" cy="2743200"/>
          </a:xfrm>
          <a:prstGeom prst="rect">
            <a:avLst/>
          </a:prstGeom>
          <a:gradFill rotWithShape="0">
            <a:gsLst>
              <a:gs pos="0">
                <a:srgbClr val="f6c80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1371600" cy="124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400" y="152280"/>
            <a:ext cx="90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imes New Roman"/>
              </a:rPr>
              <a:t>36th International Physics Olympiads</a:t>
            </a:r>
            <a:r>
              <a:rPr b="0" lang="en-GB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Times New Roman"/>
              </a:rPr>
              <a:t>Salamanca, Spain</a:t>
            </a:r>
            <a:r>
              <a:rPr b="0" lang="en-GB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Times New Roman"/>
              </a:rPr>
              <a:t>2 -12 Jul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381800" y="5373720"/>
            <a:ext cx="1582920" cy="1420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58920" y="6165720"/>
            <a:ext cx="39060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031840" y="6184800"/>
            <a:ext cx="505080" cy="497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95280" y="6172200"/>
            <a:ext cx="504720" cy="49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843280" y="6130800"/>
            <a:ext cx="50004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oretical Question 2:</a:t>
            </a:r>
            <a:br>
              <a:rPr sz="2000"/>
            </a:br>
            <a:br>
              <a:rPr sz="20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bsolute measurement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f electrical qua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34920" y="2852280"/>
            <a:ext cx="6049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resistance and curr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erms of mechanical quantit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mass, length an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Three case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013360"/>
            <a:ext cx="41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 flipH="1">
            <a:off x="4649400" y="2133720"/>
            <a:ext cx="111240" cy="99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362320" y="2382840"/>
            <a:ext cx="236196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362320" y="22226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84600" y="2193840"/>
            <a:ext cx="3894120" cy="366840"/>
          </a:xfrm>
          <a:custGeom>
            <a:avLst/>
            <a:gdLst/>
            <a:ahLst/>
            <a:rect l="l" t="t" r="r" b="b"/>
            <a:pathLst>
              <a:path w="2453" h="231">
                <a:moveTo>
                  <a:pt x="0" y="0"/>
                </a:moveTo>
                <a:lnTo>
                  <a:pt x="0" y="24"/>
                </a:lnTo>
                <a:lnTo>
                  <a:pt x="2453" y="231"/>
                </a:lnTo>
                <a:lnTo>
                  <a:pt x="2453" y="206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4730760" y="2421000"/>
            <a:ext cx="1440" cy="779400"/>
          </a:xfrm>
          <a:prstGeom prst="line">
            <a:avLst/>
          </a:prstGeom>
          <a:ln w="9360">
            <a:solidFill>
              <a:srgbClr val="86868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3838680" y="2187360"/>
            <a:ext cx="136440" cy="681120"/>
            <a:chOff x="3838680" y="2187360"/>
            <a:chExt cx="136440" cy="681120"/>
          </a:xfrm>
        </p:grpSpPr>
        <p:sp>
          <p:nvSpPr>
            <p:cNvPr id="952" name=""/>
            <p:cNvSpPr/>
            <p:nvPr/>
          </p:nvSpPr>
          <p:spPr>
            <a:xfrm flipV="1">
              <a:off x="3900600" y="2187360"/>
              <a:ext cx="1440" cy="546120"/>
            </a:xfrm>
            <a:prstGeom prst="line">
              <a:avLst/>
            </a:prstGeom>
            <a:ln w="144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838680" y="2733840"/>
              <a:ext cx="136440" cy="13464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0" y="0"/>
                  </a:moveTo>
                  <a:lnTo>
                    <a:pt x="43" y="85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am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241720" y="3530520"/>
            <a:ext cx="10792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333520" y="2212920"/>
            <a:ext cx="444600" cy="132408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2784240" y="2219400"/>
            <a:ext cx="438120" cy="131760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41720" y="4083120"/>
            <a:ext cx="10792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41720" y="3298680"/>
            <a:ext cx="10792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34040" y="3851280"/>
            <a:ext cx="108108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6234120" y="2535120"/>
            <a:ext cx="438120" cy="132264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6678360" y="2541600"/>
            <a:ext cx="438120" cy="131616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134040" y="4083120"/>
            <a:ext cx="10810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134040" y="3298680"/>
            <a:ext cx="10810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672240" y="2535120"/>
            <a:ext cx="1764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653160" y="2514600"/>
            <a:ext cx="55440" cy="5868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579920" y="3157200"/>
            <a:ext cx="135000" cy="1132200"/>
            <a:chOff x="4579920" y="3157200"/>
            <a:chExt cx="135000" cy="1132200"/>
          </a:xfrm>
        </p:grpSpPr>
        <p:sp>
          <p:nvSpPr>
            <p:cNvPr id="968" name=""/>
            <p:cNvSpPr/>
            <p:nvPr/>
          </p:nvSpPr>
          <p:spPr>
            <a:xfrm flipV="1">
              <a:off x="4641840" y="3157200"/>
              <a:ext cx="1440" cy="996840"/>
            </a:xfrm>
            <a:prstGeom prst="line">
              <a:avLst/>
            </a:prstGeom>
            <a:ln w="144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79920" y="415440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43" y="85"/>
                  </a:lnTo>
                  <a:lnTo>
                    <a:pt x="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4684680" y="2398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31" y="0"/>
                </a:moveTo>
                <a:lnTo>
                  <a:pt x="0" y="53"/>
                </a:lnTo>
                <a:lnTo>
                  <a:pt x="58" y="53"/>
                </a:lnTo>
                <a:lnTo>
                  <a:pt x="3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2425680" y="2392200"/>
            <a:ext cx="136440" cy="270000"/>
            <a:chOff x="2425680" y="2392200"/>
            <a:chExt cx="136440" cy="270000"/>
          </a:xfrm>
        </p:grpSpPr>
        <p:sp>
          <p:nvSpPr>
            <p:cNvPr id="972" name=""/>
            <p:cNvSpPr/>
            <p:nvPr/>
          </p:nvSpPr>
          <p:spPr>
            <a:xfrm flipV="1">
              <a:off x="2494080" y="2521080"/>
              <a:ext cx="1440" cy="141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25680" y="239220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86" y="85"/>
                  </a:moveTo>
                  <a:lnTo>
                    <a:pt x="43" y="0"/>
                  </a:lnTo>
                  <a:lnTo>
                    <a:pt x="0" y="85"/>
                  </a:lnTo>
                  <a:lnTo>
                    <a:pt x="8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3289320" y="2271600"/>
            <a:ext cx="1440" cy="114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54440" y="2971800"/>
            <a:ext cx="81000" cy="6480"/>
          </a:xfrm>
          <a:custGeom>
            <a:avLst/>
            <a:gdLst/>
            <a:ahLst/>
            <a:rect l="l" t="t" r="r" b="b"/>
            <a:pathLst>
              <a:path w="70" h="4">
                <a:moveTo>
                  <a:pt x="70" y="4"/>
                </a:moveTo>
                <a:lnTo>
                  <a:pt x="35" y="4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95560" y="2093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93480" y="1901880"/>
            <a:ext cx="12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16960" y="19018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35280" y="3035160"/>
            <a:ext cx="98280" cy="444600"/>
          </a:xfrm>
          <a:custGeom>
            <a:avLst/>
            <a:gdLst/>
            <a:ahLst/>
            <a:rect l="l" t="t" r="r" b="b"/>
            <a:pathLst>
              <a:path w="62" h="280">
                <a:moveTo>
                  <a:pt x="0" y="69"/>
                </a:moveTo>
                <a:lnTo>
                  <a:pt x="15" y="69"/>
                </a:lnTo>
                <a:lnTo>
                  <a:pt x="15" y="280"/>
                </a:lnTo>
                <a:lnTo>
                  <a:pt x="46" y="280"/>
                </a:lnTo>
                <a:lnTo>
                  <a:pt x="46" y="69"/>
                </a:lnTo>
                <a:lnTo>
                  <a:pt x="62" y="69"/>
                </a:lnTo>
                <a:lnTo>
                  <a:pt x="31" y="0"/>
                </a:lnTo>
                <a:lnTo>
                  <a:pt x="0" y="69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35280" y="3602160"/>
            <a:ext cx="98280" cy="282600"/>
          </a:xfrm>
          <a:custGeom>
            <a:avLst/>
            <a:gdLst/>
            <a:ahLst/>
            <a:rect l="l" t="t" r="r" b="b"/>
            <a:pathLst>
              <a:path w="62" h="178">
                <a:moveTo>
                  <a:pt x="0" y="44"/>
                </a:moveTo>
                <a:lnTo>
                  <a:pt x="15" y="44"/>
                </a:lnTo>
                <a:lnTo>
                  <a:pt x="15" y="178"/>
                </a:lnTo>
                <a:lnTo>
                  <a:pt x="46" y="178"/>
                </a:lnTo>
                <a:lnTo>
                  <a:pt x="46" y="44"/>
                </a:lnTo>
                <a:lnTo>
                  <a:pt x="62" y="44"/>
                </a:lnTo>
                <a:lnTo>
                  <a:pt x="31" y="0"/>
                </a:lnTo>
                <a:lnTo>
                  <a:pt x="0" y="4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7960" y="3929040"/>
            <a:ext cx="106200" cy="436680"/>
          </a:xfrm>
          <a:custGeom>
            <a:avLst/>
            <a:gdLst/>
            <a:ahLst/>
            <a:rect l="l" t="t" r="r" b="b"/>
            <a:pathLst>
              <a:path w="67" h="275">
                <a:moveTo>
                  <a:pt x="0" y="206"/>
                </a:moveTo>
                <a:lnTo>
                  <a:pt x="20" y="206"/>
                </a:lnTo>
                <a:lnTo>
                  <a:pt x="20" y="0"/>
                </a:lnTo>
                <a:lnTo>
                  <a:pt x="51" y="0"/>
                </a:lnTo>
                <a:lnTo>
                  <a:pt x="51" y="206"/>
                </a:lnTo>
                <a:lnTo>
                  <a:pt x="67" y="206"/>
                </a:lnTo>
                <a:lnTo>
                  <a:pt x="35" y="275"/>
                </a:lnTo>
                <a:lnTo>
                  <a:pt x="0" y="206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7960" y="3517920"/>
            <a:ext cx="106200" cy="282600"/>
          </a:xfrm>
          <a:custGeom>
            <a:avLst/>
            <a:gdLst/>
            <a:ahLst/>
            <a:rect l="l" t="t" r="r" b="b"/>
            <a:pathLst>
              <a:path w="67" h="178">
                <a:moveTo>
                  <a:pt x="0" y="134"/>
                </a:moveTo>
                <a:lnTo>
                  <a:pt x="20" y="134"/>
                </a:lnTo>
                <a:lnTo>
                  <a:pt x="20" y="0"/>
                </a:lnTo>
                <a:lnTo>
                  <a:pt x="51" y="0"/>
                </a:lnTo>
                <a:lnTo>
                  <a:pt x="51" y="134"/>
                </a:lnTo>
                <a:lnTo>
                  <a:pt x="67" y="134"/>
                </a:lnTo>
                <a:lnTo>
                  <a:pt x="35" y="178"/>
                </a:lnTo>
                <a:lnTo>
                  <a:pt x="0" y="13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778120" y="2212920"/>
            <a:ext cx="2376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59040" y="2193840"/>
            <a:ext cx="61920" cy="5724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2425680" y="1949400"/>
            <a:ext cx="136440" cy="269640"/>
            <a:chOff x="2425680" y="1949400"/>
            <a:chExt cx="136440" cy="269640"/>
          </a:xfrm>
        </p:grpSpPr>
        <p:sp>
          <p:nvSpPr>
            <p:cNvPr id="986" name=""/>
            <p:cNvSpPr/>
            <p:nvPr/>
          </p:nvSpPr>
          <p:spPr>
            <a:xfrm>
              <a:off x="2494080" y="1949400"/>
              <a:ext cx="1440" cy="141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25680" y="20840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0" y="0"/>
                  </a:moveTo>
                  <a:lnTo>
                    <a:pt x="43" y="85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298400" y="5105520"/>
            <a:ext cx="83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0" i="1" lang="es-ES_tradnl" sz="2800" spc="-1" strike="noStrike">
                <a:solidFill>
                  <a:srgbClr val="008000"/>
                </a:solidFill>
                <a:latin typeface="Times New Roman"/>
              </a:rPr>
              <a:t>z</a:t>
            </a:r>
            <a:r>
              <a:rPr b="0" i="1" lang="es-ES_tradnl" sz="2800" spc="-1" strike="noStrike" baseline="-25000">
                <a:solidFill>
                  <a:srgbClr val="008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834720" y="2004480"/>
            <a:ext cx="154800" cy="289080"/>
            <a:chOff x="3834720" y="2004480"/>
            <a:chExt cx="154800" cy="289080"/>
          </a:xfrm>
        </p:grpSpPr>
        <p:grpSp>
          <p:nvGrpSpPr>
            <p:cNvPr id="990" name=""/>
            <p:cNvGrpSpPr/>
            <p:nvPr/>
          </p:nvGrpSpPr>
          <p:grpSpPr>
            <a:xfrm>
              <a:off x="3885480" y="2004480"/>
              <a:ext cx="85320" cy="85320"/>
              <a:chOff x="3885480" y="2004480"/>
              <a:chExt cx="85320" cy="8532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890520" y="2008080"/>
                <a:ext cx="76680" cy="76680"/>
                <a:chOff x="3890520" y="2008080"/>
                <a:chExt cx="76680" cy="76680"/>
              </a:xfrm>
            </p:grpSpPr>
            <p:sp>
              <p:nvSpPr>
                <p:cNvPr id="992" name=""/>
                <p:cNvSpPr/>
                <p:nvPr/>
              </p:nvSpPr>
              <p:spPr>
                <a:xfrm rot="351600">
                  <a:off x="3893760" y="2011320"/>
                  <a:ext cx="69840" cy="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351600">
                  <a:off x="3901680" y="2020320"/>
                  <a:ext cx="4752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351600">
                  <a:off x="3916080" y="2032920"/>
                  <a:ext cx="20520" cy="2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 rot="351600">
                <a:off x="3889080" y="2008080"/>
                <a:ext cx="77760" cy="7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3834720" y="2077920"/>
              <a:ext cx="154800" cy="215640"/>
              <a:chOff x="3834720" y="2077920"/>
              <a:chExt cx="154800" cy="2156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3835080" y="2077920"/>
                <a:ext cx="150840" cy="212760"/>
                <a:chOff x="3835080" y="2077920"/>
                <a:chExt cx="150840" cy="212760"/>
              </a:xfrm>
            </p:grpSpPr>
            <p:sp>
              <p:nvSpPr>
                <p:cNvPr id="998" name=""/>
                <p:cNvSpPr/>
                <p:nvPr/>
              </p:nvSpPr>
              <p:spPr>
                <a:xfrm rot="351600">
                  <a:off x="3845160" y="2077920"/>
                  <a:ext cx="122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351600">
                  <a:off x="3857400" y="207936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351600">
                  <a:off x="3870000" y="2080800"/>
                  <a:ext cx="1368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351600">
                  <a:off x="3884040" y="208224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351600">
                  <a:off x="3897000" y="2083320"/>
                  <a:ext cx="122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351600">
                  <a:off x="3909600" y="2084760"/>
                  <a:ext cx="122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351600">
                  <a:off x="3922200" y="2085840"/>
                  <a:ext cx="122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351600">
                  <a:off x="3934440" y="2087280"/>
                  <a:ext cx="140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351600">
                  <a:off x="3948840" y="2088720"/>
                  <a:ext cx="122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351600">
                  <a:off x="3961440" y="209016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rot="351600">
                  <a:off x="3974400" y="2090520"/>
                  <a:ext cx="108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 rot="351600">
                <a:off x="3844800" y="2084040"/>
                <a:ext cx="134640" cy="203040"/>
              </a:xfrm>
              <a:prstGeom prst="rect">
                <a:avLst/>
              </a:prstGeom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10800000"/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4610160" y="3122640"/>
            <a:ext cx="69840" cy="698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09080" y="2065320"/>
            <a:ext cx="4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hysical concept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476360" y="1676520"/>
            <a:ext cx="7058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urrent and Magnetic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6c806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, resistance,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6c806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hm´s law, Kirchhoff’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6c806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w of electromagnetic i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Mechanics of Rigid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Bo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e of mass, t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 of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flipH="1">
            <a:off x="1979280" y="3971880"/>
            <a:ext cx="2554200" cy="8492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000680" y="3975120"/>
            <a:ext cx="2180880" cy="72072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ohm (Kelv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5600" y="4699080"/>
            <a:ext cx="167004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00400" y="1268280"/>
            <a:ext cx="3581280" cy="4980240"/>
            <a:chOff x="3200400" y="1268280"/>
            <a:chExt cx="3581280" cy="4980240"/>
          </a:xfrm>
        </p:grpSpPr>
        <p:sp>
          <p:nvSpPr>
            <p:cNvPr id="109" name=""/>
            <p:cNvSpPr/>
            <p:nvPr/>
          </p:nvSpPr>
          <p:spPr>
            <a:xfrm>
              <a:off x="4535640" y="1268280"/>
              <a:ext cx="0" cy="4599000"/>
            </a:xfrm>
            <a:prstGeom prst="line">
              <a:avLst/>
            </a:prstGeom>
            <a:ln w="936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5400000">
              <a:off x="4464720" y="1397880"/>
              <a:ext cx="137880" cy="68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0" y="6218"/>
                  </a:moveTo>
                  <a:arcTo wR="10800" hR="10800" stAng="-9293871" swAng="18979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0" y="6218"/>
                  </a:moveTo>
                  <a:arcTo wR="10800" hR="10800" stAng="-9293871" swAng="18979085"/>
                </a:path>
              </a:pathLst>
            </a:custGeom>
            <a:noFill/>
            <a:ln w="1908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3975120"/>
              <a:ext cx="22096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0000" y="3886200"/>
              <a:ext cx="327240" cy="171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200400" y="1679400"/>
              <a:ext cx="2653920" cy="4569120"/>
              <a:chOff x="3200400" y="1679400"/>
              <a:chExt cx="2653920" cy="4569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535640" y="58672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7080" y="167940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3200400" y="2057040"/>
                <a:ext cx="2653920" cy="3809880"/>
                <a:chOff x="3200400" y="2057040"/>
                <a:chExt cx="2653920" cy="3809880"/>
              </a:xfrm>
            </p:grpSpPr>
            <p:sp>
              <p:nvSpPr>
                <p:cNvPr id="117" name=""/>
                <p:cNvSpPr/>
                <p:nvPr/>
              </p:nvSpPr>
              <p:spPr>
                <a:xfrm rot="16200000">
                  <a:off x="2514240" y="2743200"/>
                  <a:ext cx="3809880" cy="243756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6200000">
                  <a:off x="2568240" y="2743200"/>
                  <a:ext cx="3809880" cy="243756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6200000">
                  <a:off x="2622240" y="2743200"/>
                  <a:ext cx="3809880" cy="24372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6200000">
                  <a:off x="2676600" y="2743200"/>
                  <a:ext cx="3809880" cy="243756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6200000">
                  <a:off x="2730600" y="2743200"/>
                  <a:ext cx="3809880" cy="243720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" name=""/>
          <p:cNvGrpSpPr/>
          <p:nvPr/>
        </p:nvGrpSpPr>
        <p:grpSpPr>
          <a:xfrm>
            <a:off x="2203560" y="4005360"/>
            <a:ext cx="455040" cy="510120"/>
            <a:chOff x="2203560" y="4005360"/>
            <a:chExt cx="455040" cy="510120"/>
          </a:xfrm>
        </p:grpSpPr>
        <p:sp>
          <p:nvSpPr>
            <p:cNvPr id="123" name=""/>
            <p:cNvSpPr/>
            <p:nvPr/>
          </p:nvSpPr>
          <p:spPr>
            <a:xfrm>
              <a:off x="2203560" y="40053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36760" y="407844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894920" y="131616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285640" y="3975120"/>
            <a:ext cx="2252520" cy="74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48240" y="3357720"/>
            <a:ext cx="2139120" cy="617400"/>
            <a:chOff x="4548240" y="3357720"/>
            <a:chExt cx="2139120" cy="617400"/>
          </a:xfrm>
        </p:grpSpPr>
        <p:sp>
          <p:nvSpPr>
            <p:cNvPr id="128" name=""/>
            <p:cNvSpPr/>
            <p:nvPr/>
          </p:nvSpPr>
          <p:spPr>
            <a:xfrm>
              <a:off x="4548240" y="3975120"/>
              <a:ext cx="1055520" cy="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947200" y="3357720"/>
              <a:ext cx="740160" cy="510120"/>
              <a:chOff x="5947200" y="3357720"/>
              <a:chExt cx="740160" cy="510120"/>
            </a:xfrm>
          </p:grpSpPr>
          <p:sp>
            <p:nvSpPr>
              <p:cNvPr id="130" name=""/>
              <p:cNvSpPr/>
              <p:nvPr/>
            </p:nvSpPr>
            <p:spPr>
              <a:xfrm>
                <a:off x="5947200" y="3357720"/>
                <a:ext cx="74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</a:t>
                </a:r>
                <a:r>
                  <a:rPr b="0" lang="en-US" sz="24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s-ES" sz="2400" spc="-1" strike="noStrike">
                    <a:solidFill>
                      <a:srgbClr val="003399"/>
                    </a:solidFill>
                    <a:latin typeface="Times New Roman"/>
                  </a:rPr>
                  <a:t>B</a:t>
                </a:r>
                <a:r>
                  <a:rPr b="0" i="1" lang="es-ES" sz="2400" spc="-1" strike="noStrike" baseline="-25000">
                    <a:solidFill>
                      <a:srgbClr val="003399"/>
                    </a:solidFill>
                    <a:latin typeface="Times New Roman"/>
                  </a:rPr>
                  <a:t>i </a:t>
                </a:r>
                <a:r>
                  <a:rPr b="0" lang="es-ES" sz="24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21520" y="3437280"/>
                <a:ext cx="20628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867280" y="3975120"/>
              <a:ext cx="346320" cy="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117240" y="3562920"/>
            <a:ext cx="2788560" cy="1389960"/>
            <a:chOff x="3117240" y="3562920"/>
            <a:chExt cx="2788560" cy="1389960"/>
          </a:xfrm>
        </p:grpSpPr>
        <p:grpSp>
          <p:nvGrpSpPr>
            <p:cNvPr id="134" name=""/>
            <p:cNvGrpSpPr/>
            <p:nvPr/>
          </p:nvGrpSpPr>
          <p:grpSpPr>
            <a:xfrm>
              <a:off x="3117240" y="3562920"/>
              <a:ext cx="2788560" cy="1389960"/>
              <a:chOff x="3117240" y="3562920"/>
              <a:chExt cx="2788560" cy="138996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3795840" y="3962520"/>
                <a:ext cx="761760" cy="990360"/>
              </a:xfrm>
              <a:prstGeom prst="line">
                <a:avLst/>
              </a:prstGeom>
              <a:ln w="19080">
                <a:solidFill>
                  <a:srgbClr val="cc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117240" y="3562920"/>
                <a:ext cx="2788560" cy="81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14" y="2398"/>
                    </a:moveTo>
                    <a:arcTo wR="10800" hR="10800" stAng="-7735648" swAng="16160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14" y="2398"/>
                    </a:moveTo>
                    <a:arcTo wR="10800" hR="10800" stAng="-7735648" swAng="1616010"/>
                  </a:path>
                </a:pathLst>
              </a:cu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84600" y="4254480"/>
                <a:ext cx="33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cc0000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393440" y="3726360"/>
              <a:ext cx="316800" cy="479880"/>
              <a:chOff x="4393440" y="3726360"/>
              <a:chExt cx="316800" cy="479880"/>
            </a:xfrm>
          </p:grpSpPr>
          <p:sp>
            <p:nvSpPr>
              <p:cNvPr id="139" name=""/>
              <p:cNvSpPr/>
              <p:nvPr/>
            </p:nvSpPr>
            <p:spPr>
              <a:xfrm rot="488400">
                <a:off x="4439880" y="3743280"/>
                <a:ext cx="255600" cy="222120"/>
              </a:xfrm>
              <a:prstGeom prst="triangle">
                <a:avLst>
                  <a:gd name="adj" fmla="val 10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 rot="488400">
                <a:off x="4407480" y="3966840"/>
                <a:ext cx="255600" cy="222120"/>
              </a:xfrm>
              <a:prstGeom prst="triangle">
                <a:avLst>
                  <a:gd name="adj" fmla="val 10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918520" y="21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58920" y="1341360"/>
            <a:ext cx="6781680" cy="4953240"/>
            <a:chOff x="1258920" y="1341360"/>
            <a:chExt cx="6781680" cy="4953240"/>
          </a:xfrm>
        </p:grpSpPr>
        <p:grpSp>
          <p:nvGrpSpPr>
            <p:cNvPr id="143" name=""/>
            <p:cNvGrpSpPr/>
            <p:nvPr/>
          </p:nvGrpSpPr>
          <p:grpSpPr>
            <a:xfrm>
              <a:off x="1258920" y="2573280"/>
              <a:ext cx="6781680" cy="3111480"/>
              <a:chOff x="1258920" y="2573280"/>
              <a:chExt cx="6781680" cy="31114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258920" y="2573280"/>
                <a:ext cx="6781680" cy="3111480"/>
                <a:chOff x="1258920" y="2573280"/>
                <a:chExt cx="6781680" cy="31114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258920" y="2573280"/>
                  <a:ext cx="6781680" cy="28576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58920" y="2636640"/>
                  <a:ext cx="6781680" cy="28576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58920" y="2700360"/>
                  <a:ext cx="6781680" cy="285732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58920" y="2763720"/>
                  <a:ext cx="6781680" cy="28576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8920" y="2827440"/>
                  <a:ext cx="6781680" cy="285732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 flipV="1">
                <a:off x="6084720" y="5290920"/>
                <a:ext cx="25560" cy="46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468160" y="1341360"/>
              <a:ext cx="4074480" cy="4953240"/>
              <a:chOff x="2468160" y="1341360"/>
              <a:chExt cx="4074480" cy="495324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2928240" y="2179800"/>
                <a:ext cx="3429000" cy="4114800"/>
                <a:chOff x="2928240" y="2179800"/>
                <a:chExt cx="3429000" cy="4114800"/>
              </a:xfrm>
            </p:grpSpPr>
            <p:sp>
              <p:nvSpPr>
                <p:cNvPr id="153" name=""/>
                <p:cNvSpPr/>
                <p:nvPr/>
              </p:nvSpPr>
              <p:spPr>
                <a:xfrm rot="5400000">
                  <a:off x="3975840" y="2421000"/>
                  <a:ext cx="1333440" cy="342900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649760" y="2179800"/>
                  <a:ext cx="0" cy="194328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649760" y="4808520"/>
                  <a:ext cx="0" cy="58428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649760" y="5710680"/>
                  <a:ext cx="0" cy="58392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468160" y="1341360"/>
                <a:ext cx="4074480" cy="3511800"/>
                <a:chOff x="2468160" y="1341360"/>
                <a:chExt cx="4074480" cy="3511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49760" y="1341360"/>
                  <a:ext cx="0" cy="281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2468160" y="4132800"/>
                  <a:ext cx="2175480" cy="72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45440" y="4132440"/>
                  <a:ext cx="1897200" cy="62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ohm (Rayleigh, Sidgwi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4298760" y="2979720"/>
            <a:ext cx="762120" cy="2311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8320" y="1562040"/>
            <a:ext cx="0" cy="596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4520" y="39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02880" y="39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141800" y="1341360"/>
            <a:ext cx="366480" cy="459720"/>
            <a:chOff x="4141800" y="1341360"/>
            <a:chExt cx="366480" cy="459720"/>
          </a:xfrm>
        </p:grpSpPr>
        <p:sp>
          <p:nvSpPr>
            <p:cNvPr id="167" name=""/>
            <p:cNvSpPr/>
            <p:nvPr/>
          </p:nvSpPr>
          <p:spPr>
            <a:xfrm>
              <a:off x="4141800" y="1341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86868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30720" y="1414440"/>
              <a:ext cx="206280" cy="0"/>
            </a:xfrm>
            <a:prstGeom prst="line">
              <a:avLst/>
            </a:prstGeom>
            <a:ln w="9360">
              <a:solidFill>
                <a:srgbClr val="868686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005800" y="17002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01800" y="4221000"/>
            <a:ext cx="1149120" cy="465480"/>
            <a:chOff x="2701800" y="4221000"/>
            <a:chExt cx="1149120" cy="465480"/>
          </a:xfrm>
        </p:grpSpPr>
        <p:sp>
          <p:nvSpPr>
            <p:cNvPr id="171" name=""/>
            <p:cNvSpPr/>
            <p:nvPr/>
          </p:nvSpPr>
          <p:spPr>
            <a:xfrm flipH="1">
              <a:off x="2971440" y="4389480"/>
              <a:ext cx="879480" cy="297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701800" y="4221000"/>
              <a:ext cx="366480" cy="459720"/>
              <a:chOff x="2701800" y="4221000"/>
              <a:chExt cx="366480" cy="459720"/>
            </a:xfrm>
          </p:grpSpPr>
          <p:sp>
            <p:nvSpPr>
              <p:cNvPr id="173" name=""/>
              <p:cNvSpPr/>
              <p:nvPr/>
            </p:nvSpPr>
            <p:spPr>
              <a:xfrm>
                <a:off x="2701800" y="42210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400" spc="-1" strike="noStrike">
                    <a:solidFill>
                      <a:srgbClr val="cc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90720" y="4294080"/>
                <a:ext cx="20592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3851280" y="4392720"/>
            <a:ext cx="658800" cy="575640"/>
            <a:chOff x="3851280" y="4392720"/>
            <a:chExt cx="658800" cy="575640"/>
          </a:xfrm>
        </p:grpSpPr>
        <p:sp>
          <p:nvSpPr>
            <p:cNvPr id="176" name=""/>
            <p:cNvSpPr/>
            <p:nvPr/>
          </p:nvSpPr>
          <p:spPr>
            <a:xfrm>
              <a:off x="3851280" y="4392720"/>
              <a:ext cx="658800" cy="21744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068360" y="4508640"/>
              <a:ext cx="316440" cy="459720"/>
              <a:chOff x="4068360" y="4508640"/>
              <a:chExt cx="316440" cy="459720"/>
            </a:xfrm>
          </p:grpSpPr>
          <p:sp>
            <p:nvSpPr>
              <p:cNvPr id="178" name=""/>
              <p:cNvSpPr/>
              <p:nvPr/>
            </p:nvSpPr>
            <p:spPr>
              <a:xfrm>
                <a:off x="4068360" y="45086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4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32080" y="4653000"/>
                <a:ext cx="2066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5798880" y="4843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868686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39040" y="1693800"/>
            <a:ext cx="1669680" cy="459720"/>
            <a:chOff x="6539040" y="1693800"/>
            <a:chExt cx="1669680" cy="459720"/>
          </a:xfrm>
        </p:grpSpPr>
        <p:sp>
          <p:nvSpPr>
            <p:cNvPr id="182" name=""/>
            <p:cNvSpPr/>
            <p:nvPr/>
          </p:nvSpPr>
          <p:spPr>
            <a:xfrm>
              <a:off x="6539040" y="1693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cc0000"/>
                  </a:solidFill>
                  <a:latin typeface="Times New Roman"/>
                </a:rPr>
                <a:t>F = q v </a:t>
              </a:r>
              <a:r>
                <a:rPr b="0" lang="es-E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</a:t>
              </a: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i="1" lang="es-E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83400" y="1773360"/>
              <a:ext cx="2062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2680" y="1844640"/>
              <a:ext cx="2062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07400" y="1773360"/>
              <a:ext cx="2062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 rot="5400000">
            <a:off x="4538520" y="1568160"/>
            <a:ext cx="2160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" y="6218"/>
                </a:moveTo>
                <a:arcTo wR="10800" hR="10800" stAng="-9293871" swAng="18979085"/>
                <a:lnTo>
                  <a:pt x="10800" y="10800"/>
                </a:lnTo>
                <a:close/>
              </a:path>
              <a:path fill="none" w="21600" h="21600">
                <a:moveTo>
                  <a:pt x="1020" y="6218"/>
                </a:moveTo>
                <a:arcTo wR="10800" hR="10800" stAng="-9293871" swAng="18979085"/>
              </a:path>
            </a:pathLst>
          </a:custGeom>
          <a:noFill/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4351320"/>
            <a:ext cx="76320" cy="76320"/>
          </a:xfrm>
          <a:prstGeom prst="ellipse">
            <a:avLst/>
          </a:prstGeom>
          <a:solidFill>
            <a:srgbClr val="f6c806"/>
          </a:solidFill>
          <a:ln w="9360">
            <a:solidFill>
              <a:srgbClr val="f6c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ohm (Rayleigh, Sidgwi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58920" y="1341360"/>
            <a:ext cx="7227360" cy="4952880"/>
            <a:chOff x="1258920" y="1341360"/>
            <a:chExt cx="7227360" cy="4952880"/>
          </a:xfrm>
        </p:grpSpPr>
        <p:grpSp>
          <p:nvGrpSpPr>
            <p:cNvPr id="190" name=""/>
            <p:cNvGrpSpPr/>
            <p:nvPr/>
          </p:nvGrpSpPr>
          <p:grpSpPr>
            <a:xfrm>
              <a:off x="1258920" y="2573280"/>
              <a:ext cx="6781680" cy="3111480"/>
              <a:chOff x="1258920" y="2573280"/>
              <a:chExt cx="6781680" cy="31114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258920" y="2573280"/>
                <a:ext cx="6781680" cy="3111480"/>
                <a:chOff x="1258920" y="2573280"/>
                <a:chExt cx="6781680" cy="3111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258920" y="2573280"/>
                  <a:ext cx="6781680" cy="28576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58920" y="2636640"/>
                  <a:ext cx="6781680" cy="28576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58920" y="2700360"/>
                  <a:ext cx="6781680" cy="285732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58920" y="2763720"/>
                  <a:ext cx="6781680" cy="285768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58920" y="2827440"/>
                  <a:ext cx="6781680" cy="2857320"/>
                </a:xfrm>
                <a:prstGeom prst="ellipse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6084720" y="5290920"/>
                <a:ext cx="25560" cy="46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928600" y="2179440"/>
              <a:ext cx="3429000" cy="4114800"/>
              <a:chOff x="2928600" y="2179440"/>
              <a:chExt cx="3429000" cy="4114800"/>
            </a:xfrm>
          </p:grpSpPr>
          <p:sp>
            <p:nvSpPr>
              <p:cNvPr id="199" name=""/>
              <p:cNvSpPr/>
              <p:nvPr/>
            </p:nvSpPr>
            <p:spPr>
              <a:xfrm rot="5400000">
                <a:off x="3976200" y="2420640"/>
                <a:ext cx="1333440" cy="3429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4649760" y="2179440"/>
                <a:ext cx="0" cy="19429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4649760" y="4808160"/>
                <a:ext cx="0" cy="5842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4649760" y="5709960"/>
                <a:ext cx="0" cy="5842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649760" y="1341360"/>
              <a:ext cx="0" cy="28195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74520" y="39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2880" y="3933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5800" y="1700280"/>
              <a:ext cx="3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8880" y="4843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86868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5400000">
              <a:off x="4538520" y="1568160"/>
              <a:ext cx="216000" cy="68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0" y="6218"/>
                  </a:moveTo>
                  <a:arcTo wR="10800" hR="10800" stAng="-9293871" swAng="18979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0" y="6218"/>
                  </a:moveTo>
                  <a:arcTo wR="10800" hR="10800" stAng="-9293871" swAng="18979085"/>
                </a:path>
              </a:pathLst>
            </a:custGeom>
            <a:noFill/>
            <a:ln w="1908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107880" y="3265560"/>
              <a:ext cx="3021480" cy="1831320"/>
              <a:chOff x="3107880" y="3265560"/>
              <a:chExt cx="3021480" cy="1831320"/>
            </a:xfrm>
          </p:grpSpPr>
          <p:sp>
            <p:nvSpPr>
              <p:cNvPr id="210" name=""/>
              <p:cNvSpPr/>
              <p:nvPr/>
            </p:nvSpPr>
            <p:spPr>
              <a:xfrm>
                <a:off x="4403160" y="37990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47600" y="37990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107880" y="3265560"/>
                <a:ext cx="3021480" cy="1831320"/>
                <a:chOff x="3107880" y="3265560"/>
                <a:chExt cx="3021480" cy="18313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164920" y="4637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564720" y="32655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774760" y="3341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107880" y="43642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631760" y="39513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cc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11080" y="39513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cc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944880" y="1427040"/>
            <a:ext cx="4292280" cy="3152520"/>
            <a:chOff x="3944880" y="1427040"/>
            <a:chExt cx="4292280" cy="3152520"/>
          </a:xfrm>
        </p:grpSpPr>
        <p:sp>
          <p:nvSpPr>
            <p:cNvPr id="220" name=""/>
            <p:cNvSpPr/>
            <p:nvPr/>
          </p:nvSpPr>
          <p:spPr>
            <a:xfrm rot="655800">
              <a:off x="6843240" y="3033360"/>
              <a:ext cx="319680" cy="45000"/>
            </a:xfrm>
            <a:prstGeom prst="rect">
              <a:avLst/>
            </a:prstGeom>
            <a:solidFill>
              <a:srgbClr val="333333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68240" y="266652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43040" y="265680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6200000">
              <a:off x="5215680" y="2620080"/>
              <a:ext cx="532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0480"/>
                  </a:moveTo>
                  <a:arcTo wR="10800" hR="10800" stAng="-10698094" swAng="10698094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0480"/>
                  </a:moveTo>
                  <a:arcTo wR="10800" hR="10800" stAng="-10698094" swAng="10698094"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1800" y="2402640"/>
              <a:ext cx="94140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6240" y="2392920"/>
              <a:ext cx="94140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1040" y="2383560"/>
              <a:ext cx="94140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66200" y="2373840"/>
              <a:ext cx="94068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41000" y="2364120"/>
              <a:ext cx="940680" cy="1431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655800">
              <a:off x="4769640" y="2547720"/>
              <a:ext cx="319680" cy="45000"/>
            </a:xfrm>
            <a:prstGeom prst="rect">
              <a:avLst/>
            </a:prstGeom>
            <a:solidFill>
              <a:srgbClr val="333333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68240" y="266652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43040" y="2656800"/>
              <a:ext cx="119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6200000">
              <a:off x="5215680" y="2620080"/>
              <a:ext cx="532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0480"/>
                  </a:moveTo>
                  <a:arcTo wR="10800" hR="10800" stAng="-10698094" swAng="10698094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0480"/>
                  </a:moveTo>
                  <a:arcTo wR="10800" hR="10800" stAng="-10698094" swAng="10698094"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9640" y="1931760"/>
              <a:ext cx="941400" cy="14310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44440" y="1922400"/>
              <a:ext cx="94140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8880" y="1912680"/>
              <a:ext cx="94140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94400" y="1903320"/>
              <a:ext cx="94068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893600"/>
              <a:ext cx="940680" cy="1430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12520" y="2223000"/>
              <a:ext cx="221760" cy="57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5" y="16020"/>
                  </a:moveTo>
                  <a:arcTo wR="10800" hR="10800" stAng="1734322" swAng="124850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5" y="16020"/>
                  </a:moveTo>
                  <a:arcTo wR="10800" hR="10800" stAng="1734322" swAng="12485070"/>
                </a:path>
              </a:pathLst>
            </a:custGeom>
            <a:noFill/>
            <a:ln w="32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091480" y="1427040"/>
              <a:ext cx="0" cy="46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93640" y="1429560"/>
              <a:ext cx="2049480" cy="4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144200" y="1839960"/>
              <a:ext cx="216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86600" y="2322360"/>
              <a:ext cx="354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 rot="525600">
              <a:off x="5214960" y="2246040"/>
              <a:ext cx="687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02"/>
                  </a:moveTo>
                  <a:arcTo wR="10800" hR="10800" stAng="-10641385" swAng="106413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02"/>
                  </a:moveTo>
                  <a:arcTo wR="10800" hR="10800" stAng="-10641385" swAng="106413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639040" y="1544760"/>
              <a:ext cx="288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558480" y="1717920"/>
              <a:ext cx="0" cy="90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557760" y="2630160"/>
              <a:ext cx="24732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4200">
              <a:off x="5937840" y="1529280"/>
              <a:ext cx="559440" cy="2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893920" y="1548720"/>
              <a:ext cx="622800" cy="196920"/>
              <a:chOff x="5893920" y="1548720"/>
              <a:chExt cx="622800" cy="1969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5955120" y="1548720"/>
                <a:ext cx="96120" cy="135720"/>
                <a:chOff x="5955120" y="1548720"/>
                <a:chExt cx="96120" cy="13572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5955120" y="1548720"/>
                  <a:ext cx="6840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6023520" y="1548720"/>
                  <a:ext cx="27720" cy="13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>
                <a:off x="6051600" y="1564200"/>
                <a:ext cx="6840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6120000" y="1564200"/>
                <a:ext cx="2736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6147360" y="1579320"/>
                <a:ext cx="96120" cy="135720"/>
                <a:chOff x="6147360" y="1579320"/>
                <a:chExt cx="96120" cy="135720"/>
              </a:xfrm>
            </p:grpSpPr>
            <p:sp>
              <p:nvSpPr>
                <p:cNvPr id="255" name=""/>
                <p:cNvSpPr/>
                <p:nvPr/>
              </p:nvSpPr>
              <p:spPr>
                <a:xfrm flipH="1">
                  <a:off x="6147360" y="1579320"/>
                  <a:ext cx="6840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>
                  <a:off x="6215760" y="1579320"/>
                  <a:ext cx="27720" cy="13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H="1">
                <a:off x="6243480" y="1594800"/>
                <a:ext cx="6840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6311880" y="1594800"/>
                <a:ext cx="2772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6147360" y="1579320"/>
                <a:ext cx="96120" cy="135720"/>
                <a:chOff x="6147360" y="1579320"/>
                <a:chExt cx="96120" cy="13572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6147360" y="1579320"/>
                  <a:ext cx="6840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6215760" y="1579320"/>
                  <a:ext cx="27720" cy="13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339600" y="1609920"/>
                <a:ext cx="95760" cy="135720"/>
                <a:chOff x="6339600" y="1609920"/>
                <a:chExt cx="95760" cy="135720"/>
              </a:xfrm>
            </p:grpSpPr>
            <p:sp>
              <p:nvSpPr>
                <p:cNvPr id="263" name=""/>
                <p:cNvSpPr/>
                <p:nvPr/>
              </p:nvSpPr>
              <p:spPr>
                <a:xfrm flipH="1">
                  <a:off x="6339600" y="1609920"/>
                  <a:ext cx="6840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08000" y="1609920"/>
                  <a:ext cx="27360" cy="13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H="1" flipV="1">
                <a:off x="5942880" y="1606320"/>
                <a:ext cx="12600" cy="6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93920" y="1599120"/>
                <a:ext cx="5040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436080" y="1690200"/>
                <a:ext cx="3168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6465960" y="1690560"/>
                <a:ext cx="507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6391800" y="1985760"/>
              <a:ext cx="3355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79920" y="2022480"/>
              <a:ext cx="3571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8480" y="3695040"/>
              <a:ext cx="2114640" cy="4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296320" y="3363120"/>
              <a:ext cx="0" cy="33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416000" y="381528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34240" y="2829960"/>
              <a:ext cx="40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6400" y="2107800"/>
              <a:ext cx="5594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1877400"/>
              <a:ext cx="3312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7640" y="2346840"/>
              <a:ext cx="3312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79400" y="3332160"/>
              <a:ext cx="3312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9080" y="3793320"/>
              <a:ext cx="3312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4800" y="1677240"/>
              <a:ext cx="9756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37120" y="1609200"/>
              <a:ext cx="75960" cy="34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6907680" y="1700280"/>
              <a:ext cx="72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837840" y="1621800"/>
              <a:ext cx="1440" cy="33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8200" y="3017160"/>
              <a:ext cx="40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22840" y="3420720"/>
              <a:ext cx="40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'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32520" y="3305520"/>
              <a:ext cx="40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'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2498760"/>
              <a:ext cx="40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79520" y="4133160"/>
              <a:ext cx="606960" cy="44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51520" y="2384280"/>
              <a:ext cx="320040" cy="4856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3760" y="2394000"/>
              <a:ext cx="319680" cy="4856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655800">
              <a:off x="5225400" y="2793240"/>
              <a:ext cx="1533600" cy="45720"/>
            </a:xfrm>
            <a:prstGeom prst="rect">
              <a:avLst/>
            </a:prstGeom>
            <a:solidFill>
              <a:srgbClr val="333333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85560" y="2464920"/>
              <a:ext cx="5594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3680" y="2874240"/>
              <a:ext cx="319680" cy="4856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35560" y="2883600"/>
              <a:ext cx="319680" cy="4856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655800">
              <a:off x="7297560" y="3192840"/>
              <a:ext cx="761040" cy="47880"/>
            </a:xfrm>
            <a:prstGeom prst="rect">
              <a:avLst/>
            </a:prstGeom>
            <a:solidFill>
              <a:srgbClr val="333333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34840" y="3278160"/>
              <a:ext cx="2376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807600" y="2694600"/>
              <a:ext cx="144000" cy="31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6925320" y="2727360"/>
              <a:ext cx="3092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 rot="547800">
              <a:off x="7240680" y="2738880"/>
              <a:ext cx="687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02"/>
                  </a:moveTo>
                  <a:arcTo wR="10800" hR="10800" stAng="-10641385" swAng="106413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02"/>
                  </a:moveTo>
                  <a:arcTo wR="10800" hR="10800" stAng="-10641385" swAng="1064138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91640" y="3322440"/>
              <a:ext cx="4287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'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91080" y="3102840"/>
              <a:ext cx="27000" cy="5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23960" y="2612880"/>
              <a:ext cx="27000" cy="5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633600">
              <a:off x="4215240" y="2564640"/>
              <a:ext cx="46080" cy="50760"/>
            </a:xfrm>
            <a:custGeom>
              <a:avLst/>
              <a:gdLst/>
              <a:ahLst/>
              <a:rect l="l" t="t" r="r" b="b"/>
              <a:pathLst>
                <a:path w="132" h="120">
                  <a:moveTo>
                    <a:pt x="0" y="120"/>
                  </a:moveTo>
                  <a:lnTo>
                    <a:pt x="132" y="0"/>
                  </a:lnTo>
                  <a:lnTo>
                    <a:pt x="30" y="6"/>
                  </a:lnTo>
                  <a:lnTo>
                    <a:pt x="0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633600">
              <a:off x="4044960" y="2538720"/>
              <a:ext cx="185760" cy="60480"/>
            </a:xfrm>
            <a:prstGeom prst="parallelogram">
              <a:avLst>
                <a:gd name="adj" fmla="val 1658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633600">
              <a:off x="3983400" y="2231640"/>
              <a:ext cx="379440" cy="319680"/>
            </a:xfrm>
            <a:prstGeom prst="roundRect">
              <a:avLst>
                <a:gd name="adj" fmla="val 3425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633600">
              <a:off x="4318920" y="2332800"/>
              <a:ext cx="60120" cy="194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rot="634200">
              <a:off x="3961800" y="2253600"/>
              <a:ext cx="57240" cy="19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85" y="7"/>
                  </a:moveTo>
                  <a:arcTo wR="10800" hR="10800" stAng="-5277344" swAng="113156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85" y="7"/>
                  </a:moveTo>
                  <a:arcTo wR="10800" hR="10800" stAng="-5277344" swAng="11315665"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633600">
              <a:off x="4043160" y="2531880"/>
              <a:ext cx="185760" cy="59400"/>
            </a:xfrm>
            <a:prstGeom prst="parallelogram">
              <a:avLst>
                <a:gd name="adj" fmla="val 16881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633600">
              <a:off x="4155120" y="2235600"/>
              <a:ext cx="78480" cy="28440"/>
            </a:xfrm>
            <a:prstGeom prst="parallelogram">
              <a:avLst>
                <a:gd name="adj" fmla="val 363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634200">
              <a:off x="4276800" y="2296080"/>
              <a:ext cx="57240" cy="24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85" y="7"/>
                  </a:moveTo>
                  <a:arcTo wR="10800" hR="10800" stAng="-5277344" swAng="113156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85" y="7"/>
                  </a:moveTo>
                  <a:arcTo wR="10800" hR="10800" stAng="-5277344" swAng="11315665"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rot="634200">
              <a:off x="4298760" y="2301840"/>
              <a:ext cx="57240" cy="23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85" y="7"/>
                  </a:moveTo>
                  <a:arcTo wR="10800" hR="10800" stAng="-5277344" swAng="113156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85" y="7"/>
                  </a:moveTo>
                  <a:arcTo wR="10800" hR="10800" stAng="-5277344" swAng="11315665"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rot="16200000">
              <a:off x="4337640" y="2414520"/>
              <a:ext cx="532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0480"/>
                  </a:moveTo>
                  <a:arcTo wR="10800" hR="10800" stAng="-10698094" swAng="10698094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0480"/>
                  </a:moveTo>
                  <a:arcTo wR="10800" hR="10800" stAng="-10698094" swAng="10698094"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655800">
              <a:off x="4354560" y="2448360"/>
              <a:ext cx="319680" cy="45000"/>
            </a:xfrm>
            <a:prstGeom prst="rect">
              <a:avLst/>
            </a:prstGeom>
            <a:solidFill>
              <a:srgbClr val="333333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90920" y="2602440"/>
              <a:ext cx="5594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53760" y="2948040"/>
              <a:ext cx="5594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37200" y="1866600"/>
              <a:ext cx="6634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614400">
              <a:off x="4461120" y="2430360"/>
              <a:ext cx="35640" cy="65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72400" y="1680480"/>
              <a:ext cx="4284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8040" y="3544560"/>
              <a:ext cx="4284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75800" y="3891960"/>
              <a:ext cx="7452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394160" y="1150920"/>
            <a:ext cx="4254480" cy="33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07360" y="2982960"/>
            <a:ext cx="398520" cy="112680"/>
          </a:xfrm>
          <a:custGeom>
            <a:avLst/>
            <a:gdLst/>
            <a:ahLst/>
            <a:rect l="l" t="t" r="r" b="b"/>
            <a:pathLst>
              <a:path w="261" h="77">
                <a:moveTo>
                  <a:pt x="7" y="0"/>
                </a:moveTo>
                <a:lnTo>
                  <a:pt x="0" y="28"/>
                </a:lnTo>
                <a:lnTo>
                  <a:pt x="254" y="77"/>
                </a:lnTo>
                <a:lnTo>
                  <a:pt x="261" y="49"/>
                </a:lnTo>
                <a:lnTo>
                  <a:pt x="7" y="0"/>
                </a:lnTo>
                <a:close/>
              </a:path>
            </a:pathLst>
          </a:custGeom>
          <a:solidFill>
            <a:srgbClr val="333333"/>
          </a:solidFill>
          <a:ln w="30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2658960"/>
            <a:ext cx="149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43560" y="2649600"/>
            <a:ext cx="149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23040" y="2612880"/>
            <a:ext cx="29880" cy="49320"/>
          </a:xfrm>
          <a:custGeom>
            <a:avLst/>
            <a:gdLst/>
            <a:ahLst/>
            <a:rect l="l" t="t" r="r" b="b"/>
            <a:pathLst>
              <a:path w="19" h="34">
                <a:moveTo>
                  <a:pt x="19" y="0"/>
                </a:moveTo>
                <a:lnTo>
                  <a:pt x="7" y="6"/>
                </a:lnTo>
                <a:lnTo>
                  <a:pt x="3" y="9"/>
                </a:lnTo>
                <a:lnTo>
                  <a:pt x="0" y="19"/>
                </a:lnTo>
                <a:lnTo>
                  <a:pt x="3" y="25"/>
                </a:lnTo>
                <a:lnTo>
                  <a:pt x="7" y="31"/>
                </a:lnTo>
                <a:lnTo>
                  <a:pt x="19" y="34"/>
                </a:lnTo>
                <a:lnTo>
                  <a:pt x="19" y="19"/>
                </a:lnTo>
                <a:lnTo>
                  <a:pt x="19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04120" y="2403360"/>
            <a:ext cx="1168560" cy="13971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70640" y="2395440"/>
            <a:ext cx="1166760" cy="13971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43640" y="2386080"/>
            <a:ext cx="1167120" cy="139680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0520" y="2378160"/>
            <a:ext cx="1166760" cy="139680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83520" y="2368440"/>
            <a:ext cx="1162080" cy="13953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69000" y="2511360"/>
            <a:ext cx="392040" cy="115920"/>
          </a:xfrm>
          <a:custGeom>
            <a:avLst/>
            <a:gdLst/>
            <a:ahLst/>
            <a:rect l="l" t="t" r="r" b="b"/>
            <a:pathLst>
              <a:path w="257" h="79">
                <a:moveTo>
                  <a:pt x="6" y="0"/>
                </a:moveTo>
                <a:lnTo>
                  <a:pt x="0" y="30"/>
                </a:lnTo>
                <a:lnTo>
                  <a:pt x="254" y="79"/>
                </a:lnTo>
                <a:lnTo>
                  <a:pt x="257" y="49"/>
                </a:lnTo>
                <a:lnTo>
                  <a:pt x="6" y="0"/>
                </a:lnTo>
                <a:close/>
              </a:path>
            </a:pathLst>
          </a:custGeom>
          <a:solidFill>
            <a:srgbClr val="333333"/>
          </a:solidFill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75240" y="2658960"/>
            <a:ext cx="149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43560" y="2649600"/>
            <a:ext cx="149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23040" y="2612880"/>
            <a:ext cx="29880" cy="49320"/>
          </a:xfrm>
          <a:custGeom>
            <a:avLst/>
            <a:gdLst/>
            <a:ahLst/>
            <a:rect l="l" t="t" r="r" b="b"/>
            <a:pathLst>
              <a:path w="19" h="34">
                <a:moveTo>
                  <a:pt x="19" y="0"/>
                </a:moveTo>
                <a:lnTo>
                  <a:pt x="7" y="6"/>
                </a:lnTo>
                <a:lnTo>
                  <a:pt x="3" y="9"/>
                </a:lnTo>
                <a:lnTo>
                  <a:pt x="0" y="19"/>
                </a:lnTo>
                <a:lnTo>
                  <a:pt x="3" y="25"/>
                </a:lnTo>
                <a:lnTo>
                  <a:pt x="7" y="31"/>
                </a:lnTo>
                <a:lnTo>
                  <a:pt x="19" y="34"/>
                </a:lnTo>
                <a:lnTo>
                  <a:pt x="19" y="19"/>
                </a:lnTo>
                <a:lnTo>
                  <a:pt x="19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63960" y="1949400"/>
            <a:ext cx="1167120" cy="13971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6960" y="1940040"/>
            <a:ext cx="1167120" cy="13953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2040" y="1932120"/>
            <a:ext cx="1168560" cy="13953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75040" y="1922400"/>
            <a:ext cx="1162080" cy="139536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41920" y="1908000"/>
            <a:ext cx="1168200" cy="1401840"/>
          </a:xfrm>
          <a:prstGeom prst="ellipse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261040" y="1458720"/>
            <a:ext cx="1440" cy="453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7767360" y="1860480"/>
            <a:ext cx="4680" cy="525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9000" y="2319480"/>
            <a:ext cx="433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2319480"/>
            <a:ext cx="84240" cy="66600"/>
          </a:xfrm>
          <a:custGeom>
            <a:avLst/>
            <a:gdLst/>
            <a:ahLst/>
            <a:rect l="l" t="t" r="r" b="b"/>
            <a:pathLst>
              <a:path w="55" h="46">
                <a:moveTo>
                  <a:pt x="0" y="0"/>
                </a:moveTo>
                <a:lnTo>
                  <a:pt x="0" y="19"/>
                </a:lnTo>
                <a:lnTo>
                  <a:pt x="3" y="34"/>
                </a:lnTo>
                <a:lnTo>
                  <a:pt x="12" y="43"/>
                </a:lnTo>
                <a:lnTo>
                  <a:pt x="22" y="46"/>
                </a:lnTo>
                <a:lnTo>
                  <a:pt x="34" y="46"/>
                </a:lnTo>
                <a:lnTo>
                  <a:pt x="43" y="37"/>
                </a:lnTo>
                <a:lnTo>
                  <a:pt x="52" y="25"/>
                </a:lnTo>
                <a:lnTo>
                  <a:pt x="55" y="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927400" y="1574640"/>
            <a:ext cx="4680" cy="803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58160" y="1739520"/>
            <a:ext cx="1440" cy="878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7058160" y="2617920"/>
            <a:ext cx="304560" cy="6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88120" y="1512720"/>
            <a:ext cx="714240" cy="324000"/>
          </a:xfrm>
          <a:custGeom>
            <a:avLst/>
            <a:gdLst/>
            <a:ahLst/>
            <a:rect l="l" t="t" r="r" b="b"/>
            <a:pathLst>
              <a:path w="468" h="223">
                <a:moveTo>
                  <a:pt x="24" y="0"/>
                </a:moveTo>
                <a:lnTo>
                  <a:pt x="0" y="153"/>
                </a:lnTo>
                <a:lnTo>
                  <a:pt x="444" y="223"/>
                </a:lnTo>
                <a:lnTo>
                  <a:pt x="468" y="7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240600" y="1569960"/>
            <a:ext cx="766440" cy="205920"/>
            <a:chOff x="6240600" y="1569960"/>
            <a:chExt cx="766440" cy="205920"/>
          </a:xfrm>
        </p:grpSpPr>
        <p:grpSp>
          <p:nvGrpSpPr>
            <p:cNvPr id="349" name=""/>
            <p:cNvGrpSpPr/>
            <p:nvPr/>
          </p:nvGrpSpPr>
          <p:grpSpPr>
            <a:xfrm>
              <a:off x="6319440" y="1569960"/>
              <a:ext cx="117360" cy="134640"/>
              <a:chOff x="6319440" y="1569960"/>
              <a:chExt cx="117360" cy="134640"/>
            </a:xfrm>
          </p:grpSpPr>
          <p:sp>
            <p:nvSpPr>
              <p:cNvPr id="350" name=""/>
              <p:cNvSpPr/>
              <p:nvPr/>
            </p:nvSpPr>
            <p:spPr>
              <a:xfrm flipH="1">
                <a:off x="6319440" y="1569960"/>
                <a:ext cx="79560" cy="115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6399000" y="1569960"/>
                <a:ext cx="37800" cy="134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6437520" y="1587240"/>
              <a:ext cx="79200" cy="11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6516360" y="1587240"/>
              <a:ext cx="36360" cy="134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553080" y="1604880"/>
              <a:ext cx="121680" cy="134640"/>
              <a:chOff x="6553080" y="1604880"/>
              <a:chExt cx="121680" cy="13464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6553080" y="1604880"/>
                <a:ext cx="83880" cy="1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6631920" y="1604880"/>
                <a:ext cx="42840" cy="134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flipH="1">
              <a:off x="6675840" y="1622520"/>
              <a:ext cx="79200" cy="11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6754680" y="1622520"/>
              <a:ext cx="36360" cy="134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6553080" y="1604880"/>
              <a:ext cx="121680" cy="134640"/>
              <a:chOff x="6553080" y="1604880"/>
              <a:chExt cx="121680" cy="134640"/>
            </a:xfrm>
          </p:grpSpPr>
          <p:sp>
            <p:nvSpPr>
              <p:cNvPr id="360" name=""/>
              <p:cNvSpPr/>
              <p:nvPr/>
            </p:nvSpPr>
            <p:spPr>
              <a:xfrm flipH="1">
                <a:off x="6553080" y="1604880"/>
                <a:ext cx="83880" cy="1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6631920" y="1604880"/>
                <a:ext cx="42840" cy="134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791760" y="1641240"/>
              <a:ext cx="116640" cy="134280"/>
              <a:chOff x="6791760" y="1641240"/>
              <a:chExt cx="116640" cy="13428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6791760" y="1641600"/>
                <a:ext cx="79200" cy="115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6870600" y="1641240"/>
                <a:ext cx="37800" cy="134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flipH="1" flipV="1">
              <a:off x="6301440" y="1622160"/>
              <a:ext cx="1800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0600" y="1613880"/>
              <a:ext cx="655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909120" y="1721880"/>
              <a:ext cx="36360" cy="5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6941520" y="1721880"/>
              <a:ext cx="65520" cy="8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6865920" y="2011320"/>
            <a:ext cx="396720" cy="392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3320" y="1998720"/>
            <a:ext cx="425520" cy="4190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89400" y="21146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13400" y="3652920"/>
            <a:ext cx="259092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508720" y="3331800"/>
            <a:ext cx="1440" cy="320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109000" y="3768840"/>
            <a:ext cx="1440" cy="34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28720" y="2922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46640" y="1908000"/>
            <a:ext cx="27000" cy="24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32240" y="1895400"/>
            <a:ext cx="57240" cy="493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67720" y="2363760"/>
            <a:ext cx="28440" cy="22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54760" y="2351160"/>
            <a:ext cx="55800" cy="47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02240" y="3317760"/>
            <a:ext cx="30240" cy="22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9640" y="3305160"/>
            <a:ext cx="55440" cy="493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3763800"/>
            <a:ext cx="28800" cy="24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85240" y="3751200"/>
            <a:ext cx="56880" cy="493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04120" y="1641600"/>
            <a:ext cx="936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94400" y="1650960"/>
            <a:ext cx="17640" cy="32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79280" y="3141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57160" y="35290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84600" y="3529080"/>
            <a:ext cx="3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8000"/>
                </a:solidFill>
                <a:latin typeface="Times New Roman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802360" y="3319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908560" y="3300480"/>
            <a:ext cx="3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32680" y="4081320"/>
            <a:ext cx="74268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19640" y="2395440"/>
            <a:ext cx="387360" cy="4636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14960" y="2390760"/>
            <a:ext cx="396720" cy="47304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32240" y="2403360"/>
            <a:ext cx="387360" cy="4651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27560" y="2398680"/>
            <a:ext cx="397080" cy="47484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43560" y="2617920"/>
            <a:ext cx="1852560" cy="384120"/>
          </a:xfrm>
          <a:custGeom>
            <a:avLst/>
            <a:gdLst/>
            <a:ahLst/>
            <a:rect l="l" t="t" r="r" b="b"/>
            <a:pathLst>
              <a:path w="1215" h="264">
                <a:moveTo>
                  <a:pt x="3" y="0"/>
                </a:moveTo>
                <a:lnTo>
                  <a:pt x="0" y="28"/>
                </a:lnTo>
                <a:lnTo>
                  <a:pt x="1209" y="264"/>
                </a:lnTo>
                <a:lnTo>
                  <a:pt x="1215" y="233"/>
                </a:lnTo>
                <a:lnTo>
                  <a:pt x="3" y="0"/>
                </a:lnTo>
                <a:close/>
              </a:path>
            </a:pathLst>
          </a:custGeom>
          <a:solidFill>
            <a:srgbClr val="333333"/>
          </a:solidFill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58000" y="2868480"/>
            <a:ext cx="389160" cy="466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54760" y="2863800"/>
            <a:ext cx="395640" cy="476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2876400"/>
            <a:ext cx="387360" cy="470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67720" y="2873520"/>
            <a:ext cx="3967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69320" y="3086280"/>
            <a:ext cx="928440" cy="218880"/>
          </a:xfrm>
          <a:custGeom>
            <a:avLst/>
            <a:gdLst/>
            <a:ahLst/>
            <a:rect l="l" t="t" r="r" b="b"/>
            <a:pathLst>
              <a:path w="609" h="150">
                <a:moveTo>
                  <a:pt x="6" y="0"/>
                </a:moveTo>
                <a:lnTo>
                  <a:pt x="0" y="34"/>
                </a:lnTo>
                <a:lnTo>
                  <a:pt x="603" y="150"/>
                </a:lnTo>
                <a:lnTo>
                  <a:pt x="609" y="116"/>
                </a:lnTo>
                <a:lnTo>
                  <a:pt x="6" y="0"/>
                </a:lnTo>
                <a:close/>
              </a:path>
            </a:pathLst>
          </a:custGeom>
          <a:solidFill>
            <a:srgbClr val="333333"/>
          </a:solidFill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880480" y="3263760"/>
            <a:ext cx="12600" cy="33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864640" y="3251160"/>
            <a:ext cx="42840" cy="58680"/>
          </a:xfrm>
          <a:prstGeom prst="ellipse">
            <a:avLst/>
          </a:pr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375680" y="2684520"/>
            <a:ext cx="177120" cy="48960"/>
            <a:chOff x="7375680" y="2684520"/>
            <a:chExt cx="177120" cy="48960"/>
          </a:xfrm>
        </p:grpSpPr>
        <p:sp>
          <p:nvSpPr>
            <p:cNvPr id="405" name=""/>
            <p:cNvSpPr/>
            <p:nvPr/>
          </p:nvSpPr>
          <p:spPr>
            <a:xfrm>
              <a:off x="7539480" y="2720520"/>
              <a:ext cx="1332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11760" y="2716200"/>
              <a:ext cx="1368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2960" y="2707200"/>
              <a:ext cx="15120" cy="12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9"/>
                  </a:moveTo>
                  <a:lnTo>
                    <a:pt x="6" y="9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54880" y="2703240"/>
              <a:ext cx="1368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27520" y="2697480"/>
              <a:ext cx="13320" cy="14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3" y="10"/>
                  </a:moveTo>
                  <a:lnTo>
                    <a:pt x="6" y="10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98360" y="2692800"/>
              <a:ext cx="13680" cy="144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3" y="10"/>
                  </a:moveTo>
                  <a:lnTo>
                    <a:pt x="6" y="10"/>
                  </a:lnTo>
                  <a:lnTo>
                    <a:pt x="9" y="7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75680" y="2684520"/>
              <a:ext cx="13680" cy="12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9"/>
                  </a:moveTo>
                  <a:lnTo>
                    <a:pt x="6" y="9"/>
                  </a:lnTo>
                  <a:lnTo>
                    <a:pt x="9" y="6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H="1" flipV="1">
            <a:off x="7507080" y="2712600"/>
            <a:ext cx="377640" cy="79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89760" y="2792520"/>
            <a:ext cx="84240" cy="71280"/>
          </a:xfrm>
          <a:custGeom>
            <a:avLst/>
            <a:gdLst/>
            <a:ahLst/>
            <a:rect l="l" t="t" r="r" b="b"/>
            <a:pathLst>
              <a:path w="55" h="49">
                <a:moveTo>
                  <a:pt x="55" y="9"/>
                </a:moveTo>
                <a:lnTo>
                  <a:pt x="52" y="27"/>
                </a:lnTo>
                <a:lnTo>
                  <a:pt x="43" y="40"/>
                </a:lnTo>
                <a:lnTo>
                  <a:pt x="33" y="49"/>
                </a:lnTo>
                <a:lnTo>
                  <a:pt x="21" y="49"/>
                </a:lnTo>
                <a:lnTo>
                  <a:pt x="12" y="43"/>
                </a:lnTo>
                <a:lnTo>
                  <a:pt x="3" y="33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959600" y="3086280"/>
            <a:ext cx="32040" cy="536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23040" y="2612880"/>
            <a:ext cx="37800" cy="493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9880" y="2413080"/>
            <a:ext cx="23760" cy="54000"/>
          </a:xfrm>
          <a:custGeom>
            <a:avLst/>
            <a:gdLst/>
            <a:ahLst/>
            <a:rect l="l" t="t" r="r" b="b"/>
            <a:pathLst>
              <a:path w="16" h="37">
                <a:moveTo>
                  <a:pt x="16" y="0"/>
                </a:moveTo>
                <a:lnTo>
                  <a:pt x="10" y="4"/>
                </a:lnTo>
                <a:lnTo>
                  <a:pt x="3" y="7"/>
                </a:lnTo>
                <a:lnTo>
                  <a:pt x="0" y="19"/>
                </a:lnTo>
                <a:lnTo>
                  <a:pt x="3" y="31"/>
                </a:lnTo>
                <a:lnTo>
                  <a:pt x="10" y="37"/>
                </a:lnTo>
                <a:lnTo>
                  <a:pt x="16" y="37"/>
                </a:lnTo>
                <a:lnTo>
                  <a:pt x="16" y="19"/>
                </a:lnTo>
                <a:lnTo>
                  <a:pt x="16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59240" y="2417760"/>
            <a:ext cx="393840" cy="115920"/>
          </a:xfrm>
          <a:custGeom>
            <a:avLst/>
            <a:gdLst/>
            <a:ahLst/>
            <a:rect l="l" t="t" r="r" b="b"/>
            <a:pathLst>
              <a:path w="258" h="79">
                <a:moveTo>
                  <a:pt x="7" y="0"/>
                </a:moveTo>
                <a:lnTo>
                  <a:pt x="0" y="30"/>
                </a:lnTo>
                <a:lnTo>
                  <a:pt x="255" y="79"/>
                </a:lnTo>
                <a:lnTo>
                  <a:pt x="258" y="49"/>
                </a:lnTo>
                <a:lnTo>
                  <a:pt x="7" y="0"/>
                </a:lnTo>
                <a:close/>
              </a:path>
            </a:pathLst>
          </a:custGeom>
          <a:solidFill>
            <a:srgbClr val="333333"/>
          </a:solidFill>
          <a:ln w="64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86320" y="2432160"/>
            <a:ext cx="55440" cy="71280"/>
          </a:xfrm>
          <a:custGeom>
            <a:avLst/>
            <a:gdLst/>
            <a:ahLst/>
            <a:rect l="l" t="t" r="r" b="b"/>
            <a:pathLst>
              <a:path w="37" h="49">
                <a:moveTo>
                  <a:pt x="9" y="0"/>
                </a:moveTo>
                <a:lnTo>
                  <a:pt x="0" y="43"/>
                </a:lnTo>
                <a:lnTo>
                  <a:pt x="28" y="49"/>
                </a:lnTo>
                <a:lnTo>
                  <a:pt x="37" y="6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88000" y="12574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47040" y="3621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578640" y="3800520"/>
            <a:ext cx="107640" cy="93600"/>
            <a:chOff x="6578640" y="3800520"/>
            <a:chExt cx="107640" cy="93600"/>
          </a:xfrm>
        </p:grpSpPr>
        <p:sp>
          <p:nvSpPr>
            <p:cNvPr id="422" name=""/>
            <p:cNvSpPr/>
            <p:nvPr/>
          </p:nvSpPr>
          <p:spPr>
            <a:xfrm>
              <a:off x="6684840" y="3872160"/>
              <a:ext cx="1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78640" y="3800520"/>
              <a:ext cx="106200" cy="9360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0" y="64"/>
                  </a:moveTo>
                  <a:lnTo>
                    <a:pt x="70" y="49"/>
                  </a:lnTo>
                  <a:lnTo>
                    <a:pt x="15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475400" y="1741320"/>
            <a:ext cx="0" cy="14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56360" y="1454040"/>
            <a:ext cx="9763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00920" y="1733400"/>
            <a:ext cx="37764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77200" y="1814400"/>
            <a:ext cx="30456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898760" y="3381480"/>
            <a:ext cx="177120" cy="243720"/>
            <a:chOff x="7898760" y="3381480"/>
            <a:chExt cx="177120" cy="243720"/>
          </a:xfrm>
        </p:grpSpPr>
        <p:sp>
          <p:nvSpPr>
            <p:cNvPr id="429" name=""/>
            <p:cNvSpPr/>
            <p:nvPr/>
          </p:nvSpPr>
          <p:spPr>
            <a:xfrm>
              <a:off x="7898760" y="3381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8440" y="3381480"/>
              <a:ext cx="3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99"/>
                  </a:solidFill>
                  <a:latin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55640" y="3500280"/>
            <a:ext cx="4182840" cy="2324880"/>
            <a:chOff x="755640" y="3500280"/>
            <a:chExt cx="4182840" cy="2324880"/>
          </a:xfrm>
        </p:grpSpPr>
        <p:grpSp>
          <p:nvGrpSpPr>
            <p:cNvPr id="432" name=""/>
            <p:cNvGrpSpPr/>
            <p:nvPr/>
          </p:nvGrpSpPr>
          <p:grpSpPr>
            <a:xfrm>
              <a:off x="2254320" y="3921120"/>
              <a:ext cx="909360" cy="138240"/>
              <a:chOff x="2254320" y="3921120"/>
              <a:chExt cx="909360" cy="13824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357640" y="3921120"/>
                <a:ext cx="138240" cy="138240"/>
                <a:chOff x="2357640" y="3921120"/>
                <a:chExt cx="138240" cy="138240"/>
              </a:xfrm>
            </p:grpSpPr>
            <p:sp>
              <p:nvSpPr>
                <p:cNvPr id="434" name=""/>
                <p:cNvSpPr/>
                <p:nvPr/>
              </p:nvSpPr>
              <p:spPr>
                <a:xfrm flipH="1">
                  <a:off x="2357640" y="3921120"/>
                  <a:ext cx="6696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>
                  <a:off x="2424600" y="3921120"/>
                  <a:ext cx="7128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 flipH="1">
                <a:off x="2496240" y="3921120"/>
                <a:ext cx="7308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2569320" y="3921120"/>
                <a:ext cx="6660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2636280" y="3921120"/>
                <a:ext cx="140400" cy="138240"/>
                <a:chOff x="2636280" y="3921120"/>
                <a:chExt cx="140400" cy="138240"/>
              </a:xfrm>
            </p:grpSpPr>
            <p:sp>
              <p:nvSpPr>
                <p:cNvPr id="439" name=""/>
                <p:cNvSpPr/>
                <p:nvPr/>
              </p:nvSpPr>
              <p:spPr>
                <a:xfrm flipH="1">
                  <a:off x="2636280" y="3921120"/>
                  <a:ext cx="7308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 flipV="1">
                  <a:off x="2709720" y="3921120"/>
                  <a:ext cx="6696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 flipH="1">
                <a:off x="2777040" y="3921120"/>
                <a:ext cx="7128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2848680" y="3921120"/>
                <a:ext cx="72720" cy="13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636280" y="3921120"/>
                <a:ext cx="140400" cy="138240"/>
                <a:chOff x="2636280" y="3921120"/>
                <a:chExt cx="140400" cy="138240"/>
              </a:xfrm>
            </p:grpSpPr>
            <p:sp>
              <p:nvSpPr>
                <p:cNvPr id="444" name=""/>
                <p:cNvSpPr/>
                <p:nvPr/>
              </p:nvSpPr>
              <p:spPr>
                <a:xfrm flipH="1">
                  <a:off x="2636280" y="3921120"/>
                  <a:ext cx="7308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>
                  <a:off x="2709720" y="3921120"/>
                  <a:ext cx="6696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921400" y="3921120"/>
                <a:ext cx="138240" cy="138240"/>
                <a:chOff x="2921400" y="3921120"/>
                <a:chExt cx="138240" cy="13824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2921400" y="3921120"/>
                  <a:ext cx="6696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2988360" y="3921120"/>
                  <a:ext cx="71280" cy="13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 flipH="1" flipV="1">
                <a:off x="2325240" y="3995640"/>
                <a:ext cx="320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54320" y="3995640"/>
                <a:ext cx="71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3060360" y="3995640"/>
                <a:ext cx="320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3088080" y="3995640"/>
                <a:ext cx="7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3281400" y="4156200"/>
              <a:ext cx="407880" cy="412560"/>
              <a:chOff x="3281400" y="4156200"/>
              <a:chExt cx="407880" cy="412560"/>
            </a:xfrm>
          </p:grpSpPr>
          <p:sp>
            <p:nvSpPr>
              <p:cNvPr id="454" name=""/>
              <p:cNvSpPr/>
              <p:nvPr/>
            </p:nvSpPr>
            <p:spPr>
              <a:xfrm>
                <a:off x="3281400" y="4156200"/>
                <a:ext cx="407880" cy="4125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12800" y="423072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107360" y="4362120"/>
              <a:ext cx="232560" cy="888480"/>
              <a:chOff x="1107360" y="4362120"/>
              <a:chExt cx="232560" cy="888480"/>
            </a:xfrm>
          </p:grpSpPr>
          <p:sp>
            <p:nvSpPr>
              <p:cNvPr id="457" name=""/>
              <p:cNvSpPr/>
              <p:nvPr/>
            </p:nvSpPr>
            <p:spPr>
              <a:xfrm rot="5400000">
                <a:off x="1151280" y="4525920"/>
                <a:ext cx="134280" cy="21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97" y="8260"/>
                    </a:moveTo>
                    <a:arcTo wR="10800" hR="10800" stAng="-816010" swAng="117826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97" y="8260"/>
                    </a:moveTo>
                    <a:arcTo wR="10800" hR="10800" stAng="-816010" swAng="1178262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5400000">
                <a:off x="1227240" y="4587480"/>
                <a:ext cx="68400" cy="15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554" swAng="121520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554" swAng="121520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1229400" y="4362120"/>
                <a:ext cx="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229400" y="5044320"/>
                <a:ext cx="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5400000">
                <a:off x="1118160" y="4629600"/>
                <a:ext cx="203040" cy="21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1" y="8542"/>
                    </a:moveTo>
                    <a:arcTo wR="10800" hR="10800" stAng="-724107" swAng="12175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1" y="8542"/>
                    </a:moveTo>
                    <a:arcTo wR="10800" hR="10800" stAng="-724107" swAng="1217521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1113120" y="4769640"/>
                <a:ext cx="226800" cy="205560"/>
                <a:chOff x="1113120" y="4769640"/>
                <a:chExt cx="226800" cy="205560"/>
              </a:xfrm>
            </p:grpSpPr>
            <p:sp>
              <p:nvSpPr>
                <p:cNvPr id="463" name=""/>
                <p:cNvSpPr/>
                <p:nvPr/>
              </p:nvSpPr>
              <p:spPr>
                <a:xfrm rot="5400000">
                  <a:off x="1226880" y="4725000"/>
                  <a:ext cx="68400" cy="15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8"/>
                      </a:moveTo>
                      <a:arcTo wR="10800" hR="10800" stAng="10033554" swAng="121520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8"/>
                      </a:moveTo>
                      <a:arcTo wR="10800" hR="10800" stAng="10033554" swAng="1215201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5400000">
                  <a:off x="1119240" y="4766040"/>
                  <a:ext cx="202680" cy="21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7" y="9838"/>
                      </a:moveTo>
                      <a:arcTo wR="10800" hR="10800" stAng="-306465" swAng="117575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7" y="9838"/>
                      </a:moveTo>
                      <a:arcTo wR="10800" hR="10800" stAng="-306465" swAng="1175757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rot="5400000">
                <a:off x="1221840" y="4862880"/>
                <a:ext cx="68400" cy="15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554" swAng="121520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554" swAng="121520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5400000">
                <a:off x="1148040" y="4869360"/>
                <a:ext cx="133920" cy="215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57" y="9838"/>
                    </a:moveTo>
                    <a:arcTo wR="10800" hR="10800" stAng="-306465" swAng="117575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57" y="9838"/>
                    </a:moveTo>
                    <a:arcTo wR="10800" hR="10800" stAng="-306465" swAng="117575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256280" y="4432320"/>
              <a:ext cx="232920" cy="887040"/>
              <a:chOff x="4256280" y="4432320"/>
              <a:chExt cx="232920" cy="887040"/>
            </a:xfrm>
          </p:grpSpPr>
          <p:sp>
            <p:nvSpPr>
              <p:cNvPr id="468" name=""/>
              <p:cNvSpPr/>
              <p:nvPr/>
            </p:nvSpPr>
            <p:spPr>
              <a:xfrm rot="5400000">
                <a:off x="4300560" y="4595040"/>
                <a:ext cx="134280" cy="21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97" y="8260"/>
                    </a:moveTo>
                    <a:arcTo wR="10800" hR="10800" stAng="-816010" swAng="117826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97" y="8260"/>
                    </a:moveTo>
                    <a:arcTo wR="10800" hR="10800" stAng="-816010" swAng="1178262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5400000">
                <a:off x="4376520" y="4656960"/>
                <a:ext cx="68400" cy="15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554" swAng="121520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554" swAng="121520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378320" y="443232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4378320" y="5113440"/>
                <a:ext cx="0" cy="2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5400000">
                <a:off x="4267440" y="4698720"/>
                <a:ext cx="202680" cy="2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1" y="8542"/>
                    </a:moveTo>
                    <a:arcTo wR="10800" hR="10800" stAng="-724107" swAng="121752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1" y="8542"/>
                    </a:moveTo>
                    <a:arcTo wR="10800" hR="10800" stAng="-724107" swAng="1217521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4261680" y="4838760"/>
                <a:ext cx="227520" cy="205200"/>
                <a:chOff x="4261680" y="4838760"/>
                <a:chExt cx="227520" cy="205200"/>
              </a:xfrm>
            </p:grpSpPr>
            <p:sp>
              <p:nvSpPr>
                <p:cNvPr id="474" name=""/>
                <p:cNvSpPr/>
                <p:nvPr/>
              </p:nvSpPr>
              <p:spPr>
                <a:xfrm rot="5400000">
                  <a:off x="4376160" y="4794120"/>
                  <a:ext cx="68400" cy="15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8"/>
                      </a:moveTo>
                      <a:arcTo wR="10800" hR="10800" stAng="10033554" swAng="121520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8"/>
                      </a:moveTo>
                      <a:arcTo wR="10800" hR="10800" stAng="10033554" swAng="1215201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5400000">
                  <a:off x="4268160" y="4834800"/>
                  <a:ext cx="2023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57" y="9838"/>
                      </a:moveTo>
                      <a:arcTo wR="10800" hR="10800" stAng="-306465" swAng="117575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57" y="9838"/>
                      </a:moveTo>
                      <a:arcTo wR="10800" hR="10800" stAng="-306465" swAng="1175757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 rot="5400000">
                <a:off x="4371120" y="4932000"/>
                <a:ext cx="68400" cy="15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554" swAng="121520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554" swAng="121520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5400000">
                <a:off x="4296960" y="4938120"/>
                <a:ext cx="1339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57" y="9838"/>
                    </a:moveTo>
                    <a:arcTo wR="10800" hR="10800" stAng="-306465" swAng="117575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57" y="9838"/>
                    </a:moveTo>
                    <a:arcTo wR="10800" hR="10800" stAng="-306465" swAng="117575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78" name=""/>
            <p:cNvCxnSpPr>
              <a:stCxn id="460" idx="0"/>
              <a:endCxn id="471" idx="0"/>
            </p:cNvCxnSpPr>
            <p:nvPr/>
          </p:nvCxnSpPr>
          <p:spPr>
            <a:xfrm flipH="1" rot="16200000">
              <a:off x="2767680" y="3707280"/>
              <a:ext cx="68760" cy="3150360"/>
            </a:xfrm>
            <a:prstGeom prst="bentConnector5">
              <a:avLst>
                <a:gd name="adj1" fmla="val 0"/>
                <a:gd name="adj2" fmla="val 0"/>
                <a:gd name="adj3" fmla="val 84368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9" name=""/>
            <p:cNvCxnSpPr>
              <a:stCxn id="459" idx="0"/>
              <a:endCxn id="450" idx="0"/>
            </p:cNvCxnSpPr>
            <p:nvPr/>
          </p:nvCxnSpPr>
          <p:spPr>
            <a:xfrm flipH="1" rot="10800000">
              <a:off x="1226160" y="3994920"/>
              <a:ext cx="1027800" cy="364320"/>
            </a:xfrm>
            <a:prstGeom prst="bentConnector4">
              <a:avLst>
                <a:gd name="adj1" fmla="val -560"/>
                <a:gd name="adj2" fmla="val 98813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80" name=""/>
            <p:cNvGrpSpPr/>
            <p:nvPr/>
          </p:nvGrpSpPr>
          <p:grpSpPr>
            <a:xfrm>
              <a:off x="3817800" y="3859200"/>
              <a:ext cx="59040" cy="274680"/>
              <a:chOff x="3817800" y="3859200"/>
              <a:chExt cx="59040" cy="274680"/>
            </a:xfrm>
          </p:grpSpPr>
          <p:sp>
            <p:nvSpPr>
              <p:cNvPr id="481" name=""/>
              <p:cNvSpPr/>
              <p:nvPr/>
            </p:nvSpPr>
            <p:spPr>
              <a:xfrm>
                <a:off x="3817800" y="38592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76840" y="3927960"/>
                <a:ext cx="0" cy="13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876840" y="399564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01880" y="3995640"/>
              <a:ext cx="1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346560" y="4770360"/>
              <a:ext cx="279360" cy="57240"/>
              <a:chOff x="3346560" y="4770360"/>
              <a:chExt cx="279360" cy="57240"/>
            </a:xfrm>
          </p:grpSpPr>
          <p:sp>
            <p:nvSpPr>
              <p:cNvPr id="486" name=""/>
              <p:cNvSpPr/>
              <p:nvPr/>
            </p:nvSpPr>
            <p:spPr>
              <a:xfrm>
                <a:off x="3346560" y="4770360"/>
                <a:ext cx="27936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416400" y="4827600"/>
                <a:ext cx="139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V="1">
              <a:off x="3486240" y="465408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806480" y="4781160"/>
              <a:ext cx="279360" cy="57240"/>
              <a:chOff x="1806480" y="4781160"/>
              <a:chExt cx="279360" cy="57240"/>
            </a:xfrm>
          </p:grpSpPr>
          <p:sp>
            <p:nvSpPr>
              <p:cNvPr id="490" name=""/>
              <p:cNvSpPr/>
              <p:nvPr/>
            </p:nvSpPr>
            <p:spPr>
              <a:xfrm>
                <a:off x="1806480" y="4838400"/>
                <a:ext cx="27936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76320" y="4781160"/>
                <a:ext cx="139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946160" y="48441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6160" y="464976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4" name=""/>
            <p:cNvCxnSpPr>
              <a:stCxn id="493" idx="0"/>
            </p:cNvCxnSpPr>
            <p:nvPr/>
          </p:nvCxnSpPr>
          <p:spPr>
            <a:xfrm flipV="1">
              <a:off x="1945800" y="4001400"/>
              <a:ext cx="252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5" name=""/>
            <p:cNvCxnSpPr>
              <a:stCxn id="488" idx="0"/>
              <a:endCxn id="454" idx="4"/>
            </p:cNvCxnSpPr>
            <p:nvPr/>
          </p:nvCxnSpPr>
          <p:spPr>
            <a:xfrm flipH="1" flipV="1">
              <a:off x="3485880" y="4575960"/>
              <a:ext cx="2160" cy="8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6" name=""/>
            <p:cNvCxnSpPr>
              <a:stCxn id="454" idx="0"/>
            </p:cNvCxnSpPr>
            <p:nvPr/>
          </p:nvCxnSpPr>
          <p:spPr>
            <a:xfrm flipV="1">
              <a:off x="3486240" y="3993840"/>
              <a:ext cx="216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7" name=""/>
            <p:cNvSpPr/>
            <p:nvPr/>
          </p:nvSpPr>
          <p:spPr>
            <a:xfrm>
              <a:off x="3486240" y="484416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46160" y="5187960"/>
              <a:ext cx="154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" name=""/>
            <p:cNvCxnSpPr>
              <a:stCxn id="452" idx="0"/>
              <a:endCxn id="484" idx="0"/>
            </p:cNvCxnSpPr>
            <p:nvPr/>
          </p:nvCxnSpPr>
          <p:spPr>
            <a:xfrm>
              <a:off x="3164040" y="3995280"/>
              <a:ext cx="538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70" idx="0"/>
              <a:endCxn id="483" idx="0"/>
            </p:cNvCxnSpPr>
            <p:nvPr/>
          </p:nvCxnSpPr>
          <p:spPr>
            <a:xfrm flipV="1">
              <a:off x="4376520" y="3995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1" name=""/>
            <p:cNvSpPr/>
            <p:nvPr/>
          </p:nvSpPr>
          <p:spPr>
            <a:xfrm flipH="1">
              <a:off x="2267640" y="4221000"/>
              <a:ext cx="8139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0" y="7166"/>
                  </a:moveTo>
                  <a:arcTo wR="10800" hR="10800" stAng="-9620133" swAng="18911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30" y="7166"/>
                  </a:moveTo>
                  <a:arcTo wR="10800" hR="10800" stAng="-9620133" swAng="18911257"/>
                </a:path>
              </a:pathLst>
            </a:custGeom>
            <a:noFill/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86880" y="438624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1470960" y="4496760"/>
              <a:ext cx="264420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2" y="10174"/>
                  </a:moveTo>
                  <a:arcTo wR="10800" hR="10800" stAng="-199393" swAng="111667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2" y="10174"/>
                  </a:moveTo>
                  <a:arcTo wR="10800" hR="10800" stAng="-199393" swAng="11166791"/>
                </a:path>
              </a:pathLst>
            </a:custGeom>
            <a:noFill/>
            <a:ln w="19080">
              <a:solidFill>
                <a:srgbClr val="8686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82720" y="5337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86868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85880" y="3500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8000" y="46641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35080" y="4603680"/>
              <a:ext cx="11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3399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72840" y="4675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76760" y="47070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27960" y="4695840"/>
              <a:ext cx="11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008000"/>
                  </a:solidFill>
                  <a:latin typeface="Times New Roman"/>
                </a:rPr>
                <a:t>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5640" y="47070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 flipV="1" rot="549000">
            <a:off x="4403880" y="2071800"/>
            <a:ext cx="354960" cy="8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2" y="16766"/>
                </a:moveTo>
                <a:arcTo wR="10800" hR="10800" stAng="2012004" swAng="17722689"/>
                <a:lnTo>
                  <a:pt x="10800" y="10800"/>
                </a:lnTo>
                <a:close/>
              </a:path>
              <a:path fill="none" w="21600" h="21600">
                <a:moveTo>
                  <a:pt x="19802" y="16766"/>
                </a:moveTo>
                <a:arcTo wR="10800" hR="10800" stAng="2012004" swAng="17722689"/>
              </a:path>
            </a:pathLst>
          </a:custGeom>
          <a:noFill/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03240" y="2508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284000" y="1844640"/>
            <a:ext cx="17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cc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ohm (Rayleigh, Sidgwi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924560" y="1989000"/>
            <a:ext cx="1064880" cy="1889280"/>
            <a:chOff x="1924560" y="1989000"/>
            <a:chExt cx="1064880" cy="1889280"/>
          </a:xfrm>
        </p:grpSpPr>
        <p:sp>
          <p:nvSpPr>
            <p:cNvPr id="517" name=""/>
            <p:cNvSpPr/>
            <p:nvPr/>
          </p:nvSpPr>
          <p:spPr>
            <a:xfrm>
              <a:off x="1924560" y="1989000"/>
              <a:ext cx="10051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s-ES_tradnl" sz="2800" spc="-1" strike="noStrike" baseline="-25000">
                  <a:solidFill>
                    <a:srgbClr val="cc0000"/>
                  </a:solidFill>
                  <a:latin typeface="Times New Roman"/>
                </a:rPr>
                <a:t>G</a:t>
              </a:r>
              <a:r>
                <a:rPr b="0" i="1" lang="es-ES_tradnl" sz="2800" spc="-1" strike="noStrike" baseline="-25000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i="1" lang="es-ES_tradnl" sz="2800" spc="-1" strike="noStrike">
                  <a:solidFill>
                    <a:srgbClr val="cc0000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84360" y="3357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am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836720" y="2222640"/>
            <a:ext cx="5643720" cy="3417840"/>
            <a:chOff x="1836720" y="2222640"/>
            <a:chExt cx="5643720" cy="3417840"/>
          </a:xfrm>
        </p:grpSpPr>
        <p:grpSp>
          <p:nvGrpSpPr>
            <p:cNvPr id="521" name=""/>
            <p:cNvGrpSpPr/>
            <p:nvPr/>
          </p:nvGrpSpPr>
          <p:grpSpPr>
            <a:xfrm>
              <a:off x="2619360" y="2513160"/>
              <a:ext cx="4100400" cy="603000"/>
              <a:chOff x="2619360" y="2513160"/>
              <a:chExt cx="4100400" cy="603000"/>
            </a:xfrm>
          </p:grpSpPr>
          <p:sp>
            <p:nvSpPr>
              <p:cNvPr id="522" name=""/>
              <p:cNvSpPr/>
              <p:nvPr/>
            </p:nvSpPr>
            <p:spPr>
              <a:xfrm>
                <a:off x="2619360" y="2513160"/>
                <a:ext cx="4100400" cy="603000"/>
              </a:xfrm>
              <a:custGeom>
                <a:avLst/>
                <a:gdLst/>
                <a:ahLst/>
                <a:rect l="l" t="t" r="r" b="b"/>
                <a:pathLst>
                  <a:path w="2583" h="380">
                    <a:moveTo>
                      <a:pt x="0" y="0"/>
                    </a:moveTo>
                    <a:lnTo>
                      <a:pt x="2583" y="0"/>
                    </a:lnTo>
                    <a:lnTo>
                      <a:pt x="2583" y="145"/>
                    </a:lnTo>
                    <a:lnTo>
                      <a:pt x="1371" y="380"/>
                    </a:lnTo>
                    <a:lnTo>
                      <a:pt x="1237" y="380"/>
                    </a:lnTo>
                    <a:lnTo>
                      <a:pt x="0" y="1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9360" y="2513160"/>
                <a:ext cx="4100400" cy="603000"/>
              </a:xfrm>
              <a:custGeom>
                <a:avLst/>
                <a:gdLst/>
                <a:ahLst/>
                <a:rect l="l" t="t" r="r" b="b"/>
                <a:pathLst>
                  <a:path w="2583" h="380">
                    <a:moveTo>
                      <a:pt x="0" y="0"/>
                    </a:moveTo>
                    <a:lnTo>
                      <a:pt x="2583" y="0"/>
                    </a:lnTo>
                    <a:lnTo>
                      <a:pt x="2583" y="145"/>
                    </a:lnTo>
                    <a:lnTo>
                      <a:pt x="1371" y="380"/>
                    </a:lnTo>
                    <a:lnTo>
                      <a:pt x="1237" y="380"/>
                    </a:lnTo>
                    <a:lnTo>
                      <a:pt x="0" y="1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6567480" y="2560680"/>
              <a:ext cx="222120" cy="317520"/>
            </a:xfrm>
            <a:custGeom>
              <a:avLst/>
              <a:gdLst/>
              <a:ahLst/>
              <a:rect l="l" t="t" r="r" b="b"/>
              <a:pathLst>
                <a:path w="140" h="200">
                  <a:moveTo>
                    <a:pt x="0" y="76"/>
                  </a:moveTo>
                  <a:lnTo>
                    <a:pt x="3" y="54"/>
                  </a:lnTo>
                  <a:lnTo>
                    <a:pt x="8" y="30"/>
                  </a:lnTo>
                  <a:lnTo>
                    <a:pt x="30" y="11"/>
                  </a:lnTo>
                  <a:lnTo>
                    <a:pt x="58" y="0"/>
                  </a:lnTo>
                  <a:lnTo>
                    <a:pt x="85" y="2"/>
                  </a:lnTo>
                  <a:lnTo>
                    <a:pt x="118" y="22"/>
                  </a:lnTo>
                  <a:lnTo>
                    <a:pt x="137" y="52"/>
                  </a:lnTo>
                  <a:lnTo>
                    <a:pt x="140" y="82"/>
                  </a:lnTo>
                  <a:lnTo>
                    <a:pt x="123" y="109"/>
                  </a:lnTo>
                  <a:lnTo>
                    <a:pt x="96" y="131"/>
                  </a:lnTo>
                  <a:lnTo>
                    <a:pt x="88" y="137"/>
                  </a:lnTo>
                  <a:lnTo>
                    <a:pt x="104" y="161"/>
                  </a:lnTo>
                  <a:lnTo>
                    <a:pt x="101" y="183"/>
                  </a:lnTo>
                  <a:lnTo>
                    <a:pt x="85" y="197"/>
                  </a:lnTo>
                  <a:lnTo>
                    <a:pt x="58" y="200"/>
                  </a:lnTo>
                  <a:lnTo>
                    <a:pt x="44" y="191"/>
                  </a:lnTo>
                  <a:lnTo>
                    <a:pt x="38" y="180"/>
                  </a:lnTo>
                  <a:lnTo>
                    <a:pt x="36" y="158"/>
                  </a:lnTo>
                  <a:lnTo>
                    <a:pt x="41" y="142"/>
                  </a:lnTo>
                  <a:lnTo>
                    <a:pt x="49" y="128"/>
                  </a:lnTo>
                  <a:lnTo>
                    <a:pt x="66" y="106"/>
                  </a:lnTo>
                  <a:lnTo>
                    <a:pt x="90" y="85"/>
                  </a:lnTo>
                  <a:lnTo>
                    <a:pt x="107" y="65"/>
                  </a:lnTo>
                  <a:lnTo>
                    <a:pt x="99" y="49"/>
                  </a:lnTo>
                  <a:lnTo>
                    <a:pt x="93" y="35"/>
                  </a:lnTo>
                  <a:lnTo>
                    <a:pt x="71" y="30"/>
                  </a:lnTo>
                  <a:lnTo>
                    <a:pt x="49" y="30"/>
                  </a:lnTo>
                  <a:lnTo>
                    <a:pt x="36" y="44"/>
                  </a:lnTo>
                  <a:lnTo>
                    <a:pt x="30" y="63"/>
                  </a:lnTo>
                  <a:lnTo>
                    <a:pt x="27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0c0c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54960" y="280836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5240" y="2798640"/>
              <a:ext cx="52560" cy="5256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49920" y="260352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2" y="0"/>
                  </a:moveTo>
                  <a:lnTo>
                    <a:pt x="0" y="41"/>
                  </a:lnTo>
                  <a:lnTo>
                    <a:pt x="41" y="4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54200" y="2560680"/>
              <a:ext cx="220680" cy="320760"/>
            </a:xfrm>
            <a:custGeom>
              <a:avLst/>
              <a:gdLst/>
              <a:ahLst/>
              <a:rect l="l" t="t" r="r" b="b"/>
              <a:pathLst>
                <a:path w="139" h="202">
                  <a:moveTo>
                    <a:pt x="139" y="79"/>
                  </a:moveTo>
                  <a:lnTo>
                    <a:pt x="137" y="54"/>
                  </a:lnTo>
                  <a:lnTo>
                    <a:pt x="131" y="30"/>
                  </a:lnTo>
                  <a:lnTo>
                    <a:pt x="109" y="11"/>
                  </a:lnTo>
                  <a:lnTo>
                    <a:pt x="82" y="0"/>
                  </a:lnTo>
                  <a:lnTo>
                    <a:pt x="55" y="2"/>
                  </a:lnTo>
                  <a:lnTo>
                    <a:pt x="22" y="22"/>
                  </a:lnTo>
                  <a:lnTo>
                    <a:pt x="3" y="52"/>
                  </a:lnTo>
                  <a:lnTo>
                    <a:pt x="0" y="82"/>
                  </a:lnTo>
                  <a:lnTo>
                    <a:pt x="16" y="112"/>
                  </a:lnTo>
                  <a:lnTo>
                    <a:pt x="44" y="131"/>
                  </a:lnTo>
                  <a:lnTo>
                    <a:pt x="52" y="137"/>
                  </a:lnTo>
                  <a:lnTo>
                    <a:pt x="35" y="161"/>
                  </a:lnTo>
                  <a:lnTo>
                    <a:pt x="38" y="183"/>
                  </a:lnTo>
                  <a:lnTo>
                    <a:pt x="55" y="200"/>
                  </a:lnTo>
                  <a:lnTo>
                    <a:pt x="82" y="202"/>
                  </a:lnTo>
                  <a:lnTo>
                    <a:pt x="96" y="194"/>
                  </a:lnTo>
                  <a:lnTo>
                    <a:pt x="101" y="180"/>
                  </a:lnTo>
                  <a:lnTo>
                    <a:pt x="104" y="161"/>
                  </a:lnTo>
                  <a:lnTo>
                    <a:pt x="98" y="142"/>
                  </a:lnTo>
                  <a:lnTo>
                    <a:pt x="90" y="128"/>
                  </a:lnTo>
                  <a:lnTo>
                    <a:pt x="74" y="109"/>
                  </a:lnTo>
                  <a:lnTo>
                    <a:pt x="49" y="85"/>
                  </a:lnTo>
                  <a:lnTo>
                    <a:pt x="33" y="68"/>
                  </a:lnTo>
                  <a:lnTo>
                    <a:pt x="41" y="49"/>
                  </a:lnTo>
                  <a:lnTo>
                    <a:pt x="46" y="35"/>
                  </a:lnTo>
                  <a:lnTo>
                    <a:pt x="68" y="30"/>
                  </a:lnTo>
                  <a:lnTo>
                    <a:pt x="90" y="30"/>
                  </a:lnTo>
                  <a:lnTo>
                    <a:pt x="104" y="44"/>
                  </a:lnTo>
                  <a:lnTo>
                    <a:pt x="109" y="65"/>
                  </a:lnTo>
                  <a:lnTo>
                    <a:pt x="112" y="82"/>
                  </a:lnTo>
                  <a:lnTo>
                    <a:pt x="139" y="79"/>
                  </a:lnTo>
                  <a:lnTo>
                    <a:pt x="139" y="79"/>
                  </a:lnTo>
                  <a:close/>
                </a:path>
              </a:pathLst>
            </a:custGeom>
            <a:solidFill>
              <a:srgbClr val="c0c0c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44920" y="28083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37000" y="2798640"/>
              <a:ext cx="52200" cy="5724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260352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2" y="0"/>
                  </a:moveTo>
                  <a:lnTo>
                    <a:pt x="0" y="41"/>
                  </a:lnTo>
                  <a:lnTo>
                    <a:pt x="41" y="4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017960" y="2222640"/>
              <a:ext cx="135000" cy="280800"/>
              <a:chOff x="4017960" y="2222640"/>
              <a:chExt cx="135000" cy="28080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4048200" y="2222640"/>
                <a:ext cx="77760" cy="77760"/>
                <a:chOff x="4048200" y="2222640"/>
                <a:chExt cx="77760" cy="7776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4052880" y="2225880"/>
                  <a:ext cx="69840" cy="69840"/>
                  <a:chOff x="4052880" y="2225880"/>
                  <a:chExt cx="69840" cy="698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4052880" y="2225880"/>
                    <a:ext cx="69840" cy="69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060800" y="2235240"/>
                    <a:ext cx="47520" cy="47520"/>
                  </a:xfrm>
                  <a:prstGeom prst="ellipse">
                    <a:avLst/>
                  </a:prstGeom>
                  <a:solidFill>
                    <a:srgbClr val="7d7d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075200" y="2247840"/>
                    <a:ext cx="20520" cy="22320"/>
                  </a:xfrm>
                  <a:prstGeom prst="ellipse">
                    <a:avLst/>
                  </a:prstGeom>
                  <a:solidFill>
                    <a:srgbClr val="de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4048200" y="2222640"/>
                  <a:ext cx="77760" cy="77760"/>
                </a:xfrm>
                <a:prstGeom prst="ellipse">
                  <a:avLst/>
                </a:prstGeom>
                <a:noFill/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017960" y="2300400"/>
                <a:ext cx="135000" cy="203040"/>
                <a:chOff x="4017960" y="2300400"/>
                <a:chExt cx="135000" cy="2030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017960" y="2300400"/>
                  <a:ext cx="131760" cy="200160"/>
                  <a:chOff x="4017960" y="2300400"/>
                  <a:chExt cx="131760" cy="2001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4017960" y="2300400"/>
                    <a:ext cx="1260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e2e2e"/>
                      </a:gs>
                      <a:gs pos="50000">
                        <a:srgbClr val="ffffff"/>
                      </a:gs>
                      <a:gs pos="100000">
                        <a:srgbClr val="2e2e2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030560" y="2300400"/>
                    <a:ext cx="1296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043520" y="2300400"/>
                    <a:ext cx="1404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3b3b3"/>
                      </a:gs>
                      <a:gs pos="50000">
                        <a:srgbClr val="ffffff"/>
                      </a:gs>
                      <a:gs pos="100000">
                        <a:srgbClr val="b3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4057560" y="2300400"/>
                    <a:ext cx="1296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4e4e4"/>
                      </a:gs>
                      <a:gs pos="50000">
                        <a:srgbClr val="ffffff"/>
                      </a:gs>
                      <a:gs pos="100000">
                        <a:srgbClr val="e4e4e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4070520" y="2300400"/>
                    <a:ext cx="1260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afafa"/>
                      </a:gs>
                      <a:gs pos="50000">
                        <a:srgbClr val="ffffff"/>
                      </a:gs>
                      <a:gs pos="100000">
                        <a:srgbClr val="fafaf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083120" y="2300400"/>
                    <a:ext cx="1260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afafa"/>
                      </a:gs>
                      <a:gs pos="50000">
                        <a:srgbClr val="ffffff"/>
                      </a:gs>
                      <a:gs pos="100000">
                        <a:srgbClr val="fafaf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4095720" y="2300400"/>
                    <a:ext cx="1260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4e4e4"/>
                      </a:gs>
                      <a:gs pos="50000">
                        <a:srgbClr val="ffffff"/>
                      </a:gs>
                      <a:gs pos="100000">
                        <a:srgbClr val="e4e4e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108320" y="2300400"/>
                    <a:ext cx="1440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3b3b3"/>
                      </a:gs>
                      <a:gs pos="50000">
                        <a:srgbClr val="ffffff"/>
                      </a:gs>
                      <a:gs pos="100000">
                        <a:srgbClr val="b3b3b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122720" y="2300400"/>
                    <a:ext cx="1260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135320" y="2300400"/>
                    <a:ext cx="1296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e2e2e"/>
                      </a:gs>
                      <a:gs pos="50000">
                        <a:srgbClr val="ffffff"/>
                      </a:gs>
                      <a:gs pos="100000">
                        <a:srgbClr val="2e2e2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148280" y="2300400"/>
                    <a:ext cx="1440" cy="200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>
                  <a:off x="4017960" y="2300400"/>
                  <a:ext cx="135000" cy="203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3" name=""/>
            <p:cNvSpPr/>
            <p:nvPr/>
          </p:nvSpPr>
          <p:spPr>
            <a:xfrm flipH="1">
              <a:off x="3809520" y="5257800"/>
              <a:ext cx="14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909960" y="5179680"/>
              <a:ext cx="988560" cy="152640"/>
              <a:chOff x="3909960" y="5179680"/>
              <a:chExt cx="988560" cy="152640"/>
            </a:xfrm>
          </p:grpSpPr>
          <p:grpSp>
            <p:nvGrpSpPr>
              <p:cNvPr id="555" name=""/>
              <p:cNvGrpSpPr/>
              <p:nvPr/>
            </p:nvGrpSpPr>
            <p:grpSpPr>
              <a:xfrm>
                <a:off x="4022280" y="5179680"/>
                <a:ext cx="151200" cy="152640"/>
                <a:chOff x="4022280" y="5179680"/>
                <a:chExt cx="151200" cy="152640"/>
              </a:xfrm>
            </p:grpSpPr>
            <p:sp>
              <p:nvSpPr>
                <p:cNvPr id="556" name=""/>
                <p:cNvSpPr/>
                <p:nvPr/>
              </p:nvSpPr>
              <p:spPr>
                <a:xfrm flipH="1">
                  <a:off x="4022280" y="5180040"/>
                  <a:ext cx="730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H="1" flipV="1">
                  <a:off x="4095720" y="5179680"/>
                  <a:ext cx="777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 flipH="1">
                <a:off x="4173120" y="5180040"/>
                <a:ext cx="795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4253040" y="5179680"/>
                <a:ext cx="727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" name=""/>
              <p:cNvGrpSpPr/>
              <p:nvPr/>
            </p:nvGrpSpPr>
            <p:grpSpPr>
              <a:xfrm>
                <a:off x="4325400" y="5179680"/>
                <a:ext cx="152640" cy="152640"/>
                <a:chOff x="4325400" y="5179680"/>
                <a:chExt cx="152640" cy="152640"/>
              </a:xfrm>
            </p:grpSpPr>
            <p:sp>
              <p:nvSpPr>
                <p:cNvPr id="561" name=""/>
                <p:cNvSpPr/>
                <p:nvPr/>
              </p:nvSpPr>
              <p:spPr>
                <a:xfrm flipH="1">
                  <a:off x="4325400" y="5180040"/>
                  <a:ext cx="79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>
                  <a:off x="4404960" y="5179680"/>
                  <a:ext cx="730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 flipH="1">
                <a:off x="4478400" y="5180040"/>
                <a:ext cx="777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4556160" y="5179680"/>
                <a:ext cx="7920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4325400" y="5179680"/>
                <a:ext cx="152640" cy="152640"/>
                <a:chOff x="4325400" y="5179680"/>
                <a:chExt cx="152640" cy="152640"/>
              </a:xfrm>
            </p:grpSpPr>
            <p:sp>
              <p:nvSpPr>
                <p:cNvPr id="566" name=""/>
                <p:cNvSpPr/>
                <p:nvPr/>
              </p:nvSpPr>
              <p:spPr>
                <a:xfrm flipH="1">
                  <a:off x="4325400" y="5180040"/>
                  <a:ext cx="795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>
                  <a:off x="4404960" y="5179680"/>
                  <a:ext cx="730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635000" y="5179680"/>
                <a:ext cx="151200" cy="152640"/>
                <a:chOff x="4635000" y="5179680"/>
                <a:chExt cx="151200" cy="152640"/>
              </a:xfrm>
            </p:grpSpPr>
            <p:sp>
              <p:nvSpPr>
                <p:cNvPr id="569" name=""/>
                <p:cNvSpPr/>
                <p:nvPr/>
              </p:nvSpPr>
              <p:spPr>
                <a:xfrm flipH="1">
                  <a:off x="4635000" y="5180040"/>
                  <a:ext cx="730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 flipV="1">
                  <a:off x="4708440" y="5179680"/>
                  <a:ext cx="7776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 flipH="1" flipV="1">
                <a:off x="3987360" y="5262480"/>
                <a:ext cx="349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09960" y="5262480"/>
                <a:ext cx="77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786200" y="5262480"/>
                <a:ext cx="349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4816080" y="5262480"/>
                <a:ext cx="82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108400" y="5045040"/>
              <a:ext cx="628920" cy="595440"/>
              <a:chOff x="5108400" y="5045040"/>
              <a:chExt cx="628920" cy="595440"/>
            </a:xfrm>
          </p:grpSpPr>
          <p:pic>
            <p:nvPicPr>
              <p:cNvPr id="5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8400" y="5045040"/>
                <a:ext cx="628920" cy="59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5381640" y="5283360"/>
                <a:ext cx="260280" cy="161640"/>
              </a:xfrm>
              <a:custGeom>
                <a:avLst/>
                <a:gdLst/>
                <a:ahLst/>
                <a:rect l="l" t="t" r="r" b="b"/>
                <a:pathLst>
                  <a:path w="164" h="102">
                    <a:moveTo>
                      <a:pt x="0" y="44"/>
                    </a:moveTo>
                    <a:lnTo>
                      <a:pt x="0" y="83"/>
                    </a:lnTo>
                    <a:lnTo>
                      <a:pt x="0" y="102"/>
                    </a:lnTo>
                    <a:lnTo>
                      <a:pt x="164" y="61"/>
                    </a:lnTo>
                    <a:lnTo>
                      <a:pt x="164" y="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273640" y="5079960"/>
                <a:ext cx="168480" cy="42840"/>
              </a:xfrm>
              <a:custGeom>
                <a:avLst/>
                <a:gdLst/>
                <a:ahLst/>
                <a:rect l="l" t="t" r="r" b="b"/>
                <a:pathLst>
                  <a:path w="106" h="27">
                    <a:moveTo>
                      <a:pt x="0" y="19"/>
                    </a:moveTo>
                    <a:lnTo>
                      <a:pt x="13" y="27"/>
                    </a:lnTo>
                    <a:lnTo>
                      <a:pt x="106" y="11"/>
                    </a:lnTo>
                    <a:lnTo>
                      <a:pt x="93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626000" y="2516040"/>
              <a:ext cx="142920" cy="147960"/>
              <a:chOff x="4626000" y="2516040"/>
              <a:chExt cx="142920" cy="147960"/>
            </a:xfrm>
          </p:grpSpPr>
          <p:sp>
            <p:nvSpPr>
              <p:cNvPr id="580" name=""/>
              <p:cNvSpPr/>
              <p:nvPr/>
            </p:nvSpPr>
            <p:spPr>
              <a:xfrm>
                <a:off x="4638600" y="251604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33" y="61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3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38600" y="2633760"/>
                <a:ext cx="1177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26000" y="2620800"/>
                <a:ext cx="142920" cy="43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6076800" y="4815000"/>
              <a:ext cx="1194120" cy="182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88120" y="4492800"/>
              <a:ext cx="292320" cy="382320"/>
            </a:xfrm>
            <a:custGeom>
              <a:avLst/>
              <a:gdLst/>
              <a:ahLst/>
              <a:rect l="l" t="t" r="r" b="b"/>
              <a:pathLst>
                <a:path w="184" h="241">
                  <a:moveTo>
                    <a:pt x="0" y="0"/>
                  </a:moveTo>
                  <a:lnTo>
                    <a:pt x="14" y="0"/>
                  </a:lnTo>
                  <a:lnTo>
                    <a:pt x="28" y="3"/>
                  </a:lnTo>
                  <a:lnTo>
                    <a:pt x="55" y="14"/>
                  </a:lnTo>
                  <a:lnTo>
                    <a:pt x="80" y="22"/>
                  </a:lnTo>
                  <a:lnTo>
                    <a:pt x="99" y="28"/>
                  </a:lnTo>
                  <a:lnTo>
                    <a:pt x="110" y="33"/>
                  </a:lnTo>
                  <a:lnTo>
                    <a:pt x="118" y="36"/>
                  </a:lnTo>
                  <a:lnTo>
                    <a:pt x="129" y="44"/>
                  </a:lnTo>
                  <a:lnTo>
                    <a:pt x="140" y="50"/>
                  </a:lnTo>
                  <a:lnTo>
                    <a:pt x="156" y="66"/>
                  </a:lnTo>
                  <a:lnTo>
                    <a:pt x="159" y="69"/>
                  </a:lnTo>
                  <a:lnTo>
                    <a:pt x="162" y="72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73" y="85"/>
                  </a:lnTo>
                  <a:lnTo>
                    <a:pt x="178" y="93"/>
                  </a:lnTo>
                  <a:lnTo>
                    <a:pt x="181" y="104"/>
                  </a:lnTo>
                  <a:lnTo>
                    <a:pt x="181" y="113"/>
                  </a:lnTo>
                  <a:lnTo>
                    <a:pt x="181" y="124"/>
                  </a:lnTo>
                  <a:lnTo>
                    <a:pt x="181" y="143"/>
                  </a:lnTo>
                  <a:lnTo>
                    <a:pt x="184" y="162"/>
                  </a:lnTo>
                  <a:lnTo>
                    <a:pt x="181" y="170"/>
                  </a:lnTo>
                  <a:lnTo>
                    <a:pt x="175" y="178"/>
                  </a:lnTo>
                  <a:lnTo>
                    <a:pt x="170" y="189"/>
                  </a:lnTo>
                  <a:lnTo>
                    <a:pt x="159" y="200"/>
                  </a:lnTo>
                  <a:lnTo>
                    <a:pt x="151" y="211"/>
                  </a:lnTo>
                  <a:lnTo>
                    <a:pt x="140" y="222"/>
                  </a:lnTo>
                  <a:lnTo>
                    <a:pt x="126" y="228"/>
                  </a:lnTo>
                  <a:lnTo>
                    <a:pt x="115" y="228"/>
                  </a:lnTo>
                  <a:lnTo>
                    <a:pt x="110" y="228"/>
                  </a:lnTo>
                  <a:lnTo>
                    <a:pt x="99" y="230"/>
                  </a:lnTo>
                  <a:lnTo>
                    <a:pt x="91" y="230"/>
                  </a:lnTo>
                  <a:lnTo>
                    <a:pt x="82" y="230"/>
                  </a:lnTo>
                  <a:lnTo>
                    <a:pt x="80" y="230"/>
                  </a:lnTo>
                  <a:lnTo>
                    <a:pt x="71" y="233"/>
                  </a:lnTo>
                  <a:lnTo>
                    <a:pt x="55" y="236"/>
                  </a:lnTo>
                  <a:lnTo>
                    <a:pt x="39" y="239"/>
                  </a:lnTo>
                  <a:lnTo>
                    <a:pt x="30" y="241"/>
                  </a:lnTo>
                  <a:lnTo>
                    <a:pt x="28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46920" y="4049640"/>
              <a:ext cx="120600" cy="3826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76" y="0"/>
                  </a:moveTo>
                  <a:lnTo>
                    <a:pt x="63" y="3"/>
                  </a:lnTo>
                  <a:lnTo>
                    <a:pt x="52" y="9"/>
                  </a:lnTo>
                  <a:lnTo>
                    <a:pt x="44" y="17"/>
                  </a:lnTo>
                  <a:lnTo>
                    <a:pt x="35" y="22"/>
                  </a:lnTo>
                  <a:lnTo>
                    <a:pt x="27" y="25"/>
                  </a:lnTo>
                  <a:lnTo>
                    <a:pt x="19" y="39"/>
                  </a:lnTo>
                  <a:lnTo>
                    <a:pt x="13" y="50"/>
                  </a:lnTo>
                  <a:lnTo>
                    <a:pt x="8" y="66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5" y="82"/>
                  </a:lnTo>
                  <a:lnTo>
                    <a:pt x="5" y="96"/>
                  </a:lnTo>
                  <a:lnTo>
                    <a:pt x="2" y="126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5" y="170"/>
                  </a:lnTo>
                  <a:lnTo>
                    <a:pt x="8" y="189"/>
                  </a:lnTo>
                  <a:lnTo>
                    <a:pt x="16" y="200"/>
                  </a:lnTo>
                  <a:lnTo>
                    <a:pt x="27" y="214"/>
                  </a:lnTo>
                  <a:lnTo>
                    <a:pt x="38" y="230"/>
                  </a:lnTo>
                  <a:lnTo>
                    <a:pt x="44" y="2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6615000" y="4041720"/>
              <a:ext cx="160200" cy="95400"/>
              <a:chOff x="6615000" y="4041720"/>
              <a:chExt cx="160200" cy="95400"/>
            </a:xfrm>
          </p:grpSpPr>
          <p:sp>
            <p:nvSpPr>
              <p:cNvPr id="587" name=""/>
              <p:cNvSpPr/>
              <p:nvPr/>
            </p:nvSpPr>
            <p:spPr>
              <a:xfrm flipH="1">
                <a:off x="6702120" y="4089240"/>
                <a:ext cx="730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15000" y="4041720"/>
                <a:ext cx="92160" cy="95400"/>
              </a:xfrm>
              <a:custGeom>
                <a:avLst/>
                <a:gdLst/>
                <a:ahLst/>
                <a:rect l="l" t="t" r="r" b="b"/>
                <a:pathLst>
                  <a:path w="58" h="60">
                    <a:moveTo>
                      <a:pt x="58" y="0"/>
                    </a:moveTo>
                    <a:lnTo>
                      <a:pt x="0" y="30"/>
                    </a:lnTo>
                    <a:lnTo>
                      <a:pt x="58" y="6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15000" y="4489560"/>
              <a:ext cx="160560" cy="95040"/>
              <a:chOff x="6615000" y="4489560"/>
              <a:chExt cx="160560" cy="95040"/>
            </a:xfrm>
          </p:grpSpPr>
          <p:sp>
            <p:nvSpPr>
              <p:cNvPr id="590" name=""/>
              <p:cNvSpPr/>
              <p:nvPr/>
            </p:nvSpPr>
            <p:spPr>
              <a:xfrm>
                <a:off x="6615000" y="4537080"/>
                <a:ext cx="748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684840" y="4489560"/>
                <a:ext cx="90720" cy="9504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0" y="60"/>
                    </a:moveTo>
                    <a:lnTo>
                      <a:pt x="57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615000" y="4937040"/>
              <a:ext cx="160560" cy="95400"/>
              <a:chOff x="6615000" y="4937040"/>
              <a:chExt cx="160560" cy="95400"/>
            </a:xfrm>
          </p:grpSpPr>
          <p:sp>
            <p:nvSpPr>
              <p:cNvPr id="593" name=""/>
              <p:cNvSpPr/>
              <p:nvPr/>
            </p:nvSpPr>
            <p:spPr>
              <a:xfrm>
                <a:off x="6615000" y="4984920"/>
                <a:ext cx="748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84840" y="4937040"/>
                <a:ext cx="90720" cy="9540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0" y="60"/>
                    </a:moveTo>
                    <a:lnTo>
                      <a:pt x="57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675480" y="2838600"/>
              <a:ext cx="474480" cy="1658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72240" y="2843280"/>
              <a:ext cx="160200" cy="1533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237360" y="2838600"/>
              <a:ext cx="434880" cy="1658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76800" y="4367160"/>
              <a:ext cx="1194120" cy="18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76760" y="45147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76760" y="40766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6800" y="3919680"/>
              <a:ext cx="1194120" cy="182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85080" y="3916440"/>
              <a:ext cx="12600" cy="60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4920" y="3916440"/>
              <a:ext cx="4680" cy="42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372000" y="3929040"/>
              <a:ext cx="12600" cy="38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37320" y="4602240"/>
              <a:ext cx="108000" cy="187200"/>
            </a:xfrm>
            <a:custGeom>
              <a:avLst/>
              <a:gdLst/>
              <a:ahLst/>
              <a:rect l="l" t="t" r="r" b="b"/>
              <a:pathLst>
                <a:path w="68" h="118">
                  <a:moveTo>
                    <a:pt x="0" y="87"/>
                  </a:moveTo>
                  <a:lnTo>
                    <a:pt x="16" y="87"/>
                  </a:lnTo>
                  <a:lnTo>
                    <a:pt x="16" y="0"/>
                  </a:lnTo>
                  <a:lnTo>
                    <a:pt x="52" y="0"/>
                  </a:lnTo>
                  <a:lnTo>
                    <a:pt x="52" y="87"/>
                  </a:lnTo>
                  <a:lnTo>
                    <a:pt x="68" y="87"/>
                  </a:lnTo>
                  <a:lnTo>
                    <a:pt x="35" y="118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36880" y="4379760"/>
              <a:ext cx="1195200" cy="182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880" y="4832280"/>
              <a:ext cx="1195200" cy="182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36720" y="4014720"/>
              <a:ext cx="214200" cy="447840"/>
            </a:xfrm>
            <a:custGeom>
              <a:avLst/>
              <a:gdLst/>
              <a:ahLst/>
              <a:rect l="l" t="t" r="r" b="b"/>
              <a:pathLst>
                <a:path w="135" h="282">
                  <a:moveTo>
                    <a:pt x="132" y="0"/>
                  </a:moveTo>
                  <a:lnTo>
                    <a:pt x="110" y="3"/>
                  </a:lnTo>
                  <a:lnTo>
                    <a:pt x="91" y="3"/>
                  </a:lnTo>
                  <a:lnTo>
                    <a:pt x="74" y="6"/>
                  </a:lnTo>
                  <a:lnTo>
                    <a:pt x="55" y="11"/>
                  </a:lnTo>
                  <a:lnTo>
                    <a:pt x="50" y="25"/>
                  </a:lnTo>
                  <a:lnTo>
                    <a:pt x="47" y="41"/>
                  </a:lnTo>
                  <a:lnTo>
                    <a:pt x="47" y="55"/>
                  </a:lnTo>
                  <a:lnTo>
                    <a:pt x="39" y="69"/>
                  </a:lnTo>
                  <a:lnTo>
                    <a:pt x="31" y="77"/>
                  </a:lnTo>
                  <a:lnTo>
                    <a:pt x="20" y="85"/>
                  </a:lnTo>
                  <a:lnTo>
                    <a:pt x="14" y="88"/>
                  </a:lnTo>
                  <a:lnTo>
                    <a:pt x="11" y="91"/>
                  </a:lnTo>
                  <a:lnTo>
                    <a:pt x="6" y="104"/>
                  </a:lnTo>
                  <a:lnTo>
                    <a:pt x="3" y="113"/>
                  </a:lnTo>
                  <a:lnTo>
                    <a:pt x="3" y="126"/>
                  </a:lnTo>
                  <a:lnTo>
                    <a:pt x="3" y="135"/>
                  </a:lnTo>
                  <a:lnTo>
                    <a:pt x="3" y="145"/>
                  </a:lnTo>
                  <a:lnTo>
                    <a:pt x="0" y="170"/>
                  </a:lnTo>
                  <a:lnTo>
                    <a:pt x="0" y="197"/>
                  </a:lnTo>
                  <a:lnTo>
                    <a:pt x="0" y="211"/>
                  </a:lnTo>
                  <a:lnTo>
                    <a:pt x="3" y="228"/>
                  </a:lnTo>
                  <a:lnTo>
                    <a:pt x="11" y="241"/>
                  </a:lnTo>
                  <a:lnTo>
                    <a:pt x="20" y="252"/>
                  </a:lnTo>
                  <a:lnTo>
                    <a:pt x="22" y="258"/>
                  </a:lnTo>
                  <a:lnTo>
                    <a:pt x="25" y="260"/>
                  </a:lnTo>
                  <a:lnTo>
                    <a:pt x="31" y="263"/>
                  </a:lnTo>
                  <a:lnTo>
                    <a:pt x="44" y="266"/>
                  </a:lnTo>
                  <a:lnTo>
                    <a:pt x="55" y="269"/>
                  </a:lnTo>
                  <a:lnTo>
                    <a:pt x="63" y="271"/>
                  </a:lnTo>
                  <a:lnTo>
                    <a:pt x="66" y="274"/>
                  </a:lnTo>
                  <a:lnTo>
                    <a:pt x="72" y="280"/>
                  </a:lnTo>
                  <a:lnTo>
                    <a:pt x="74" y="280"/>
                  </a:lnTo>
                  <a:lnTo>
                    <a:pt x="83" y="280"/>
                  </a:lnTo>
                  <a:lnTo>
                    <a:pt x="102" y="282"/>
                  </a:lnTo>
                  <a:lnTo>
                    <a:pt x="121" y="282"/>
                  </a:lnTo>
                  <a:lnTo>
                    <a:pt x="129" y="282"/>
                  </a:lnTo>
                  <a:lnTo>
                    <a:pt x="135" y="282"/>
                  </a:lnTo>
                  <a:lnTo>
                    <a:pt x="132" y="282"/>
                  </a:lnTo>
                  <a:lnTo>
                    <a:pt x="129" y="282"/>
                  </a:lnTo>
                  <a:lnTo>
                    <a:pt x="115" y="282"/>
                  </a:lnTo>
                  <a:lnTo>
                    <a:pt x="102" y="282"/>
                  </a:lnTo>
                  <a:lnTo>
                    <a:pt x="99" y="282"/>
                  </a:lnTo>
                  <a:lnTo>
                    <a:pt x="96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32200" y="4532400"/>
              <a:ext cx="230040" cy="507960"/>
            </a:xfrm>
            <a:custGeom>
              <a:avLst/>
              <a:gdLst/>
              <a:ahLst/>
              <a:rect l="l" t="t" r="r" b="b"/>
              <a:pathLst>
                <a:path w="145" h="320">
                  <a:moveTo>
                    <a:pt x="25" y="0"/>
                  </a:moveTo>
                  <a:lnTo>
                    <a:pt x="38" y="3"/>
                  </a:lnTo>
                  <a:lnTo>
                    <a:pt x="46" y="6"/>
                  </a:lnTo>
                  <a:lnTo>
                    <a:pt x="55" y="8"/>
                  </a:lnTo>
                  <a:lnTo>
                    <a:pt x="57" y="14"/>
                  </a:lnTo>
                  <a:lnTo>
                    <a:pt x="63" y="19"/>
                  </a:lnTo>
                  <a:lnTo>
                    <a:pt x="71" y="27"/>
                  </a:lnTo>
                  <a:lnTo>
                    <a:pt x="85" y="38"/>
                  </a:lnTo>
                  <a:lnTo>
                    <a:pt x="96" y="49"/>
                  </a:lnTo>
                  <a:lnTo>
                    <a:pt x="101" y="58"/>
                  </a:lnTo>
                  <a:lnTo>
                    <a:pt x="104" y="60"/>
                  </a:lnTo>
                  <a:lnTo>
                    <a:pt x="107" y="66"/>
                  </a:lnTo>
                  <a:lnTo>
                    <a:pt x="118" y="79"/>
                  </a:lnTo>
                  <a:lnTo>
                    <a:pt x="126" y="93"/>
                  </a:lnTo>
                  <a:lnTo>
                    <a:pt x="129" y="99"/>
                  </a:lnTo>
                  <a:lnTo>
                    <a:pt x="131" y="101"/>
                  </a:lnTo>
                  <a:lnTo>
                    <a:pt x="142" y="134"/>
                  </a:lnTo>
                  <a:lnTo>
                    <a:pt x="145" y="153"/>
                  </a:lnTo>
                  <a:lnTo>
                    <a:pt x="145" y="172"/>
                  </a:lnTo>
                  <a:lnTo>
                    <a:pt x="142" y="178"/>
                  </a:lnTo>
                  <a:lnTo>
                    <a:pt x="137" y="189"/>
                  </a:lnTo>
                  <a:lnTo>
                    <a:pt x="126" y="214"/>
                  </a:lnTo>
                  <a:lnTo>
                    <a:pt x="118" y="238"/>
                  </a:lnTo>
                  <a:lnTo>
                    <a:pt x="115" y="246"/>
                  </a:lnTo>
                  <a:lnTo>
                    <a:pt x="112" y="255"/>
                  </a:lnTo>
                  <a:lnTo>
                    <a:pt x="109" y="260"/>
                  </a:lnTo>
                  <a:lnTo>
                    <a:pt x="101" y="268"/>
                  </a:lnTo>
                  <a:lnTo>
                    <a:pt x="85" y="287"/>
                  </a:lnTo>
                  <a:lnTo>
                    <a:pt x="68" y="304"/>
                  </a:lnTo>
                  <a:lnTo>
                    <a:pt x="60" y="312"/>
                  </a:lnTo>
                  <a:lnTo>
                    <a:pt x="55" y="318"/>
                  </a:lnTo>
                  <a:lnTo>
                    <a:pt x="49" y="320"/>
                  </a:lnTo>
                  <a:lnTo>
                    <a:pt x="44" y="318"/>
                  </a:lnTo>
                  <a:lnTo>
                    <a:pt x="36" y="312"/>
                  </a:lnTo>
                  <a:lnTo>
                    <a:pt x="30" y="307"/>
                  </a:lnTo>
                  <a:lnTo>
                    <a:pt x="16" y="293"/>
                  </a:lnTo>
                  <a:lnTo>
                    <a:pt x="8" y="287"/>
                  </a:lnTo>
                  <a:lnTo>
                    <a:pt x="0" y="28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541600" y="4497480"/>
              <a:ext cx="164880" cy="95040"/>
              <a:chOff x="2541600" y="4497480"/>
              <a:chExt cx="164880" cy="95040"/>
            </a:xfrm>
          </p:grpSpPr>
          <p:sp>
            <p:nvSpPr>
              <p:cNvPr id="611" name=""/>
              <p:cNvSpPr/>
              <p:nvPr/>
            </p:nvSpPr>
            <p:spPr>
              <a:xfrm flipH="1">
                <a:off x="2626920" y="4545000"/>
                <a:ext cx="79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41600" y="4497480"/>
                <a:ext cx="90360" cy="9504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57" y="0"/>
                    </a:moveTo>
                    <a:lnTo>
                      <a:pt x="0" y="30"/>
                    </a:lnTo>
                    <a:lnTo>
                      <a:pt x="57" y="6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541600" y="4954680"/>
              <a:ext cx="165240" cy="95040"/>
              <a:chOff x="2541600" y="4954680"/>
              <a:chExt cx="165240" cy="95040"/>
            </a:xfrm>
          </p:grpSpPr>
          <p:sp>
            <p:nvSpPr>
              <p:cNvPr id="614" name=""/>
              <p:cNvSpPr/>
              <p:nvPr/>
            </p:nvSpPr>
            <p:spPr>
              <a:xfrm>
                <a:off x="2541600" y="5002200"/>
                <a:ext cx="777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14680" y="4954680"/>
                <a:ext cx="92160" cy="95040"/>
              </a:xfrm>
              <a:custGeom>
                <a:avLst/>
                <a:gdLst/>
                <a:ahLst/>
                <a:rect l="l" t="t" r="r" b="b"/>
                <a:pathLst>
                  <a:path w="58" h="60">
                    <a:moveTo>
                      <a:pt x="0" y="60"/>
                    </a:moveTo>
                    <a:lnTo>
                      <a:pt x="58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541600" y="4059360"/>
              <a:ext cx="165240" cy="95040"/>
              <a:chOff x="2541600" y="4059360"/>
              <a:chExt cx="165240" cy="9504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2624040" y="4102200"/>
                <a:ext cx="82800" cy="4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41600" y="4059360"/>
                <a:ext cx="90360" cy="9504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57" y="0"/>
                    </a:moveTo>
                    <a:lnTo>
                      <a:pt x="0" y="30"/>
                    </a:lnTo>
                    <a:lnTo>
                      <a:pt x="57" y="6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2728440" y="40798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28440" y="45464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180880" y="2843280"/>
              <a:ext cx="477720" cy="1666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2496960" y="2846520"/>
              <a:ext cx="162000" cy="1542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58960" y="2843280"/>
              <a:ext cx="433440" cy="1666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36880" y="3932280"/>
              <a:ext cx="1195200" cy="182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332080" y="3919680"/>
              <a:ext cx="14400" cy="64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541240" y="3919680"/>
              <a:ext cx="3240" cy="47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44800" y="3936960"/>
              <a:ext cx="12600" cy="39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76640" y="4979880"/>
              <a:ext cx="1568160" cy="277920"/>
            </a:xfrm>
            <a:custGeom>
              <a:avLst/>
              <a:gdLst/>
              <a:ahLst/>
              <a:rect l="l" t="t" r="r" b="b"/>
              <a:pathLst>
                <a:path w="988" h="175">
                  <a:moveTo>
                    <a:pt x="0" y="0"/>
                  </a:moveTo>
                  <a:lnTo>
                    <a:pt x="38" y="85"/>
                  </a:lnTo>
                  <a:lnTo>
                    <a:pt x="120" y="148"/>
                  </a:lnTo>
                  <a:lnTo>
                    <a:pt x="323" y="170"/>
                  </a:lnTo>
                  <a:lnTo>
                    <a:pt x="687" y="175"/>
                  </a:lnTo>
                  <a:lnTo>
                    <a:pt x="988" y="1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98880" y="5122800"/>
              <a:ext cx="400320" cy="135000"/>
            </a:xfrm>
            <a:custGeom>
              <a:avLst/>
              <a:gdLst/>
              <a:ahLst/>
              <a:rect l="l" t="t" r="r" b="b"/>
              <a:pathLst>
                <a:path w="252" h="85">
                  <a:moveTo>
                    <a:pt x="0" y="85"/>
                  </a:moveTo>
                  <a:lnTo>
                    <a:pt x="47" y="71"/>
                  </a:lnTo>
                  <a:lnTo>
                    <a:pt x="77" y="36"/>
                  </a:lnTo>
                  <a:lnTo>
                    <a:pt x="118" y="8"/>
                  </a:lnTo>
                  <a:lnTo>
                    <a:pt x="156" y="0"/>
                  </a:lnTo>
                  <a:lnTo>
                    <a:pt x="200" y="11"/>
                  </a:lnTo>
                  <a:lnTo>
                    <a:pt x="252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5000" y="33940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37320" y="4162320"/>
              <a:ext cx="108000" cy="192240"/>
            </a:xfrm>
            <a:custGeom>
              <a:avLst/>
              <a:gdLst/>
              <a:ahLst/>
              <a:rect l="l" t="t" r="r" b="b"/>
              <a:pathLst>
                <a:path w="68" h="121">
                  <a:moveTo>
                    <a:pt x="0" y="91"/>
                  </a:moveTo>
                  <a:lnTo>
                    <a:pt x="16" y="91"/>
                  </a:lnTo>
                  <a:lnTo>
                    <a:pt x="16" y="0"/>
                  </a:lnTo>
                  <a:lnTo>
                    <a:pt x="52" y="0"/>
                  </a:lnTo>
                  <a:lnTo>
                    <a:pt x="52" y="91"/>
                  </a:lnTo>
                  <a:lnTo>
                    <a:pt x="68" y="91"/>
                  </a:lnTo>
                  <a:lnTo>
                    <a:pt x="35" y="12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10000" y="4602240"/>
              <a:ext cx="109440" cy="187200"/>
            </a:xfrm>
            <a:custGeom>
              <a:avLst/>
              <a:gdLst/>
              <a:ahLst/>
              <a:rect l="l" t="t" r="r" b="b"/>
              <a:pathLst>
                <a:path w="69" h="118">
                  <a:moveTo>
                    <a:pt x="0" y="30"/>
                  </a:moveTo>
                  <a:lnTo>
                    <a:pt x="17" y="30"/>
                  </a:lnTo>
                  <a:lnTo>
                    <a:pt x="17" y="118"/>
                  </a:lnTo>
                  <a:lnTo>
                    <a:pt x="50" y="118"/>
                  </a:lnTo>
                  <a:lnTo>
                    <a:pt x="50" y="30"/>
                  </a:lnTo>
                  <a:lnTo>
                    <a:pt x="69" y="30"/>
                  </a:lnTo>
                  <a:lnTo>
                    <a:pt x="33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10000" y="4162320"/>
              <a:ext cx="109440" cy="192240"/>
            </a:xfrm>
            <a:custGeom>
              <a:avLst/>
              <a:gdLst/>
              <a:ahLst/>
              <a:rect l="l" t="t" r="r" b="b"/>
              <a:pathLst>
                <a:path w="69" h="121">
                  <a:moveTo>
                    <a:pt x="0" y="31"/>
                  </a:moveTo>
                  <a:lnTo>
                    <a:pt x="17" y="31"/>
                  </a:lnTo>
                  <a:lnTo>
                    <a:pt x="17" y="121"/>
                  </a:lnTo>
                  <a:lnTo>
                    <a:pt x="50" y="121"/>
                  </a:lnTo>
                  <a:lnTo>
                    <a:pt x="50" y="31"/>
                  </a:lnTo>
                  <a:lnTo>
                    <a:pt x="69" y="31"/>
                  </a:lnTo>
                  <a:lnTo>
                    <a:pt x="33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92400" y="3711600"/>
              <a:ext cx="3097440" cy="264960"/>
            </a:xfrm>
            <a:custGeom>
              <a:avLst/>
              <a:gdLst/>
              <a:ahLst/>
              <a:rect l="l" t="t" r="r" b="b"/>
              <a:pathLst>
                <a:path w="1951" h="167">
                  <a:moveTo>
                    <a:pt x="0" y="167"/>
                  </a:moveTo>
                  <a:lnTo>
                    <a:pt x="11" y="109"/>
                  </a:lnTo>
                  <a:lnTo>
                    <a:pt x="69" y="49"/>
                  </a:lnTo>
                  <a:lnTo>
                    <a:pt x="132" y="22"/>
                  </a:lnTo>
                  <a:lnTo>
                    <a:pt x="320" y="5"/>
                  </a:lnTo>
                  <a:lnTo>
                    <a:pt x="621" y="0"/>
                  </a:lnTo>
                  <a:lnTo>
                    <a:pt x="1013" y="19"/>
                  </a:lnTo>
                  <a:lnTo>
                    <a:pt x="1272" y="0"/>
                  </a:lnTo>
                  <a:lnTo>
                    <a:pt x="1530" y="0"/>
                  </a:lnTo>
                  <a:lnTo>
                    <a:pt x="1697" y="14"/>
                  </a:lnTo>
                  <a:lnTo>
                    <a:pt x="1806" y="27"/>
                  </a:lnTo>
                  <a:lnTo>
                    <a:pt x="1869" y="60"/>
                  </a:lnTo>
                  <a:lnTo>
                    <a:pt x="1915" y="98"/>
                  </a:lnTo>
                  <a:lnTo>
                    <a:pt x="1951" y="1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6176160" y="5177880"/>
              <a:ext cx="9360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21400" y="4975200"/>
              <a:ext cx="855720" cy="274680"/>
            </a:xfrm>
            <a:custGeom>
              <a:avLst/>
              <a:gdLst/>
              <a:ahLst/>
              <a:rect l="l" t="t" r="r" b="b"/>
              <a:pathLst>
                <a:path w="539" h="173">
                  <a:moveTo>
                    <a:pt x="0" y="99"/>
                  </a:moveTo>
                  <a:lnTo>
                    <a:pt x="65" y="107"/>
                  </a:lnTo>
                  <a:lnTo>
                    <a:pt x="123" y="132"/>
                  </a:lnTo>
                  <a:lnTo>
                    <a:pt x="172" y="162"/>
                  </a:lnTo>
                  <a:lnTo>
                    <a:pt x="235" y="173"/>
                  </a:lnTo>
                  <a:lnTo>
                    <a:pt x="328" y="159"/>
                  </a:lnTo>
                  <a:lnTo>
                    <a:pt x="421" y="121"/>
                  </a:lnTo>
                  <a:lnTo>
                    <a:pt x="481" y="80"/>
                  </a:lnTo>
                  <a:lnTo>
                    <a:pt x="53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7320" y="2514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00560" y="3714840"/>
              <a:ext cx="139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5108400" y="5045040"/>
            <a:ext cx="628920" cy="595440"/>
            <a:chOff x="5108400" y="5045040"/>
            <a:chExt cx="628920" cy="595440"/>
          </a:xfrm>
        </p:grpSpPr>
        <p:pic>
          <p:nvPicPr>
            <p:cNvPr id="640" name="" descr=""/>
            <p:cNvPicPr/>
            <p:nvPr/>
          </p:nvPicPr>
          <p:blipFill>
            <a:blip r:embed="rId1"/>
            <a:stretch/>
          </p:blipFill>
          <p:spPr>
            <a:xfrm>
              <a:off x="5108400" y="5045040"/>
              <a:ext cx="62892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381640" y="5283360"/>
              <a:ext cx="260280" cy="161640"/>
            </a:xfrm>
            <a:custGeom>
              <a:avLst/>
              <a:gdLst/>
              <a:ahLst/>
              <a:rect l="l" t="t" r="r" b="b"/>
              <a:pathLst>
                <a:path w="164" h="102">
                  <a:moveTo>
                    <a:pt x="0" y="44"/>
                  </a:moveTo>
                  <a:lnTo>
                    <a:pt x="0" y="83"/>
                  </a:lnTo>
                  <a:lnTo>
                    <a:pt x="0" y="102"/>
                  </a:lnTo>
                  <a:lnTo>
                    <a:pt x="164" y="61"/>
                  </a:lnTo>
                  <a:lnTo>
                    <a:pt x="164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73640" y="5079960"/>
              <a:ext cx="168480" cy="4284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0" y="19"/>
                  </a:moveTo>
                  <a:lnTo>
                    <a:pt x="13" y="27"/>
                  </a:lnTo>
                  <a:lnTo>
                    <a:pt x="106" y="11"/>
                  </a:lnTo>
                  <a:lnTo>
                    <a:pt x="9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621400" y="4975200"/>
            <a:ext cx="855720" cy="274680"/>
          </a:xfrm>
          <a:custGeom>
            <a:avLst/>
            <a:gdLst/>
            <a:ahLst/>
            <a:rect l="l" t="t" r="r" b="b"/>
            <a:pathLst>
              <a:path w="539" h="173">
                <a:moveTo>
                  <a:pt x="0" y="99"/>
                </a:moveTo>
                <a:lnTo>
                  <a:pt x="65" y="107"/>
                </a:lnTo>
                <a:lnTo>
                  <a:pt x="123" y="132"/>
                </a:lnTo>
                <a:lnTo>
                  <a:pt x="172" y="162"/>
                </a:lnTo>
                <a:lnTo>
                  <a:pt x="235" y="173"/>
                </a:lnTo>
                <a:lnTo>
                  <a:pt x="328" y="159"/>
                </a:lnTo>
                <a:lnTo>
                  <a:pt x="421" y="121"/>
                </a:lnTo>
                <a:lnTo>
                  <a:pt x="481" y="80"/>
                </a:lnTo>
                <a:lnTo>
                  <a:pt x="53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619360" y="2513160"/>
            <a:ext cx="4100400" cy="603000"/>
            <a:chOff x="2619360" y="2513160"/>
            <a:chExt cx="4100400" cy="603000"/>
          </a:xfrm>
        </p:grpSpPr>
        <p:sp>
          <p:nvSpPr>
            <p:cNvPr id="645" name=""/>
            <p:cNvSpPr/>
            <p:nvPr/>
          </p:nvSpPr>
          <p:spPr>
            <a:xfrm>
              <a:off x="2619360" y="2513160"/>
              <a:ext cx="4100400" cy="603000"/>
            </a:xfrm>
            <a:custGeom>
              <a:avLst/>
              <a:gdLst/>
              <a:ahLst/>
              <a:rect l="l" t="t" r="r" b="b"/>
              <a:pathLst>
                <a:path w="2583" h="380">
                  <a:moveTo>
                    <a:pt x="0" y="0"/>
                  </a:moveTo>
                  <a:lnTo>
                    <a:pt x="2583" y="0"/>
                  </a:lnTo>
                  <a:lnTo>
                    <a:pt x="2583" y="145"/>
                  </a:lnTo>
                  <a:lnTo>
                    <a:pt x="1371" y="380"/>
                  </a:lnTo>
                  <a:lnTo>
                    <a:pt x="1237" y="380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19360" y="2513160"/>
              <a:ext cx="4100400" cy="603000"/>
            </a:xfrm>
            <a:custGeom>
              <a:avLst/>
              <a:gdLst/>
              <a:ahLst/>
              <a:rect l="l" t="t" r="r" b="b"/>
              <a:pathLst>
                <a:path w="2583" h="380">
                  <a:moveTo>
                    <a:pt x="0" y="0"/>
                  </a:moveTo>
                  <a:lnTo>
                    <a:pt x="2583" y="0"/>
                  </a:lnTo>
                  <a:lnTo>
                    <a:pt x="2583" y="145"/>
                  </a:lnTo>
                  <a:lnTo>
                    <a:pt x="1371" y="380"/>
                  </a:lnTo>
                  <a:lnTo>
                    <a:pt x="1237" y="380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am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67480" y="2560680"/>
            <a:ext cx="222120" cy="317520"/>
          </a:xfrm>
          <a:custGeom>
            <a:avLst/>
            <a:gdLst/>
            <a:ahLst/>
            <a:rect l="l" t="t" r="r" b="b"/>
            <a:pathLst>
              <a:path w="140" h="200">
                <a:moveTo>
                  <a:pt x="0" y="76"/>
                </a:moveTo>
                <a:lnTo>
                  <a:pt x="3" y="54"/>
                </a:lnTo>
                <a:lnTo>
                  <a:pt x="8" y="30"/>
                </a:lnTo>
                <a:lnTo>
                  <a:pt x="30" y="11"/>
                </a:lnTo>
                <a:lnTo>
                  <a:pt x="58" y="0"/>
                </a:lnTo>
                <a:lnTo>
                  <a:pt x="85" y="2"/>
                </a:lnTo>
                <a:lnTo>
                  <a:pt x="118" y="22"/>
                </a:lnTo>
                <a:lnTo>
                  <a:pt x="137" y="52"/>
                </a:lnTo>
                <a:lnTo>
                  <a:pt x="140" y="82"/>
                </a:lnTo>
                <a:lnTo>
                  <a:pt x="123" y="109"/>
                </a:lnTo>
                <a:lnTo>
                  <a:pt x="96" y="131"/>
                </a:lnTo>
                <a:lnTo>
                  <a:pt x="88" y="137"/>
                </a:lnTo>
                <a:lnTo>
                  <a:pt x="104" y="161"/>
                </a:lnTo>
                <a:lnTo>
                  <a:pt x="101" y="183"/>
                </a:lnTo>
                <a:lnTo>
                  <a:pt x="85" y="197"/>
                </a:lnTo>
                <a:lnTo>
                  <a:pt x="58" y="200"/>
                </a:lnTo>
                <a:lnTo>
                  <a:pt x="44" y="191"/>
                </a:lnTo>
                <a:lnTo>
                  <a:pt x="38" y="180"/>
                </a:lnTo>
                <a:lnTo>
                  <a:pt x="36" y="158"/>
                </a:lnTo>
                <a:lnTo>
                  <a:pt x="41" y="142"/>
                </a:lnTo>
                <a:lnTo>
                  <a:pt x="49" y="128"/>
                </a:lnTo>
                <a:lnTo>
                  <a:pt x="66" y="106"/>
                </a:lnTo>
                <a:lnTo>
                  <a:pt x="90" y="85"/>
                </a:lnTo>
                <a:lnTo>
                  <a:pt x="107" y="65"/>
                </a:lnTo>
                <a:lnTo>
                  <a:pt x="99" y="49"/>
                </a:lnTo>
                <a:lnTo>
                  <a:pt x="93" y="35"/>
                </a:lnTo>
                <a:lnTo>
                  <a:pt x="71" y="30"/>
                </a:lnTo>
                <a:lnTo>
                  <a:pt x="49" y="30"/>
                </a:lnTo>
                <a:lnTo>
                  <a:pt x="36" y="44"/>
                </a:lnTo>
                <a:lnTo>
                  <a:pt x="30" y="63"/>
                </a:lnTo>
                <a:lnTo>
                  <a:pt x="27" y="82"/>
                </a:lnTo>
                <a:lnTo>
                  <a:pt x="0" y="76"/>
                </a:lnTo>
                <a:lnTo>
                  <a:pt x="0" y="76"/>
                </a:lnTo>
                <a:close/>
              </a:path>
            </a:pathLst>
          </a:custGeom>
          <a:solidFill>
            <a:srgbClr val="c0c0c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54960" y="2808360"/>
            <a:ext cx="349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45240" y="2798640"/>
            <a:ext cx="52560" cy="525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649920" y="260352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2" y="0"/>
                </a:moveTo>
                <a:lnTo>
                  <a:pt x="0" y="41"/>
                </a:lnTo>
                <a:lnTo>
                  <a:pt x="41" y="41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54200" y="2560680"/>
            <a:ext cx="220680" cy="320760"/>
          </a:xfrm>
          <a:custGeom>
            <a:avLst/>
            <a:gdLst/>
            <a:ahLst/>
            <a:rect l="l" t="t" r="r" b="b"/>
            <a:pathLst>
              <a:path w="139" h="202">
                <a:moveTo>
                  <a:pt x="139" y="79"/>
                </a:moveTo>
                <a:lnTo>
                  <a:pt x="137" y="54"/>
                </a:lnTo>
                <a:lnTo>
                  <a:pt x="131" y="30"/>
                </a:lnTo>
                <a:lnTo>
                  <a:pt x="109" y="11"/>
                </a:lnTo>
                <a:lnTo>
                  <a:pt x="82" y="0"/>
                </a:lnTo>
                <a:lnTo>
                  <a:pt x="55" y="2"/>
                </a:lnTo>
                <a:lnTo>
                  <a:pt x="22" y="22"/>
                </a:lnTo>
                <a:lnTo>
                  <a:pt x="3" y="52"/>
                </a:lnTo>
                <a:lnTo>
                  <a:pt x="0" y="82"/>
                </a:lnTo>
                <a:lnTo>
                  <a:pt x="16" y="112"/>
                </a:lnTo>
                <a:lnTo>
                  <a:pt x="44" y="131"/>
                </a:lnTo>
                <a:lnTo>
                  <a:pt x="52" y="137"/>
                </a:lnTo>
                <a:lnTo>
                  <a:pt x="35" y="161"/>
                </a:lnTo>
                <a:lnTo>
                  <a:pt x="38" y="183"/>
                </a:lnTo>
                <a:lnTo>
                  <a:pt x="55" y="200"/>
                </a:lnTo>
                <a:lnTo>
                  <a:pt x="82" y="202"/>
                </a:lnTo>
                <a:lnTo>
                  <a:pt x="96" y="194"/>
                </a:lnTo>
                <a:lnTo>
                  <a:pt x="101" y="180"/>
                </a:lnTo>
                <a:lnTo>
                  <a:pt x="104" y="161"/>
                </a:lnTo>
                <a:lnTo>
                  <a:pt x="98" y="142"/>
                </a:lnTo>
                <a:lnTo>
                  <a:pt x="90" y="128"/>
                </a:lnTo>
                <a:lnTo>
                  <a:pt x="74" y="109"/>
                </a:lnTo>
                <a:lnTo>
                  <a:pt x="49" y="85"/>
                </a:lnTo>
                <a:lnTo>
                  <a:pt x="33" y="68"/>
                </a:lnTo>
                <a:lnTo>
                  <a:pt x="41" y="49"/>
                </a:lnTo>
                <a:lnTo>
                  <a:pt x="46" y="35"/>
                </a:lnTo>
                <a:lnTo>
                  <a:pt x="68" y="30"/>
                </a:lnTo>
                <a:lnTo>
                  <a:pt x="90" y="30"/>
                </a:lnTo>
                <a:lnTo>
                  <a:pt x="104" y="44"/>
                </a:lnTo>
                <a:lnTo>
                  <a:pt x="109" y="65"/>
                </a:lnTo>
                <a:lnTo>
                  <a:pt x="112" y="82"/>
                </a:lnTo>
                <a:lnTo>
                  <a:pt x="139" y="79"/>
                </a:lnTo>
                <a:lnTo>
                  <a:pt x="139" y="79"/>
                </a:lnTo>
                <a:close/>
              </a:path>
            </a:pathLst>
          </a:custGeom>
          <a:solidFill>
            <a:srgbClr val="c0c0c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44920" y="2808360"/>
            <a:ext cx="3492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37000" y="2798640"/>
            <a:ext cx="52200" cy="572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41680" y="260352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2" y="0"/>
                </a:moveTo>
                <a:lnTo>
                  <a:pt x="0" y="41"/>
                </a:lnTo>
                <a:lnTo>
                  <a:pt x="41" y="41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809520" y="5257800"/>
            <a:ext cx="142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909960" y="5179680"/>
            <a:ext cx="988560" cy="152640"/>
            <a:chOff x="3909960" y="5179680"/>
            <a:chExt cx="988560" cy="152640"/>
          </a:xfrm>
        </p:grpSpPr>
        <p:grpSp>
          <p:nvGrpSpPr>
            <p:cNvPr id="658" name=""/>
            <p:cNvGrpSpPr/>
            <p:nvPr/>
          </p:nvGrpSpPr>
          <p:grpSpPr>
            <a:xfrm>
              <a:off x="4022280" y="5179680"/>
              <a:ext cx="151200" cy="152640"/>
              <a:chOff x="4022280" y="5179680"/>
              <a:chExt cx="151200" cy="152640"/>
            </a:xfrm>
          </p:grpSpPr>
          <p:sp>
            <p:nvSpPr>
              <p:cNvPr id="659" name=""/>
              <p:cNvSpPr/>
              <p:nvPr/>
            </p:nvSpPr>
            <p:spPr>
              <a:xfrm flipH="1">
                <a:off x="4022280" y="518004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>
                <a:off x="4095720" y="5179680"/>
                <a:ext cx="777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4173120" y="5180040"/>
              <a:ext cx="79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4253040" y="5179680"/>
              <a:ext cx="72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325400" y="5179680"/>
              <a:ext cx="152640" cy="152640"/>
              <a:chOff x="4325400" y="5179680"/>
              <a:chExt cx="152640" cy="15264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325400" y="5180040"/>
                <a:ext cx="795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4404960" y="517968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4478400" y="5180040"/>
              <a:ext cx="77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4556160" y="5179680"/>
              <a:ext cx="79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4325400" y="5179680"/>
              <a:ext cx="152640" cy="152640"/>
              <a:chOff x="4325400" y="5179680"/>
              <a:chExt cx="152640" cy="152640"/>
            </a:xfrm>
          </p:grpSpPr>
          <p:sp>
            <p:nvSpPr>
              <p:cNvPr id="669" name=""/>
              <p:cNvSpPr/>
              <p:nvPr/>
            </p:nvSpPr>
            <p:spPr>
              <a:xfrm flipH="1">
                <a:off x="4325400" y="5180040"/>
                <a:ext cx="795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4404960" y="517968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635000" y="5179680"/>
              <a:ext cx="151200" cy="152640"/>
              <a:chOff x="4635000" y="5179680"/>
              <a:chExt cx="151200" cy="15264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4635000" y="518004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4708440" y="5179680"/>
                <a:ext cx="777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 flipV="1">
              <a:off x="3987360" y="5262480"/>
              <a:ext cx="34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09960" y="526248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786200" y="5262480"/>
              <a:ext cx="34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816080" y="5262480"/>
              <a:ext cx="82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626000" y="2516040"/>
            <a:ext cx="142920" cy="147960"/>
            <a:chOff x="4626000" y="2516040"/>
            <a:chExt cx="142920" cy="147960"/>
          </a:xfrm>
        </p:grpSpPr>
        <p:sp>
          <p:nvSpPr>
            <p:cNvPr id="679" name=""/>
            <p:cNvSpPr/>
            <p:nvPr/>
          </p:nvSpPr>
          <p:spPr>
            <a:xfrm>
              <a:off x="4638600" y="251604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3" y="61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38600" y="2633760"/>
              <a:ext cx="1177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26000" y="2620800"/>
              <a:ext cx="142920" cy="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076800" y="4815000"/>
            <a:ext cx="119412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88120" y="4492800"/>
            <a:ext cx="292320" cy="382320"/>
          </a:xfrm>
          <a:custGeom>
            <a:avLst/>
            <a:gdLst/>
            <a:ahLst/>
            <a:rect l="l" t="t" r="r" b="b"/>
            <a:pathLst>
              <a:path w="184" h="241">
                <a:moveTo>
                  <a:pt x="0" y="0"/>
                </a:moveTo>
                <a:lnTo>
                  <a:pt x="14" y="0"/>
                </a:lnTo>
                <a:lnTo>
                  <a:pt x="28" y="3"/>
                </a:lnTo>
                <a:lnTo>
                  <a:pt x="55" y="14"/>
                </a:lnTo>
                <a:lnTo>
                  <a:pt x="80" y="22"/>
                </a:lnTo>
                <a:lnTo>
                  <a:pt x="99" y="28"/>
                </a:lnTo>
                <a:lnTo>
                  <a:pt x="110" y="33"/>
                </a:lnTo>
                <a:lnTo>
                  <a:pt x="118" y="36"/>
                </a:lnTo>
                <a:lnTo>
                  <a:pt x="129" y="44"/>
                </a:lnTo>
                <a:lnTo>
                  <a:pt x="140" y="50"/>
                </a:lnTo>
                <a:lnTo>
                  <a:pt x="156" y="66"/>
                </a:lnTo>
                <a:lnTo>
                  <a:pt x="159" y="69"/>
                </a:lnTo>
                <a:lnTo>
                  <a:pt x="162" y="72"/>
                </a:lnTo>
                <a:lnTo>
                  <a:pt x="167" y="74"/>
                </a:lnTo>
                <a:lnTo>
                  <a:pt x="167" y="74"/>
                </a:lnTo>
                <a:lnTo>
                  <a:pt x="173" y="85"/>
                </a:lnTo>
                <a:lnTo>
                  <a:pt x="178" y="93"/>
                </a:lnTo>
                <a:lnTo>
                  <a:pt x="181" y="104"/>
                </a:lnTo>
                <a:lnTo>
                  <a:pt x="181" y="113"/>
                </a:lnTo>
                <a:lnTo>
                  <a:pt x="181" y="124"/>
                </a:lnTo>
                <a:lnTo>
                  <a:pt x="181" y="143"/>
                </a:lnTo>
                <a:lnTo>
                  <a:pt x="184" y="162"/>
                </a:lnTo>
                <a:lnTo>
                  <a:pt x="181" y="170"/>
                </a:lnTo>
                <a:lnTo>
                  <a:pt x="175" y="178"/>
                </a:lnTo>
                <a:lnTo>
                  <a:pt x="170" y="189"/>
                </a:lnTo>
                <a:lnTo>
                  <a:pt x="159" y="200"/>
                </a:lnTo>
                <a:lnTo>
                  <a:pt x="151" y="211"/>
                </a:lnTo>
                <a:lnTo>
                  <a:pt x="140" y="222"/>
                </a:lnTo>
                <a:lnTo>
                  <a:pt x="126" y="228"/>
                </a:lnTo>
                <a:lnTo>
                  <a:pt x="115" y="228"/>
                </a:lnTo>
                <a:lnTo>
                  <a:pt x="110" y="228"/>
                </a:lnTo>
                <a:lnTo>
                  <a:pt x="99" y="230"/>
                </a:lnTo>
                <a:lnTo>
                  <a:pt x="91" y="230"/>
                </a:lnTo>
                <a:lnTo>
                  <a:pt x="82" y="230"/>
                </a:lnTo>
                <a:lnTo>
                  <a:pt x="80" y="230"/>
                </a:lnTo>
                <a:lnTo>
                  <a:pt x="71" y="233"/>
                </a:lnTo>
                <a:lnTo>
                  <a:pt x="55" y="236"/>
                </a:lnTo>
                <a:lnTo>
                  <a:pt x="39" y="239"/>
                </a:lnTo>
                <a:lnTo>
                  <a:pt x="30" y="241"/>
                </a:lnTo>
                <a:lnTo>
                  <a:pt x="28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46920" y="4049640"/>
            <a:ext cx="120600" cy="382680"/>
          </a:xfrm>
          <a:custGeom>
            <a:avLst/>
            <a:gdLst/>
            <a:ahLst/>
            <a:rect l="l" t="t" r="r" b="b"/>
            <a:pathLst>
              <a:path w="76" h="241">
                <a:moveTo>
                  <a:pt x="76" y="0"/>
                </a:moveTo>
                <a:lnTo>
                  <a:pt x="63" y="3"/>
                </a:lnTo>
                <a:lnTo>
                  <a:pt x="52" y="9"/>
                </a:lnTo>
                <a:lnTo>
                  <a:pt x="44" y="17"/>
                </a:lnTo>
                <a:lnTo>
                  <a:pt x="35" y="22"/>
                </a:lnTo>
                <a:lnTo>
                  <a:pt x="27" y="25"/>
                </a:lnTo>
                <a:lnTo>
                  <a:pt x="19" y="39"/>
                </a:lnTo>
                <a:lnTo>
                  <a:pt x="13" y="50"/>
                </a:lnTo>
                <a:lnTo>
                  <a:pt x="8" y="66"/>
                </a:lnTo>
                <a:lnTo>
                  <a:pt x="8" y="69"/>
                </a:lnTo>
                <a:lnTo>
                  <a:pt x="8" y="69"/>
                </a:lnTo>
                <a:lnTo>
                  <a:pt x="8" y="69"/>
                </a:lnTo>
                <a:lnTo>
                  <a:pt x="8" y="71"/>
                </a:lnTo>
                <a:lnTo>
                  <a:pt x="5" y="82"/>
                </a:lnTo>
                <a:lnTo>
                  <a:pt x="5" y="96"/>
                </a:lnTo>
                <a:lnTo>
                  <a:pt x="2" y="126"/>
                </a:lnTo>
                <a:lnTo>
                  <a:pt x="0" y="140"/>
                </a:lnTo>
                <a:lnTo>
                  <a:pt x="2" y="154"/>
                </a:lnTo>
                <a:lnTo>
                  <a:pt x="5" y="170"/>
                </a:lnTo>
                <a:lnTo>
                  <a:pt x="8" y="189"/>
                </a:lnTo>
                <a:lnTo>
                  <a:pt x="16" y="200"/>
                </a:lnTo>
                <a:lnTo>
                  <a:pt x="27" y="214"/>
                </a:lnTo>
                <a:lnTo>
                  <a:pt x="38" y="230"/>
                </a:lnTo>
                <a:lnTo>
                  <a:pt x="44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615000" y="4041720"/>
            <a:ext cx="160200" cy="95400"/>
            <a:chOff x="6615000" y="4041720"/>
            <a:chExt cx="160200" cy="95400"/>
          </a:xfrm>
        </p:grpSpPr>
        <p:sp>
          <p:nvSpPr>
            <p:cNvPr id="686" name=""/>
            <p:cNvSpPr/>
            <p:nvPr/>
          </p:nvSpPr>
          <p:spPr>
            <a:xfrm flipH="1">
              <a:off x="6702120" y="4089240"/>
              <a:ext cx="730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15000" y="4041720"/>
              <a:ext cx="92160" cy="954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0"/>
                  </a:moveTo>
                  <a:lnTo>
                    <a:pt x="0" y="30"/>
                  </a:lnTo>
                  <a:lnTo>
                    <a:pt x="58" y="6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615000" y="4489560"/>
            <a:ext cx="160560" cy="95040"/>
            <a:chOff x="6615000" y="4489560"/>
            <a:chExt cx="160560" cy="95040"/>
          </a:xfrm>
        </p:grpSpPr>
        <p:sp>
          <p:nvSpPr>
            <p:cNvPr id="689" name=""/>
            <p:cNvSpPr/>
            <p:nvPr/>
          </p:nvSpPr>
          <p:spPr>
            <a:xfrm>
              <a:off x="6615000" y="4537080"/>
              <a:ext cx="74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84840" y="4489560"/>
              <a:ext cx="9072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0" y="60"/>
                  </a:moveTo>
                  <a:lnTo>
                    <a:pt x="57" y="30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615000" y="4937040"/>
            <a:ext cx="160560" cy="95400"/>
            <a:chOff x="6615000" y="4937040"/>
            <a:chExt cx="160560" cy="95400"/>
          </a:xfrm>
        </p:grpSpPr>
        <p:sp>
          <p:nvSpPr>
            <p:cNvPr id="692" name=""/>
            <p:cNvSpPr/>
            <p:nvPr/>
          </p:nvSpPr>
          <p:spPr>
            <a:xfrm>
              <a:off x="6615000" y="4984920"/>
              <a:ext cx="74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84840" y="4937040"/>
              <a:ext cx="90720" cy="954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0" y="60"/>
                  </a:moveTo>
                  <a:lnTo>
                    <a:pt x="57" y="30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6675480" y="2838600"/>
            <a:ext cx="474480" cy="16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72240" y="2843280"/>
            <a:ext cx="160200" cy="15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237360" y="2838600"/>
            <a:ext cx="434880" cy="16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76800" y="4367160"/>
            <a:ext cx="1194120" cy="18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76760" y="4514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76760" y="40766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76800" y="3919680"/>
            <a:ext cx="119412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85080" y="3916440"/>
            <a:ext cx="12600" cy="6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784920" y="3916440"/>
            <a:ext cx="4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372000" y="3929040"/>
            <a:ext cx="1260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37320" y="4602240"/>
            <a:ext cx="108000" cy="187200"/>
          </a:xfrm>
          <a:custGeom>
            <a:avLst/>
            <a:gdLst/>
            <a:ahLst/>
            <a:rect l="l" t="t" r="r" b="b"/>
            <a:pathLst>
              <a:path w="68" h="118">
                <a:moveTo>
                  <a:pt x="0" y="87"/>
                </a:moveTo>
                <a:lnTo>
                  <a:pt x="16" y="87"/>
                </a:lnTo>
                <a:lnTo>
                  <a:pt x="16" y="0"/>
                </a:lnTo>
                <a:lnTo>
                  <a:pt x="52" y="0"/>
                </a:lnTo>
                <a:lnTo>
                  <a:pt x="52" y="87"/>
                </a:lnTo>
                <a:lnTo>
                  <a:pt x="68" y="87"/>
                </a:lnTo>
                <a:lnTo>
                  <a:pt x="35" y="118"/>
                </a:lnTo>
                <a:lnTo>
                  <a:pt x="0" y="87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36880" y="4379760"/>
            <a:ext cx="1195200" cy="18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36880" y="4832280"/>
            <a:ext cx="119520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36720" y="4014720"/>
            <a:ext cx="214200" cy="447840"/>
          </a:xfrm>
          <a:custGeom>
            <a:avLst/>
            <a:gdLst/>
            <a:ahLst/>
            <a:rect l="l" t="t" r="r" b="b"/>
            <a:pathLst>
              <a:path w="135" h="282">
                <a:moveTo>
                  <a:pt x="132" y="0"/>
                </a:moveTo>
                <a:lnTo>
                  <a:pt x="110" y="3"/>
                </a:lnTo>
                <a:lnTo>
                  <a:pt x="91" y="3"/>
                </a:lnTo>
                <a:lnTo>
                  <a:pt x="74" y="6"/>
                </a:lnTo>
                <a:lnTo>
                  <a:pt x="55" y="11"/>
                </a:lnTo>
                <a:lnTo>
                  <a:pt x="50" y="25"/>
                </a:lnTo>
                <a:lnTo>
                  <a:pt x="47" y="41"/>
                </a:lnTo>
                <a:lnTo>
                  <a:pt x="47" y="55"/>
                </a:lnTo>
                <a:lnTo>
                  <a:pt x="39" y="69"/>
                </a:lnTo>
                <a:lnTo>
                  <a:pt x="31" y="77"/>
                </a:lnTo>
                <a:lnTo>
                  <a:pt x="20" y="85"/>
                </a:lnTo>
                <a:lnTo>
                  <a:pt x="14" y="88"/>
                </a:lnTo>
                <a:lnTo>
                  <a:pt x="11" y="91"/>
                </a:lnTo>
                <a:lnTo>
                  <a:pt x="6" y="104"/>
                </a:lnTo>
                <a:lnTo>
                  <a:pt x="3" y="113"/>
                </a:lnTo>
                <a:lnTo>
                  <a:pt x="3" y="126"/>
                </a:lnTo>
                <a:lnTo>
                  <a:pt x="3" y="135"/>
                </a:lnTo>
                <a:lnTo>
                  <a:pt x="3" y="145"/>
                </a:lnTo>
                <a:lnTo>
                  <a:pt x="0" y="170"/>
                </a:lnTo>
                <a:lnTo>
                  <a:pt x="0" y="197"/>
                </a:lnTo>
                <a:lnTo>
                  <a:pt x="0" y="211"/>
                </a:lnTo>
                <a:lnTo>
                  <a:pt x="3" y="228"/>
                </a:lnTo>
                <a:lnTo>
                  <a:pt x="11" y="241"/>
                </a:lnTo>
                <a:lnTo>
                  <a:pt x="20" y="252"/>
                </a:lnTo>
                <a:lnTo>
                  <a:pt x="22" y="258"/>
                </a:lnTo>
                <a:lnTo>
                  <a:pt x="25" y="260"/>
                </a:lnTo>
                <a:lnTo>
                  <a:pt x="31" y="263"/>
                </a:lnTo>
                <a:lnTo>
                  <a:pt x="44" y="266"/>
                </a:lnTo>
                <a:lnTo>
                  <a:pt x="55" y="269"/>
                </a:lnTo>
                <a:lnTo>
                  <a:pt x="63" y="271"/>
                </a:lnTo>
                <a:lnTo>
                  <a:pt x="66" y="274"/>
                </a:lnTo>
                <a:lnTo>
                  <a:pt x="72" y="280"/>
                </a:lnTo>
                <a:lnTo>
                  <a:pt x="74" y="280"/>
                </a:lnTo>
                <a:lnTo>
                  <a:pt x="83" y="280"/>
                </a:lnTo>
                <a:lnTo>
                  <a:pt x="102" y="282"/>
                </a:lnTo>
                <a:lnTo>
                  <a:pt x="121" y="282"/>
                </a:lnTo>
                <a:lnTo>
                  <a:pt x="129" y="282"/>
                </a:lnTo>
                <a:lnTo>
                  <a:pt x="135" y="282"/>
                </a:lnTo>
                <a:lnTo>
                  <a:pt x="132" y="282"/>
                </a:lnTo>
                <a:lnTo>
                  <a:pt x="129" y="282"/>
                </a:lnTo>
                <a:lnTo>
                  <a:pt x="115" y="282"/>
                </a:lnTo>
                <a:lnTo>
                  <a:pt x="102" y="282"/>
                </a:lnTo>
                <a:lnTo>
                  <a:pt x="99" y="282"/>
                </a:lnTo>
                <a:lnTo>
                  <a:pt x="96" y="2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32200" y="4532400"/>
            <a:ext cx="230040" cy="507960"/>
          </a:xfrm>
          <a:custGeom>
            <a:avLst/>
            <a:gdLst/>
            <a:ahLst/>
            <a:rect l="l" t="t" r="r" b="b"/>
            <a:pathLst>
              <a:path w="145" h="320">
                <a:moveTo>
                  <a:pt x="25" y="0"/>
                </a:moveTo>
                <a:lnTo>
                  <a:pt x="38" y="3"/>
                </a:lnTo>
                <a:lnTo>
                  <a:pt x="46" y="6"/>
                </a:lnTo>
                <a:lnTo>
                  <a:pt x="55" y="8"/>
                </a:lnTo>
                <a:lnTo>
                  <a:pt x="57" y="14"/>
                </a:lnTo>
                <a:lnTo>
                  <a:pt x="63" y="19"/>
                </a:lnTo>
                <a:lnTo>
                  <a:pt x="71" y="27"/>
                </a:lnTo>
                <a:lnTo>
                  <a:pt x="85" y="38"/>
                </a:lnTo>
                <a:lnTo>
                  <a:pt x="96" y="49"/>
                </a:lnTo>
                <a:lnTo>
                  <a:pt x="101" y="58"/>
                </a:lnTo>
                <a:lnTo>
                  <a:pt x="104" y="60"/>
                </a:lnTo>
                <a:lnTo>
                  <a:pt x="107" y="66"/>
                </a:lnTo>
                <a:lnTo>
                  <a:pt x="118" y="79"/>
                </a:lnTo>
                <a:lnTo>
                  <a:pt x="126" y="93"/>
                </a:lnTo>
                <a:lnTo>
                  <a:pt x="129" y="99"/>
                </a:lnTo>
                <a:lnTo>
                  <a:pt x="131" y="101"/>
                </a:lnTo>
                <a:lnTo>
                  <a:pt x="142" y="134"/>
                </a:lnTo>
                <a:lnTo>
                  <a:pt x="145" y="153"/>
                </a:lnTo>
                <a:lnTo>
                  <a:pt x="145" y="172"/>
                </a:lnTo>
                <a:lnTo>
                  <a:pt x="142" y="178"/>
                </a:lnTo>
                <a:lnTo>
                  <a:pt x="137" y="189"/>
                </a:lnTo>
                <a:lnTo>
                  <a:pt x="126" y="214"/>
                </a:lnTo>
                <a:lnTo>
                  <a:pt x="118" y="238"/>
                </a:lnTo>
                <a:lnTo>
                  <a:pt x="115" y="246"/>
                </a:lnTo>
                <a:lnTo>
                  <a:pt x="112" y="255"/>
                </a:lnTo>
                <a:lnTo>
                  <a:pt x="109" y="260"/>
                </a:lnTo>
                <a:lnTo>
                  <a:pt x="101" y="268"/>
                </a:lnTo>
                <a:lnTo>
                  <a:pt x="85" y="287"/>
                </a:lnTo>
                <a:lnTo>
                  <a:pt x="68" y="304"/>
                </a:lnTo>
                <a:lnTo>
                  <a:pt x="60" y="312"/>
                </a:lnTo>
                <a:lnTo>
                  <a:pt x="55" y="318"/>
                </a:lnTo>
                <a:lnTo>
                  <a:pt x="49" y="320"/>
                </a:lnTo>
                <a:lnTo>
                  <a:pt x="44" y="318"/>
                </a:lnTo>
                <a:lnTo>
                  <a:pt x="36" y="312"/>
                </a:lnTo>
                <a:lnTo>
                  <a:pt x="30" y="307"/>
                </a:lnTo>
                <a:lnTo>
                  <a:pt x="16" y="293"/>
                </a:lnTo>
                <a:lnTo>
                  <a:pt x="8" y="287"/>
                </a:lnTo>
                <a:lnTo>
                  <a:pt x="0" y="2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541600" y="4497480"/>
            <a:ext cx="164880" cy="95040"/>
            <a:chOff x="2541600" y="4497480"/>
            <a:chExt cx="164880" cy="95040"/>
          </a:xfrm>
        </p:grpSpPr>
        <p:sp>
          <p:nvSpPr>
            <p:cNvPr id="710" name=""/>
            <p:cNvSpPr/>
            <p:nvPr/>
          </p:nvSpPr>
          <p:spPr>
            <a:xfrm flipH="1">
              <a:off x="2626920" y="4545000"/>
              <a:ext cx="795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41600" y="4497480"/>
              <a:ext cx="9036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57" y="0"/>
                  </a:moveTo>
                  <a:lnTo>
                    <a:pt x="0" y="30"/>
                  </a:lnTo>
                  <a:lnTo>
                    <a:pt x="57" y="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541600" y="4954680"/>
            <a:ext cx="165240" cy="95040"/>
            <a:chOff x="2541600" y="4954680"/>
            <a:chExt cx="165240" cy="95040"/>
          </a:xfrm>
        </p:grpSpPr>
        <p:sp>
          <p:nvSpPr>
            <p:cNvPr id="713" name=""/>
            <p:cNvSpPr/>
            <p:nvPr/>
          </p:nvSpPr>
          <p:spPr>
            <a:xfrm>
              <a:off x="2541600" y="5002200"/>
              <a:ext cx="77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14680" y="4954680"/>
              <a:ext cx="92160" cy="9504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60"/>
                  </a:moveTo>
                  <a:lnTo>
                    <a:pt x="58" y="30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541600" y="4059360"/>
            <a:ext cx="165240" cy="95040"/>
            <a:chOff x="2541600" y="4059360"/>
            <a:chExt cx="165240" cy="95040"/>
          </a:xfrm>
        </p:grpSpPr>
        <p:sp>
          <p:nvSpPr>
            <p:cNvPr id="716" name=""/>
            <p:cNvSpPr/>
            <p:nvPr/>
          </p:nvSpPr>
          <p:spPr>
            <a:xfrm flipH="1">
              <a:off x="2624040" y="4102200"/>
              <a:ext cx="828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41600" y="4059360"/>
              <a:ext cx="9036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57" y="0"/>
                  </a:moveTo>
                  <a:lnTo>
                    <a:pt x="0" y="30"/>
                  </a:lnTo>
                  <a:lnTo>
                    <a:pt x="57" y="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2728440" y="4079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28440" y="4546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180880" y="2843280"/>
            <a:ext cx="477720" cy="1666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496960" y="2846520"/>
            <a:ext cx="162000" cy="15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58960" y="2843280"/>
            <a:ext cx="433440" cy="1666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36880" y="3932280"/>
            <a:ext cx="119520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332080" y="3919680"/>
            <a:ext cx="14400" cy="6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541240" y="3919680"/>
            <a:ext cx="324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44800" y="3936960"/>
            <a:ext cx="12600" cy="3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76640" y="4979880"/>
            <a:ext cx="1568160" cy="277920"/>
          </a:xfrm>
          <a:custGeom>
            <a:avLst/>
            <a:gdLst/>
            <a:ahLst/>
            <a:rect l="l" t="t" r="r" b="b"/>
            <a:pathLst>
              <a:path w="988" h="175">
                <a:moveTo>
                  <a:pt x="0" y="0"/>
                </a:moveTo>
                <a:lnTo>
                  <a:pt x="38" y="85"/>
                </a:lnTo>
                <a:lnTo>
                  <a:pt x="120" y="148"/>
                </a:lnTo>
                <a:lnTo>
                  <a:pt x="323" y="170"/>
                </a:lnTo>
                <a:lnTo>
                  <a:pt x="687" y="175"/>
                </a:lnTo>
                <a:lnTo>
                  <a:pt x="988" y="1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98880" y="5122800"/>
            <a:ext cx="400320" cy="135000"/>
          </a:xfrm>
          <a:custGeom>
            <a:avLst/>
            <a:gdLst/>
            <a:ahLst/>
            <a:rect l="l" t="t" r="r" b="b"/>
            <a:pathLst>
              <a:path w="252" h="85">
                <a:moveTo>
                  <a:pt x="0" y="85"/>
                </a:moveTo>
                <a:lnTo>
                  <a:pt x="47" y="71"/>
                </a:lnTo>
                <a:lnTo>
                  <a:pt x="77" y="36"/>
                </a:lnTo>
                <a:lnTo>
                  <a:pt x="118" y="8"/>
                </a:lnTo>
                <a:lnTo>
                  <a:pt x="156" y="0"/>
                </a:lnTo>
                <a:lnTo>
                  <a:pt x="200" y="11"/>
                </a:lnTo>
                <a:lnTo>
                  <a:pt x="252" y="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65000" y="33940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37320" y="4162320"/>
            <a:ext cx="108000" cy="192240"/>
          </a:xfrm>
          <a:custGeom>
            <a:avLst/>
            <a:gdLst/>
            <a:ahLst/>
            <a:rect l="l" t="t" r="r" b="b"/>
            <a:pathLst>
              <a:path w="68" h="121">
                <a:moveTo>
                  <a:pt x="0" y="91"/>
                </a:moveTo>
                <a:lnTo>
                  <a:pt x="16" y="91"/>
                </a:lnTo>
                <a:lnTo>
                  <a:pt x="16" y="0"/>
                </a:lnTo>
                <a:lnTo>
                  <a:pt x="52" y="0"/>
                </a:lnTo>
                <a:lnTo>
                  <a:pt x="52" y="91"/>
                </a:lnTo>
                <a:lnTo>
                  <a:pt x="68" y="91"/>
                </a:lnTo>
                <a:lnTo>
                  <a:pt x="35" y="121"/>
                </a:lnTo>
                <a:lnTo>
                  <a:pt x="0" y="9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10000" y="4602240"/>
            <a:ext cx="109440" cy="187200"/>
          </a:xfrm>
          <a:custGeom>
            <a:avLst/>
            <a:gdLst/>
            <a:ahLst/>
            <a:rect l="l" t="t" r="r" b="b"/>
            <a:pathLst>
              <a:path w="69" h="118">
                <a:moveTo>
                  <a:pt x="0" y="30"/>
                </a:moveTo>
                <a:lnTo>
                  <a:pt x="17" y="30"/>
                </a:lnTo>
                <a:lnTo>
                  <a:pt x="17" y="118"/>
                </a:lnTo>
                <a:lnTo>
                  <a:pt x="50" y="118"/>
                </a:lnTo>
                <a:lnTo>
                  <a:pt x="50" y="30"/>
                </a:lnTo>
                <a:lnTo>
                  <a:pt x="69" y="30"/>
                </a:lnTo>
                <a:lnTo>
                  <a:pt x="33" y="0"/>
                </a:lnTo>
                <a:lnTo>
                  <a:pt x="0" y="3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10000" y="4162320"/>
            <a:ext cx="109440" cy="192240"/>
          </a:xfrm>
          <a:custGeom>
            <a:avLst/>
            <a:gdLst/>
            <a:ahLst/>
            <a:rect l="l" t="t" r="r" b="b"/>
            <a:pathLst>
              <a:path w="69" h="121">
                <a:moveTo>
                  <a:pt x="0" y="31"/>
                </a:moveTo>
                <a:lnTo>
                  <a:pt x="17" y="31"/>
                </a:lnTo>
                <a:lnTo>
                  <a:pt x="17" y="121"/>
                </a:lnTo>
                <a:lnTo>
                  <a:pt x="50" y="121"/>
                </a:lnTo>
                <a:lnTo>
                  <a:pt x="50" y="31"/>
                </a:lnTo>
                <a:lnTo>
                  <a:pt x="69" y="31"/>
                </a:lnTo>
                <a:lnTo>
                  <a:pt x="33" y="0"/>
                </a:lnTo>
                <a:lnTo>
                  <a:pt x="0" y="3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92400" y="3711600"/>
            <a:ext cx="3097440" cy="264960"/>
          </a:xfrm>
          <a:custGeom>
            <a:avLst/>
            <a:gdLst/>
            <a:ahLst/>
            <a:rect l="l" t="t" r="r" b="b"/>
            <a:pathLst>
              <a:path w="1951" h="167">
                <a:moveTo>
                  <a:pt x="0" y="167"/>
                </a:moveTo>
                <a:lnTo>
                  <a:pt x="11" y="109"/>
                </a:lnTo>
                <a:lnTo>
                  <a:pt x="69" y="49"/>
                </a:lnTo>
                <a:lnTo>
                  <a:pt x="132" y="22"/>
                </a:lnTo>
                <a:lnTo>
                  <a:pt x="320" y="5"/>
                </a:lnTo>
                <a:lnTo>
                  <a:pt x="621" y="0"/>
                </a:lnTo>
                <a:lnTo>
                  <a:pt x="1013" y="19"/>
                </a:lnTo>
                <a:lnTo>
                  <a:pt x="1272" y="0"/>
                </a:lnTo>
                <a:lnTo>
                  <a:pt x="1530" y="0"/>
                </a:lnTo>
                <a:lnTo>
                  <a:pt x="1697" y="14"/>
                </a:lnTo>
                <a:lnTo>
                  <a:pt x="1806" y="27"/>
                </a:lnTo>
                <a:lnTo>
                  <a:pt x="1869" y="60"/>
                </a:lnTo>
                <a:lnTo>
                  <a:pt x="1915" y="98"/>
                </a:lnTo>
                <a:lnTo>
                  <a:pt x="1951" y="1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6225840" y="5177520"/>
            <a:ext cx="42120" cy="176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87320" y="25146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200200" y="3714840"/>
            <a:ext cx="190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71200" y="1600200"/>
            <a:ext cx="2095920" cy="199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4" y="12"/>
                </a:moveTo>
                <a:arcTo wR="10800" hR="10800" stAng="-5564461" swAng="5565880"/>
                <a:lnTo>
                  <a:pt x="10800" y="10800"/>
                </a:lnTo>
                <a:close/>
              </a:path>
              <a:path fill="none" w="21600" h="21600">
                <a:moveTo>
                  <a:pt x="10284" y="12"/>
                </a:moveTo>
                <a:arcTo wR="10800" hR="10800" stAng="-5564461" swAng="5565880"/>
              </a:path>
            </a:pathLst>
          </a:custGeom>
          <a:noFill/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4017960" y="2222640"/>
            <a:ext cx="135000" cy="280800"/>
            <a:chOff x="4017960" y="2222640"/>
            <a:chExt cx="135000" cy="280800"/>
          </a:xfrm>
        </p:grpSpPr>
        <p:grpSp>
          <p:nvGrpSpPr>
            <p:cNvPr id="739" name=""/>
            <p:cNvGrpSpPr/>
            <p:nvPr/>
          </p:nvGrpSpPr>
          <p:grpSpPr>
            <a:xfrm>
              <a:off x="4048200" y="2222640"/>
              <a:ext cx="77760" cy="77760"/>
              <a:chOff x="4048200" y="2222640"/>
              <a:chExt cx="77760" cy="777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4052880" y="2225880"/>
                <a:ext cx="69840" cy="69840"/>
                <a:chOff x="4052880" y="2225880"/>
                <a:chExt cx="69840" cy="6984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052880" y="2225880"/>
                  <a:ext cx="69840" cy="69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060800" y="2235240"/>
                  <a:ext cx="47520" cy="47520"/>
                </a:xfrm>
                <a:prstGeom prst="ellipse">
                  <a:avLst/>
                </a:prstGeom>
                <a:solidFill>
                  <a:srgbClr val="7d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75200" y="2247840"/>
                  <a:ext cx="20520" cy="22320"/>
                </a:xfrm>
                <a:prstGeom prst="ellipse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048200" y="2222640"/>
                <a:ext cx="77760" cy="7776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017960" y="2300400"/>
              <a:ext cx="135000" cy="203040"/>
              <a:chOff x="4017960" y="2300400"/>
              <a:chExt cx="135000" cy="20304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4017960" y="2300400"/>
                <a:ext cx="131760" cy="200160"/>
                <a:chOff x="4017960" y="2300400"/>
                <a:chExt cx="131760" cy="20016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017960" y="2300400"/>
                  <a:ext cx="12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e2e2e"/>
                    </a:gs>
                    <a:gs pos="50000">
                      <a:srgbClr val="ffffff"/>
                    </a:gs>
                    <a:gs pos="100000">
                      <a:srgbClr val="2e2e2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30560" y="2300400"/>
                  <a:ext cx="1296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043520" y="2300400"/>
                  <a:ext cx="1404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3b3b3"/>
                    </a:gs>
                    <a:gs pos="50000">
                      <a:srgbClr val="ffffff"/>
                    </a:gs>
                    <a:gs pos="100000">
                      <a:srgbClr val="b3b3b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057560" y="2300400"/>
                  <a:ext cx="1296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e4"/>
                    </a:gs>
                    <a:gs pos="50000">
                      <a:srgbClr val="ffffff"/>
                    </a:gs>
                    <a:gs pos="100000">
                      <a:srgbClr val="e4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70520" y="2300400"/>
                  <a:ext cx="12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afafa"/>
                    </a:gs>
                    <a:gs pos="50000">
                      <a:srgbClr val="ffffff"/>
                    </a:gs>
                    <a:gs pos="100000">
                      <a:srgbClr val="fafaf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83120" y="2300400"/>
                  <a:ext cx="12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afafa"/>
                    </a:gs>
                    <a:gs pos="50000">
                      <a:srgbClr val="ffffff"/>
                    </a:gs>
                    <a:gs pos="100000">
                      <a:srgbClr val="fafaf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95720" y="2300400"/>
                  <a:ext cx="12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4e4e4"/>
                    </a:gs>
                    <a:gs pos="50000">
                      <a:srgbClr val="ffffff"/>
                    </a:gs>
                    <a:gs pos="100000">
                      <a:srgbClr val="e4e4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08320" y="2300400"/>
                  <a:ext cx="144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3b3b3"/>
                    </a:gs>
                    <a:gs pos="50000">
                      <a:srgbClr val="ffffff"/>
                    </a:gs>
                    <a:gs pos="100000">
                      <a:srgbClr val="b3b3b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22720" y="2300400"/>
                  <a:ext cx="12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35320" y="2300400"/>
                  <a:ext cx="1296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e2e2e"/>
                    </a:gs>
                    <a:gs pos="50000">
                      <a:srgbClr val="ffffff"/>
                    </a:gs>
                    <a:gs pos="100000">
                      <a:srgbClr val="2e2e2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148280" y="2300400"/>
                  <a:ext cx="144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4017960" y="2300400"/>
                <a:ext cx="135000" cy="2030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"/>
          <p:cNvGrpSpPr/>
          <p:nvPr/>
        </p:nvGrpSpPr>
        <p:grpSpPr>
          <a:xfrm>
            <a:off x="5108400" y="5045040"/>
            <a:ext cx="628920" cy="595440"/>
            <a:chOff x="5108400" y="5045040"/>
            <a:chExt cx="628920" cy="595440"/>
          </a:xfrm>
        </p:grpSpPr>
        <p:pic>
          <p:nvPicPr>
            <p:cNvPr id="760" name="" descr=""/>
            <p:cNvPicPr/>
            <p:nvPr/>
          </p:nvPicPr>
          <p:blipFill>
            <a:blip r:embed="rId1"/>
            <a:stretch/>
          </p:blipFill>
          <p:spPr>
            <a:xfrm>
              <a:off x="5108400" y="5045040"/>
              <a:ext cx="62892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5381640" y="5283360"/>
              <a:ext cx="260280" cy="161640"/>
            </a:xfrm>
            <a:custGeom>
              <a:avLst/>
              <a:gdLst/>
              <a:ahLst/>
              <a:rect l="l" t="t" r="r" b="b"/>
              <a:pathLst>
                <a:path w="164" h="102">
                  <a:moveTo>
                    <a:pt x="0" y="44"/>
                  </a:moveTo>
                  <a:lnTo>
                    <a:pt x="0" y="83"/>
                  </a:lnTo>
                  <a:lnTo>
                    <a:pt x="0" y="102"/>
                  </a:lnTo>
                  <a:lnTo>
                    <a:pt x="164" y="61"/>
                  </a:lnTo>
                  <a:lnTo>
                    <a:pt x="164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73640" y="5079960"/>
              <a:ext cx="168480" cy="4284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0" y="19"/>
                  </a:moveTo>
                  <a:lnTo>
                    <a:pt x="13" y="27"/>
                  </a:lnTo>
                  <a:lnTo>
                    <a:pt x="106" y="11"/>
                  </a:lnTo>
                  <a:lnTo>
                    <a:pt x="9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5621400" y="4975200"/>
            <a:ext cx="855720" cy="274680"/>
          </a:xfrm>
          <a:custGeom>
            <a:avLst/>
            <a:gdLst/>
            <a:ahLst/>
            <a:rect l="l" t="t" r="r" b="b"/>
            <a:pathLst>
              <a:path w="539" h="173">
                <a:moveTo>
                  <a:pt x="0" y="99"/>
                </a:moveTo>
                <a:lnTo>
                  <a:pt x="65" y="107"/>
                </a:lnTo>
                <a:lnTo>
                  <a:pt x="123" y="132"/>
                </a:lnTo>
                <a:lnTo>
                  <a:pt x="172" y="162"/>
                </a:lnTo>
                <a:lnTo>
                  <a:pt x="235" y="173"/>
                </a:lnTo>
                <a:lnTo>
                  <a:pt x="328" y="159"/>
                </a:lnTo>
                <a:lnTo>
                  <a:pt x="421" y="121"/>
                </a:lnTo>
                <a:lnTo>
                  <a:pt x="481" y="80"/>
                </a:lnTo>
                <a:lnTo>
                  <a:pt x="53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619360" y="2513160"/>
            <a:ext cx="4100400" cy="603000"/>
            <a:chOff x="2619360" y="2513160"/>
            <a:chExt cx="4100400" cy="603000"/>
          </a:xfrm>
        </p:grpSpPr>
        <p:sp>
          <p:nvSpPr>
            <p:cNvPr id="765" name=""/>
            <p:cNvSpPr/>
            <p:nvPr/>
          </p:nvSpPr>
          <p:spPr>
            <a:xfrm>
              <a:off x="2619360" y="2513160"/>
              <a:ext cx="4100400" cy="603000"/>
            </a:xfrm>
            <a:custGeom>
              <a:avLst/>
              <a:gdLst/>
              <a:ahLst/>
              <a:rect l="l" t="t" r="r" b="b"/>
              <a:pathLst>
                <a:path w="2583" h="380">
                  <a:moveTo>
                    <a:pt x="0" y="0"/>
                  </a:moveTo>
                  <a:lnTo>
                    <a:pt x="2583" y="0"/>
                  </a:lnTo>
                  <a:lnTo>
                    <a:pt x="2583" y="145"/>
                  </a:lnTo>
                  <a:lnTo>
                    <a:pt x="1371" y="380"/>
                  </a:lnTo>
                  <a:lnTo>
                    <a:pt x="1237" y="380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19360" y="2513160"/>
              <a:ext cx="4100400" cy="603000"/>
            </a:xfrm>
            <a:custGeom>
              <a:avLst/>
              <a:gdLst/>
              <a:ahLst/>
              <a:rect l="l" t="t" r="r" b="b"/>
              <a:pathLst>
                <a:path w="2583" h="380">
                  <a:moveTo>
                    <a:pt x="0" y="0"/>
                  </a:moveTo>
                  <a:lnTo>
                    <a:pt x="2583" y="0"/>
                  </a:lnTo>
                  <a:lnTo>
                    <a:pt x="2583" y="145"/>
                  </a:lnTo>
                  <a:lnTo>
                    <a:pt x="1371" y="380"/>
                  </a:lnTo>
                  <a:lnTo>
                    <a:pt x="1237" y="380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am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567480" y="2560680"/>
            <a:ext cx="222120" cy="317520"/>
          </a:xfrm>
          <a:custGeom>
            <a:avLst/>
            <a:gdLst/>
            <a:ahLst/>
            <a:rect l="l" t="t" r="r" b="b"/>
            <a:pathLst>
              <a:path w="140" h="200">
                <a:moveTo>
                  <a:pt x="0" y="76"/>
                </a:moveTo>
                <a:lnTo>
                  <a:pt x="3" y="54"/>
                </a:lnTo>
                <a:lnTo>
                  <a:pt x="8" y="30"/>
                </a:lnTo>
                <a:lnTo>
                  <a:pt x="30" y="11"/>
                </a:lnTo>
                <a:lnTo>
                  <a:pt x="58" y="0"/>
                </a:lnTo>
                <a:lnTo>
                  <a:pt x="85" y="2"/>
                </a:lnTo>
                <a:lnTo>
                  <a:pt x="118" y="22"/>
                </a:lnTo>
                <a:lnTo>
                  <a:pt x="137" y="52"/>
                </a:lnTo>
                <a:lnTo>
                  <a:pt x="140" y="82"/>
                </a:lnTo>
                <a:lnTo>
                  <a:pt x="123" y="109"/>
                </a:lnTo>
                <a:lnTo>
                  <a:pt x="96" y="131"/>
                </a:lnTo>
                <a:lnTo>
                  <a:pt x="88" y="137"/>
                </a:lnTo>
                <a:lnTo>
                  <a:pt x="104" y="161"/>
                </a:lnTo>
                <a:lnTo>
                  <a:pt x="101" y="183"/>
                </a:lnTo>
                <a:lnTo>
                  <a:pt x="85" y="197"/>
                </a:lnTo>
                <a:lnTo>
                  <a:pt x="58" y="200"/>
                </a:lnTo>
                <a:lnTo>
                  <a:pt x="44" y="191"/>
                </a:lnTo>
                <a:lnTo>
                  <a:pt x="38" y="180"/>
                </a:lnTo>
                <a:lnTo>
                  <a:pt x="36" y="158"/>
                </a:lnTo>
                <a:lnTo>
                  <a:pt x="41" y="142"/>
                </a:lnTo>
                <a:lnTo>
                  <a:pt x="49" y="128"/>
                </a:lnTo>
                <a:lnTo>
                  <a:pt x="66" y="106"/>
                </a:lnTo>
                <a:lnTo>
                  <a:pt x="90" y="85"/>
                </a:lnTo>
                <a:lnTo>
                  <a:pt x="107" y="65"/>
                </a:lnTo>
                <a:lnTo>
                  <a:pt x="99" y="49"/>
                </a:lnTo>
                <a:lnTo>
                  <a:pt x="93" y="35"/>
                </a:lnTo>
                <a:lnTo>
                  <a:pt x="71" y="30"/>
                </a:lnTo>
                <a:lnTo>
                  <a:pt x="49" y="30"/>
                </a:lnTo>
                <a:lnTo>
                  <a:pt x="36" y="44"/>
                </a:lnTo>
                <a:lnTo>
                  <a:pt x="30" y="63"/>
                </a:lnTo>
                <a:lnTo>
                  <a:pt x="27" y="82"/>
                </a:lnTo>
                <a:lnTo>
                  <a:pt x="0" y="76"/>
                </a:lnTo>
                <a:lnTo>
                  <a:pt x="0" y="76"/>
                </a:lnTo>
                <a:close/>
              </a:path>
            </a:pathLst>
          </a:custGeom>
          <a:solidFill>
            <a:srgbClr val="c0c0c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654960" y="2808360"/>
            <a:ext cx="349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45240" y="2798640"/>
            <a:ext cx="52560" cy="525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649920" y="260352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2" y="0"/>
                </a:moveTo>
                <a:lnTo>
                  <a:pt x="0" y="41"/>
                </a:lnTo>
                <a:lnTo>
                  <a:pt x="41" y="41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54200" y="2560680"/>
            <a:ext cx="220680" cy="320760"/>
          </a:xfrm>
          <a:custGeom>
            <a:avLst/>
            <a:gdLst/>
            <a:ahLst/>
            <a:rect l="l" t="t" r="r" b="b"/>
            <a:pathLst>
              <a:path w="139" h="202">
                <a:moveTo>
                  <a:pt x="139" y="79"/>
                </a:moveTo>
                <a:lnTo>
                  <a:pt x="137" y="54"/>
                </a:lnTo>
                <a:lnTo>
                  <a:pt x="131" y="30"/>
                </a:lnTo>
                <a:lnTo>
                  <a:pt x="109" y="11"/>
                </a:lnTo>
                <a:lnTo>
                  <a:pt x="82" y="0"/>
                </a:lnTo>
                <a:lnTo>
                  <a:pt x="55" y="2"/>
                </a:lnTo>
                <a:lnTo>
                  <a:pt x="22" y="22"/>
                </a:lnTo>
                <a:lnTo>
                  <a:pt x="3" y="52"/>
                </a:lnTo>
                <a:lnTo>
                  <a:pt x="0" y="82"/>
                </a:lnTo>
                <a:lnTo>
                  <a:pt x="16" y="112"/>
                </a:lnTo>
                <a:lnTo>
                  <a:pt x="44" y="131"/>
                </a:lnTo>
                <a:lnTo>
                  <a:pt x="52" y="137"/>
                </a:lnTo>
                <a:lnTo>
                  <a:pt x="35" y="161"/>
                </a:lnTo>
                <a:lnTo>
                  <a:pt x="38" y="183"/>
                </a:lnTo>
                <a:lnTo>
                  <a:pt x="55" y="200"/>
                </a:lnTo>
                <a:lnTo>
                  <a:pt x="82" y="202"/>
                </a:lnTo>
                <a:lnTo>
                  <a:pt x="96" y="194"/>
                </a:lnTo>
                <a:lnTo>
                  <a:pt x="101" y="180"/>
                </a:lnTo>
                <a:lnTo>
                  <a:pt x="104" y="161"/>
                </a:lnTo>
                <a:lnTo>
                  <a:pt x="98" y="142"/>
                </a:lnTo>
                <a:lnTo>
                  <a:pt x="90" y="128"/>
                </a:lnTo>
                <a:lnTo>
                  <a:pt x="74" y="109"/>
                </a:lnTo>
                <a:lnTo>
                  <a:pt x="49" y="85"/>
                </a:lnTo>
                <a:lnTo>
                  <a:pt x="33" y="68"/>
                </a:lnTo>
                <a:lnTo>
                  <a:pt x="41" y="49"/>
                </a:lnTo>
                <a:lnTo>
                  <a:pt x="46" y="35"/>
                </a:lnTo>
                <a:lnTo>
                  <a:pt x="68" y="30"/>
                </a:lnTo>
                <a:lnTo>
                  <a:pt x="90" y="30"/>
                </a:lnTo>
                <a:lnTo>
                  <a:pt x="104" y="44"/>
                </a:lnTo>
                <a:lnTo>
                  <a:pt x="109" y="65"/>
                </a:lnTo>
                <a:lnTo>
                  <a:pt x="112" y="82"/>
                </a:lnTo>
                <a:lnTo>
                  <a:pt x="139" y="79"/>
                </a:lnTo>
                <a:lnTo>
                  <a:pt x="139" y="79"/>
                </a:lnTo>
                <a:close/>
              </a:path>
            </a:pathLst>
          </a:custGeom>
          <a:solidFill>
            <a:srgbClr val="c0c0c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44920" y="2808360"/>
            <a:ext cx="3492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37000" y="2798640"/>
            <a:ext cx="52200" cy="5724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41680" y="260352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2" y="0"/>
                </a:moveTo>
                <a:lnTo>
                  <a:pt x="0" y="41"/>
                </a:lnTo>
                <a:lnTo>
                  <a:pt x="41" y="41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809520" y="5257800"/>
            <a:ext cx="142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909960" y="5179680"/>
            <a:ext cx="988560" cy="152640"/>
            <a:chOff x="3909960" y="5179680"/>
            <a:chExt cx="988560" cy="152640"/>
          </a:xfrm>
        </p:grpSpPr>
        <p:grpSp>
          <p:nvGrpSpPr>
            <p:cNvPr id="778" name=""/>
            <p:cNvGrpSpPr/>
            <p:nvPr/>
          </p:nvGrpSpPr>
          <p:grpSpPr>
            <a:xfrm>
              <a:off x="4022280" y="5179680"/>
              <a:ext cx="151200" cy="152640"/>
              <a:chOff x="4022280" y="5179680"/>
              <a:chExt cx="151200" cy="152640"/>
            </a:xfrm>
          </p:grpSpPr>
          <p:sp>
            <p:nvSpPr>
              <p:cNvPr id="779" name=""/>
              <p:cNvSpPr/>
              <p:nvPr/>
            </p:nvSpPr>
            <p:spPr>
              <a:xfrm flipH="1">
                <a:off x="4022280" y="518004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4095720" y="5179680"/>
                <a:ext cx="777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 flipH="1">
              <a:off x="4173120" y="5180040"/>
              <a:ext cx="79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4253040" y="5179680"/>
              <a:ext cx="72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325400" y="5179680"/>
              <a:ext cx="152640" cy="152640"/>
              <a:chOff x="4325400" y="5179680"/>
              <a:chExt cx="152640" cy="152640"/>
            </a:xfrm>
          </p:grpSpPr>
          <p:sp>
            <p:nvSpPr>
              <p:cNvPr id="784" name=""/>
              <p:cNvSpPr/>
              <p:nvPr/>
            </p:nvSpPr>
            <p:spPr>
              <a:xfrm flipH="1">
                <a:off x="4325400" y="5180040"/>
                <a:ext cx="795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>
                <a:off x="4404960" y="517968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 flipH="1">
              <a:off x="4478400" y="5180040"/>
              <a:ext cx="77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4556160" y="5179680"/>
              <a:ext cx="79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4325400" y="5179680"/>
              <a:ext cx="152640" cy="152640"/>
              <a:chOff x="4325400" y="5179680"/>
              <a:chExt cx="152640" cy="152640"/>
            </a:xfrm>
          </p:grpSpPr>
          <p:sp>
            <p:nvSpPr>
              <p:cNvPr id="789" name=""/>
              <p:cNvSpPr/>
              <p:nvPr/>
            </p:nvSpPr>
            <p:spPr>
              <a:xfrm flipH="1">
                <a:off x="4325400" y="5180040"/>
                <a:ext cx="795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 flipV="1">
                <a:off x="4404960" y="517968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635000" y="5179680"/>
              <a:ext cx="151200" cy="152640"/>
              <a:chOff x="4635000" y="5179680"/>
              <a:chExt cx="151200" cy="152640"/>
            </a:xfrm>
          </p:grpSpPr>
          <p:sp>
            <p:nvSpPr>
              <p:cNvPr id="792" name=""/>
              <p:cNvSpPr/>
              <p:nvPr/>
            </p:nvSpPr>
            <p:spPr>
              <a:xfrm flipH="1">
                <a:off x="4635000" y="5180040"/>
                <a:ext cx="730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 flipV="1">
                <a:off x="4708440" y="5179680"/>
                <a:ext cx="7776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 flipH="1" flipV="1">
              <a:off x="3987360" y="5262480"/>
              <a:ext cx="34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09960" y="526248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786200" y="5262480"/>
              <a:ext cx="34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816080" y="5262480"/>
              <a:ext cx="82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626000" y="2516040"/>
            <a:ext cx="142920" cy="147960"/>
            <a:chOff x="4626000" y="2516040"/>
            <a:chExt cx="142920" cy="147960"/>
          </a:xfrm>
        </p:grpSpPr>
        <p:sp>
          <p:nvSpPr>
            <p:cNvPr id="799" name=""/>
            <p:cNvSpPr/>
            <p:nvPr/>
          </p:nvSpPr>
          <p:spPr>
            <a:xfrm>
              <a:off x="4638600" y="251604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3" y="61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38600" y="2633760"/>
              <a:ext cx="1177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626000" y="2620800"/>
              <a:ext cx="142920" cy="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076800" y="4815000"/>
            <a:ext cx="119412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188120" y="4492800"/>
            <a:ext cx="292320" cy="382320"/>
          </a:xfrm>
          <a:custGeom>
            <a:avLst/>
            <a:gdLst/>
            <a:ahLst/>
            <a:rect l="l" t="t" r="r" b="b"/>
            <a:pathLst>
              <a:path w="184" h="241">
                <a:moveTo>
                  <a:pt x="0" y="0"/>
                </a:moveTo>
                <a:lnTo>
                  <a:pt x="14" y="0"/>
                </a:lnTo>
                <a:lnTo>
                  <a:pt x="28" y="3"/>
                </a:lnTo>
                <a:lnTo>
                  <a:pt x="55" y="14"/>
                </a:lnTo>
                <a:lnTo>
                  <a:pt x="80" y="22"/>
                </a:lnTo>
                <a:lnTo>
                  <a:pt x="99" y="28"/>
                </a:lnTo>
                <a:lnTo>
                  <a:pt x="110" y="33"/>
                </a:lnTo>
                <a:lnTo>
                  <a:pt x="118" y="36"/>
                </a:lnTo>
                <a:lnTo>
                  <a:pt x="129" y="44"/>
                </a:lnTo>
                <a:lnTo>
                  <a:pt x="140" y="50"/>
                </a:lnTo>
                <a:lnTo>
                  <a:pt x="156" y="66"/>
                </a:lnTo>
                <a:lnTo>
                  <a:pt x="159" y="69"/>
                </a:lnTo>
                <a:lnTo>
                  <a:pt x="162" y="72"/>
                </a:lnTo>
                <a:lnTo>
                  <a:pt x="167" y="74"/>
                </a:lnTo>
                <a:lnTo>
                  <a:pt x="167" y="74"/>
                </a:lnTo>
                <a:lnTo>
                  <a:pt x="173" y="85"/>
                </a:lnTo>
                <a:lnTo>
                  <a:pt x="178" y="93"/>
                </a:lnTo>
                <a:lnTo>
                  <a:pt x="181" y="104"/>
                </a:lnTo>
                <a:lnTo>
                  <a:pt x="181" y="113"/>
                </a:lnTo>
                <a:lnTo>
                  <a:pt x="181" y="124"/>
                </a:lnTo>
                <a:lnTo>
                  <a:pt x="181" y="143"/>
                </a:lnTo>
                <a:lnTo>
                  <a:pt x="184" y="162"/>
                </a:lnTo>
                <a:lnTo>
                  <a:pt x="181" y="170"/>
                </a:lnTo>
                <a:lnTo>
                  <a:pt x="175" y="178"/>
                </a:lnTo>
                <a:lnTo>
                  <a:pt x="170" y="189"/>
                </a:lnTo>
                <a:lnTo>
                  <a:pt x="159" y="200"/>
                </a:lnTo>
                <a:lnTo>
                  <a:pt x="151" y="211"/>
                </a:lnTo>
                <a:lnTo>
                  <a:pt x="140" y="222"/>
                </a:lnTo>
                <a:lnTo>
                  <a:pt x="126" y="228"/>
                </a:lnTo>
                <a:lnTo>
                  <a:pt x="115" y="228"/>
                </a:lnTo>
                <a:lnTo>
                  <a:pt x="110" y="228"/>
                </a:lnTo>
                <a:lnTo>
                  <a:pt x="99" y="230"/>
                </a:lnTo>
                <a:lnTo>
                  <a:pt x="91" y="230"/>
                </a:lnTo>
                <a:lnTo>
                  <a:pt x="82" y="230"/>
                </a:lnTo>
                <a:lnTo>
                  <a:pt x="80" y="230"/>
                </a:lnTo>
                <a:lnTo>
                  <a:pt x="71" y="233"/>
                </a:lnTo>
                <a:lnTo>
                  <a:pt x="55" y="236"/>
                </a:lnTo>
                <a:lnTo>
                  <a:pt x="39" y="239"/>
                </a:lnTo>
                <a:lnTo>
                  <a:pt x="30" y="241"/>
                </a:lnTo>
                <a:lnTo>
                  <a:pt x="28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046920" y="4049640"/>
            <a:ext cx="120600" cy="382680"/>
          </a:xfrm>
          <a:custGeom>
            <a:avLst/>
            <a:gdLst/>
            <a:ahLst/>
            <a:rect l="l" t="t" r="r" b="b"/>
            <a:pathLst>
              <a:path w="76" h="241">
                <a:moveTo>
                  <a:pt x="76" y="0"/>
                </a:moveTo>
                <a:lnTo>
                  <a:pt x="63" y="3"/>
                </a:lnTo>
                <a:lnTo>
                  <a:pt x="52" y="9"/>
                </a:lnTo>
                <a:lnTo>
                  <a:pt x="44" y="17"/>
                </a:lnTo>
                <a:lnTo>
                  <a:pt x="35" y="22"/>
                </a:lnTo>
                <a:lnTo>
                  <a:pt x="27" y="25"/>
                </a:lnTo>
                <a:lnTo>
                  <a:pt x="19" y="39"/>
                </a:lnTo>
                <a:lnTo>
                  <a:pt x="13" y="50"/>
                </a:lnTo>
                <a:lnTo>
                  <a:pt x="8" y="66"/>
                </a:lnTo>
                <a:lnTo>
                  <a:pt x="8" y="69"/>
                </a:lnTo>
                <a:lnTo>
                  <a:pt x="8" y="69"/>
                </a:lnTo>
                <a:lnTo>
                  <a:pt x="8" y="69"/>
                </a:lnTo>
                <a:lnTo>
                  <a:pt x="8" y="71"/>
                </a:lnTo>
                <a:lnTo>
                  <a:pt x="5" y="82"/>
                </a:lnTo>
                <a:lnTo>
                  <a:pt x="5" y="96"/>
                </a:lnTo>
                <a:lnTo>
                  <a:pt x="2" y="126"/>
                </a:lnTo>
                <a:lnTo>
                  <a:pt x="0" y="140"/>
                </a:lnTo>
                <a:lnTo>
                  <a:pt x="2" y="154"/>
                </a:lnTo>
                <a:lnTo>
                  <a:pt x="5" y="170"/>
                </a:lnTo>
                <a:lnTo>
                  <a:pt x="8" y="189"/>
                </a:lnTo>
                <a:lnTo>
                  <a:pt x="16" y="200"/>
                </a:lnTo>
                <a:lnTo>
                  <a:pt x="27" y="214"/>
                </a:lnTo>
                <a:lnTo>
                  <a:pt x="38" y="230"/>
                </a:lnTo>
                <a:lnTo>
                  <a:pt x="44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6615000" y="4041720"/>
            <a:ext cx="160200" cy="95400"/>
            <a:chOff x="6615000" y="4041720"/>
            <a:chExt cx="160200" cy="95400"/>
          </a:xfrm>
        </p:grpSpPr>
        <p:sp>
          <p:nvSpPr>
            <p:cNvPr id="806" name=""/>
            <p:cNvSpPr/>
            <p:nvPr/>
          </p:nvSpPr>
          <p:spPr>
            <a:xfrm flipH="1">
              <a:off x="6702120" y="4089240"/>
              <a:ext cx="730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15000" y="4041720"/>
              <a:ext cx="92160" cy="954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0"/>
                  </a:moveTo>
                  <a:lnTo>
                    <a:pt x="0" y="30"/>
                  </a:lnTo>
                  <a:lnTo>
                    <a:pt x="58" y="6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615000" y="4489560"/>
            <a:ext cx="160560" cy="95040"/>
            <a:chOff x="6615000" y="4489560"/>
            <a:chExt cx="160560" cy="95040"/>
          </a:xfrm>
        </p:grpSpPr>
        <p:sp>
          <p:nvSpPr>
            <p:cNvPr id="809" name=""/>
            <p:cNvSpPr/>
            <p:nvPr/>
          </p:nvSpPr>
          <p:spPr>
            <a:xfrm>
              <a:off x="6615000" y="4537080"/>
              <a:ext cx="74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84840" y="4489560"/>
              <a:ext cx="9072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0" y="60"/>
                  </a:moveTo>
                  <a:lnTo>
                    <a:pt x="57" y="30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615000" y="4937040"/>
            <a:ext cx="160560" cy="95400"/>
            <a:chOff x="6615000" y="4937040"/>
            <a:chExt cx="160560" cy="95400"/>
          </a:xfrm>
        </p:grpSpPr>
        <p:sp>
          <p:nvSpPr>
            <p:cNvPr id="812" name=""/>
            <p:cNvSpPr/>
            <p:nvPr/>
          </p:nvSpPr>
          <p:spPr>
            <a:xfrm>
              <a:off x="6615000" y="4984920"/>
              <a:ext cx="74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84840" y="4937040"/>
              <a:ext cx="90720" cy="954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0" y="60"/>
                  </a:moveTo>
                  <a:lnTo>
                    <a:pt x="57" y="30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6675480" y="2838600"/>
            <a:ext cx="474480" cy="16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672240" y="2843280"/>
            <a:ext cx="160200" cy="1533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237360" y="2838600"/>
            <a:ext cx="434880" cy="1658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76800" y="4367160"/>
            <a:ext cx="1194120" cy="18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476760" y="4514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476760" y="40766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76800" y="3919680"/>
            <a:ext cx="119412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85080" y="3916440"/>
            <a:ext cx="12600" cy="60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84920" y="3916440"/>
            <a:ext cx="468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372000" y="3929040"/>
            <a:ext cx="12600" cy="38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37320" y="4602240"/>
            <a:ext cx="108000" cy="187200"/>
          </a:xfrm>
          <a:custGeom>
            <a:avLst/>
            <a:gdLst/>
            <a:ahLst/>
            <a:rect l="l" t="t" r="r" b="b"/>
            <a:pathLst>
              <a:path w="68" h="118">
                <a:moveTo>
                  <a:pt x="0" y="87"/>
                </a:moveTo>
                <a:lnTo>
                  <a:pt x="16" y="87"/>
                </a:lnTo>
                <a:lnTo>
                  <a:pt x="16" y="0"/>
                </a:lnTo>
                <a:lnTo>
                  <a:pt x="52" y="0"/>
                </a:lnTo>
                <a:lnTo>
                  <a:pt x="52" y="87"/>
                </a:lnTo>
                <a:lnTo>
                  <a:pt x="68" y="87"/>
                </a:lnTo>
                <a:lnTo>
                  <a:pt x="35" y="118"/>
                </a:lnTo>
                <a:lnTo>
                  <a:pt x="0" y="87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36880" y="4379760"/>
            <a:ext cx="1195200" cy="18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036880" y="4832280"/>
            <a:ext cx="119520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836720" y="4014720"/>
            <a:ext cx="214200" cy="447840"/>
          </a:xfrm>
          <a:custGeom>
            <a:avLst/>
            <a:gdLst/>
            <a:ahLst/>
            <a:rect l="l" t="t" r="r" b="b"/>
            <a:pathLst>
              <a:path w="135" h="282">
                <a:moveTo>
                  <a:pt x="132" y="0"/>
                </a:moveTo>
                <a:lnTo>
                  <a:pt x="110" y="3"/>
                </a:lnTo>
                <a:lnTo>
                  <a:pt x="91" y="3"/>
                </a:lnTo>
                <a:lnTo>
                  <a:pt x="74" y="6"/>
                </a:lnTo>
                <a:lnTo>
                  <a:pt x="55" y="11"/>
                </a:lnTo>
                <a:lnTo>
                  <a:pt x="50" y="25"/>
                </a:lnTo>
                <a:lnTo>
                  <a:pt x="47" y="41"/>
                </a:lnTo>
                <a:lnTo>
                  <a:pt x="47" y="55"/>
                </a:lnTo>
                <a:lnTo>
                  <a:pt x="39" y="69"/>
                </a:lnTo>
                <a:lnTo>
                  <a:pt x="31" y="77"/>
                </a:lnTo>
                <a:lnTo>
                  <a:pt x="20" y="85"/>
                </a:lnTo>
                <a:lnTo>
                  <a:pt x="14" y="88"/>
                </a:lnTo>
                <a:lnTo>
                  <a:pt x="11" y="91"/>
                </a:lnTo>
                <a:lnTo>
                  <a:pt x="6" y="104"/>
                </a:lnTo>
                <a:lnTo>
                  <a:pt x="3" y="113"/>
                </a:lnTo>
                <a:lnTo>
                  <a:pt x="3" y="126"/>
                </a:lnTo>
                <a:lnTo>
                  <a:pt x="3" y="135"/>
                </a:lnTo>
                <a:lnTo>
                  <a:pt x="3" y="145"/>
                </a:lnTo>
                <a:lnTo>
                  <a:pt x="0" y="170"/>
                </a:lnTo>
                <a:lnTo>
                  <a:pt x="0" y="197"/>
                </a:lnTo>
                <a:lnTo>
                  <a:pt x="0" y="211"/>
                </a:lnTo>
                <a:lnTo>
                  <a:pt x="3" y="228"/>
                </a:lnTo>
                <a:lnTo>
                  <a:pt x="11" y="241"/>
                </a:lnTo>
                <a:lnTo>
                  <a:pt x="20" y="252"/>
                </a:lnTo>
                <a:lnTo>
                  <a:pt x="22" y="258"/>
                </a:lnTo>
                <a:lnTo>
                  <a:pt x="25" y="260"/>
                </a:lnTo>
                <a:lnTo>
                  <a:pt x="31" y="263"/>
                </a:lnTo>
                <a:lnTo>
                  <a:pt x="44" y="266"/>
                </a:lnTo>
                <a:lnTo>
                  <a:pt x="55" y="269"/>
                </a:lnTo>
                <a:lnTo>
                  <a:pt x="63" y="271"/>
                </a:lnTo>
                <a:lnTo>
                  <a:pt x="66" y="274"/>
                </a:lnTo>
                <a:lnTo>
                  <a:pt x="72" y="280"/>
                </a:lnTo>
                <a:lnTo>
                  <a:pt x="74" y="280"/>
                </a:lnTo>
                <a:lnTo>
                  <a:pt x="83" y="280"/>
                </a:lnTo>
                <a:lnTo>
                  <a:pt x="102" y="282"/>
                </a:lnTo>
                <a:lnTo>
                  <a:pt x="121" y="282"/>
                </a:lnTo>
                <a:lnTo>
                  <a:pt x="129" y="282"/>
                </a:lnTo>
                <a:lnTo>
                  <a:pt x="135" y="282"/>
                </a:lnTo>
                <a:lnTo>
                  <a:pt x="132" y="282"/>
                </a:lnTo>
                <a:lnTo>
                  <a:pt x="129" y="282"/>
                </a:lnTo>
                <a:lnTo>
                  <a:pt x="115" y="282"/>
                </a:lnTo>
                <a:lnTo>
                  <a:pt x="102" y="282"/>
                </a:lnTo>
                <a:lnTo>
                  <a:pt x="99" y="282"/>
                </a:lnTo>
                <a:lnTo>
                  <a:pt x="96" y="2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32200" y="4532400"/>
            <a:ext cx="230040" cy="507960"/>
          </a:xfrm>
          <a:custGeom>
            <a:avLst/>
            <a:gdLst/>
            <a:ahLst/>
            <a:rect l="l" t="t" r="r" b="b"/>
            <a:pathLst>
              <a:path w="145" h="320">
                <a:moveTo>
                  <a:pt x="25" y="0"/>
                </a:moveTo>
                <a:lnTo>
                  <a:pt x="38" y="3"/>
                </a:lnTo>
                <a:lnTo>
                  <a:pt x="46" y="6"/>
                </a:lnTo>
                <a:lnTo>
                  <a:pt x="55" y="8"/>
                </a:lnTo>
                <a:lnTo>
                  <a:pt x="57" y="14"/>
                </a:lnTo>
                <a:lnTo>
                  <a:pt x="63" y="19"/>
                </a:lnTo>
                <a:lnTo>
                  <a:pt x="71" y="27"/>
                </a:lnTo>
                <a:lnTo>
                  <a:pt x="85" y="38"/>
                </a:lnTo>
                <a:lnTo>
                  <a:pt x="96" y="49"/>
                </a:lnTo>
                <a:lnTo>
                  <a:pt x="101" y="58"/>
                </a:lnTo>
                <a:lnTo>
                  <a:pt x="104" y="60"/>
                </a:lnTo>
                <a:lnTo>
                  <a:pt x="107" y="66"/>
                </a:lnTo>
                <a:lnTo>
                  <a:pt x="118" y="79"/>
                </a:lnTo>
                <a:lnTo>
                  <a:pt x="126" y="93"/>
                </a:lnTo>
                <a:lnTo>
                  <a:pt x="129" y="99"/>
                </a:lnTo>
                <a:lnTo>
                  <a:pt x="131" y="101"/>
                </a:lnTo>
                <a:lnTo>
                  <a:pt x="142" y="134"/>
                </a:lnTo>
                <a:lnTo>
                  <a:pt x="145" y="153"/>
                </a:lnTo>
                <a:lnTo>
                  <a:pt x="145" y="172"/>
                </a:lnTo>
                <a:lnTo>
                  <a:pt x="142" y="178"/>
                </a:lnTo>
                <a:lnTo>
                  <a:pt x="137" y="189"/>
                </a:lnTo>
                <a:lnTo>
                  <a:pt x="126" y="214"/>
                </a:lnTo>
                <a:lnTo>
                  <a:pt x="118" y="238"/>
                </a:lnTo>
                <a:lnTo>
                  <a:pt x="115" y="246"/>
                </a:lnTo>
                <a:lnTo>
                  <a:pt x="112" y="255"/>
                </a:lnTo>
                <a:lnTo>
                  <a:pt x="109" y="260"/>
                </a:lnTo>
                <a:lnTo>
                  <a:pt x="101" y="268"/>
                </a:lnTo>
                <a:lnTo>
                  <a:pt x="85" y="287"/>
                </a:lnTo>
                <a:lnTo>
                  <a:pt x="68" y="304"/>
                </a:lnTo>
                <a:lnTo>
                  <a:pt x="60" y="312"/>
                </a:lnTo>
                <a:lnTo>
                  <a:pt x="55" y="318"/>
                </a:lnTo>
                <a:lnTo>
                  <a:pt x="49" y="320"/>
                </a:lnTo>
                <a:lnTo>
                  <a:pt x="44" y="318"/>
                </a:lnTo>
                <a:lnTo>
                  <a:pt x="36" y="312"/>
                </a:lnTo>
                <a:lnTo>
                  <a:pt x="30" y="307"/>
                </a:lnTo>
                <a:lnTo>
                  <a:pt x="16" y="293"/>
                </a:lnTo>
                <a:lnTo>
                  <a:pt x="8" y="287"/>
                </a:lnTo>
                <a:lnTo>
                  <a:pt x="0" y="2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541600" y="4497480"/>
            <a:ext cx="164880" cy="95040"/>
            <a:chOff x="2541600" y="4497480"/>
            <a:chExt cx="164880" cy="95040"/>
          </a:xfrm>
        </p:grpSpPr>
        <p:sp>
          <p:nvSpPr>
            <p:cNvPr id="830" name=""/>
            <p:cNvSpPr/>
            <p:nvPr/>
          </p:nvSpPr>
          <p:spPr>
            <a:xfrm flipH="1">
              <a:off x="2626920" y="4545000"/>
              <a:ext cx="795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41600" y="4497480"/>
              <a:ext cx="9036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57" y="0"/>
                  </a:moveTo>
                  <a:lnTo>
                    <a:pt x="0" y="30"/>
                  </a:lnTo>
                  <a:lnTo>
                    <a:pt x="57" y="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541600" y="4954680"/>
            <a:ext cx="165240" cy="95040"/>
            <a:chOff x="2541600" y="4954680"/>
            <a:chExt cx="165240" cy="95040"/>
          </a:xfrm>
        </p:grpSpPr>
        <p:sp>
          <p:nvSpPr>
            <p:cNvPr id="833" name=""/>
            <p:cNvSpPr/>
            <p:nvPr/>
          </p:nvSpPr>
          <p:spPr>
            <a:xfrm>
              <a:off x="2541600" y="5002200"/>
              <a:ext cx="77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14680" y="4954680"/>
              <a:ext cx="92160" cy="9504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60"/>
                  </a:moveTo>
                  <a:lnTo>
                    <a:pt x="58" y="30"/>
                  </a:lnTo>
                  <a:lnTo>
                    <a:pt x="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541600" y="4059360"/>
            <a:ext cx="165240" cy="95040"/>
            <a:chOff x="2541600" y="4059360"/>
            <a:chExt cx="165240" cy="95040"/>
          </a:xfrm>
        </p:grpSpPr>
        <p:sp>
          <p:nvSpPr>
            <p:cNvPr id="836" name=""/>
            <p:cNvSpPr/>
            <p:nvPr/>
          </p:nvSpPr>
          <p:spPr>
            <a:xfrm flipH="1">
              <a:off x="2624040" y="4102200"/>
              <a:ext cx="828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41600" y="4059360"/>
              <a:ext cx="9036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57" y="0"/>
                  </a:moveTo>
                  <a:lnTo>
                    <a:pt x="0" y="30"/>
                  </a:lnTo>
                  <a:lnTo>
                    <a:pt x="57" y="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728440" y="40798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28440" y="4546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180880" y="2843280"/>
            <a:ext cx="477720" cy="1666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2496960" y="2846520"/>
            <a:ext cx="162000" cy="15429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58960" y="2843280"/>
            <a:ext cx="433440" cy="1666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36880" y="3932280"/>
            <a:ext cx="1195200" cy="18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332080" y="3919680"/>
            <a:ext cx="14400" cy="64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2541240" y="3919680"/>
            <a:ext cx="3240" cy="47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44800" y="3936960"/>
            <a:ext cx="12600" cy="39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76640" y="4979880"/>
            <a:ext cx="1568160" cy="277920"/>
          </a:xfrm>
          <a:custGeom>
            <a:avLst/>
            <a:gdLst/>
            <a:ahLst/>
            <a:rect l="l" t="t" r="r" b="b"/>
            <a:pathLst>
              <a:path w="988" h="175">
                <a:moveTo>
                  <a:pt x="0" y="0"/>
                </a:moveTo>
                <a:lnTo>
                  <a:pt x="38" y="85"/>
                </a:lnTo>
                <a:lnTo>
                  <a:pt x="120" y="148"/>
                </a:lnTo>
                <a:lnTo>
                  <a:pt x="323" y="170"/>
                </a:lnTo>
                <a:lnTo>
                  <a:pt x="687" y="175"/>
                </a:lnTo>
                <a:lnTo>
                  <a:pt x="988" y="1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98880" y="5122800"/>
            <a:ext cx="400320" cy="135000"/>
          </a:xfrm>
          <a:custGeom>
            <a:avLst/>
            <a:gdLst/>
            <a:ahLst/>
            <a:rect l="l" t="t" r="r" b="b"/>
            <a:pathLst>
              <a:path w="252" h="85">
                <a:moveTo>
                  <a:pt x="0" y="85"/>
                </a:moveTo>
                <a:lnTo>
                  <a:pt x="47" y="71"/>
                </a:lnTo>
                <a:lnTo>
                  <a:pt x="77" y="36"/>
                </a:lnTo>
                <a:lnTo>
                  <a:pt x="118" y="8"/>
                </a:lnTo>
                <a:lnTo>
                  <a:pt x="156" y="0"/>
                </a:lnTo>
                <a:lnTo>
                  <a:pt x="200" y="11"/>
                </a:lnTo>
                <a:lnTo>
                  <a:pt x="252" y="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65000" y="33940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637320" y="4162320"/>
            <a:ext cx="108000" cy="192240"/>
          </a:xfrm>
          <a:custGeom>
            <a:avLst/>
            <a:gdLst/>
            <a:ahLst/>
            <a:rect l="l" t="t" r="r" b="b"/>
            <a:pathLst>
              <a:path w="68" h="121">
                <a:moveTo>
                  <a:pt x="0" y="91"/>
                </a:moveTo>
                <a:lnTo>
                  <a:pt x="16" y="91"/>
                </a:lnTo>
                <a:lnTo>
                  <a:pt x="16" y="0"/>
                </a:lnTo>
                <a:lnTo>
                  <a:pt x="52" y="0"/>
                </a:lnTo>
                <a:lnTo>
                  <a:pt x="52" y="91"/>
                </a:lnTo>
                <a:lnTo>
                  <a:pt x="68" y="91"/>
                </a:lnTo>
                <a:lnTo>
                  <a:pt x="35" y="121"/>
                </a:lnTo>
                <a:lnTo>
                  <a:pt x="0" y="9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610000" y="4602240"/>
            <a:ext cx="109440" cy="187200"/>
          </a:xfrm>
          <a:custGeom>
            <a:avLst/>
            <a:gdLst/>
            <a:ahLst/>
            <a:rect l="l" t="t" r="r" b="b"/>
            <a:pathLst>
              <a:path w="69" h="118">
                <a:moveTo>
                  <a:pt x="0" y="30"/>
                </a:moveTo>
                <a:lnTo>
                  <a:pt x="17" y="30"/>
                </a:lnTo>
                <a:lnTo>
                  <a:pt x="17" y="118"/>
                </a:lnTo>
                <a:lnTo>
                  <a:pt x="50" y="118"/>
                </a:lnTo>
                <a:lnTo>
                  <a:pt x="50" y="30"/>
                </a:lnTo>
                <a:lnTo>
                  <a:pt x="69" y="30"/>
                </a:lnTo>
                <a:lnTo>
                  <a:pt x="33" y="0"/>
                </a:lnTo>
                <a:lnTo>
                  <a:pt x="0" y="3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610000" y="4162320"/>
            <a:ext cx="109440" cy="192240"/>
          </a:xfrm>
          <a:custGeom>
            <a:avLst/>
            <a:gdLst/>
            <a:ahLst/>
            <a:rect l="l" t="t" r="r" b="b"/>
            <a:pathLst>
              <a:path w="69" h="121">
                <a:moveTo>
                  <a:pt x="0" y="31"/>
                </a:moveTo>
                <a:lnTo>
                  <a:pt x="17" y="31"/>
                </a:lnTo>
                <a:lnTo>
                  <a:pt x="17" y="121"/>
                </a:lnTo>
                <a:lnTo>
                  <a:pt x="50" y="121"/>
                </a:lnTo>
                <a:lnTo>
                  <a:pt x="50" y="31"/>
                </a:lnTo>
                <a:lnTo>
                  <a:pt x="69" y="31"/>
                </a:lnTo>
                <a:lnTo>
                  <a:pt x="33" y="0"/>
                </a:lnTo>
                <a:lnTo>
                  <a:pt x="0" y="3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2400" y="3711600"/>
            <a:ext cx="3097440" cy="264960"/>
          </a:xfrm>
          <a:custGeom>
            <a:avLst/>
            <a:gdLst/>
            <a:ahLst/>
            <a:rect l="l" t="t" r="r" b="b"/>
            <a:pathLst>
              <a:path w="1951" h="167">
                <a:moveTo>
                  <a:pt x="0" y="167"/>
                </a:moveTo>
                <a:lnTo>
                  <a:pt x="11" y="109"/>
                </a:lnTo>
                <a:lnTo>
                  <a:pt x="69" y="49"/>
                </a:lnTo>
                <a:lnTo>
                  <a:pt x="132" y="22"/>
                </a:lnTo>
                <a:lnTo>
                  <a:pt x="320" y="5"/>
                </a:lnTo>
                <a:lnTo>
                  <a:pt x="621" y="0"/>
                </a:lnTo>
                <a:lnTo>
                  <a:pt x="1013" y="19"/>
                </a:lnTo>
                <a:lnTo>
                  <a:pt x="1272" y="0"/>
                </a:lnTo>
                <a:lnTo>
                  <a:pt x="1530" y="0"/>
                </a:lnTo>
                <a:lnTo>
                  <a:pt x="1697" y="14"/>
                </a:lnTo>
                <a:lnTo>
                  <a:pt x="1806" y="27"/>
                </a:lnTo>
                <a:lnTo>
                  <a:pt x="1869" y="60"/>
                </a:lnTo>
                <a:lnTo>
                  <a:pt x="1915" y="98"/>
                </a:lnTo>
                <a:lnTo>
                  <a:pt x="1951" y="1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6225840" y="5177520"/>
            <a:ext cx="42120" cy="176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387320" y="25146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5200200" y="3714840"/>
            <a:ext cx="190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71200" y="1600200"/>
            <a:ext cx="2095920" cy="199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4" y="12"/>
                </a:moveTo>
                <a:arcTo wR="10800" hR="10800" stAng="-5564461" swAng="5565880"/>
                <a:lnTo>
                  <a:pt x="10800" y="10800"/>
                </a:lnTo>
                <a:close/>
              </a:path>
              <a:path fill="none" w="21600" h="21600">
                <a:moveTo>
                  <a:pt x="10284" y="12"/>
                </a:moveTo>
                <a:arcTo wR="10800" hR="10800" stAng="-5564461" swAng="5565880"/>
              </a:path>
            </a:pathLst>
          </a:custGeom>
          <a:noFill/>
          <a:ln w="381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4017960" y="2222640"/>
            <a:ext cx="135000" cy="280800"/>
            <a:chOff x="4017960" y="2222640"/>
            <a:chExt cx="135000" cy="280800"/>
          </a:xfrm>
        </p:grpSpPr>
        <p:grpSp>
          <p:nvGrpSpPr>
            <p:cNvPr id="859" name=""/>
            <p:cNvGrpSpPr/>
            <p:nvPr/>
          </p:nvGrpSpPr>
          <p:grpSpPr>
            <a:xfrm>
              <a:off x="4048200" y="2222640"/>
              <a:ext cx="77760" cy="77760"/>
              <a:chOff x="4048200" y="2222640"/>
              <a:chExt cx="77760" cy="777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052880" y="2225880"/>
                <a:ext cx="69840" cy="69840"/>
                <a:chOff x="4052880" y="2225880"/>
                <a:chExt cx="69840" cy="698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052880" y="2225880"/>
                  <a:ext cx="69840" cy="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060800" y="2235240"/>
                  <a:ext cx="4752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075200" y="2247840"/>
                  <a:ext cx="20520" cy="2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4048200" y="2222640"/>
                <a:ext cx="77760" cy="7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4017960" y="2300400"/>
              <a:ext cx="135000" cy="203040"/>
              <a:chOff x="4017960" y="2300400"/>
              <a:chExt cx="135000" cy="20304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4017960" y="2300400"/>
                <a:ext cx="131760" cy="200160"/>
                <a:chOff x="4017960" y="2300400"/>
                <a:chExt cx="131760" cy="20016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4017960" y="230040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030560" y="2300400"/>
                  <a:ext cx="1296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043520" y="2300400"/>
                  <a:ext cx="140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057560" y="2300400"/>
                  <a:ext cx="1296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070520" y="230040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083120" y="230040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095720" y="230040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108320" y="2300400"/>
                  <a:ext cx="144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122720" y="230040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35320" y="2300400"/>
                  <a:ext cx="1296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148280" y="2300400"/>
                  <a:ext cx="14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017960" y="2300400"/>
                <a:ext cx="135000" cy="203040"/>
              </a:xfrm>
              <a:prstGeom prst="rect">
                <a:avLst/>
              </a:prstGeom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10800000"/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9" name=""/>
          <p:cNvSpPr/>
          <p:nvPr/>
        </p:nvSpPr>
        <p:spPr>
          <a:xfrm flipH="1">
            <a:off x="1835280" y="1593720"/>
            <a:ext cx="2095920" cy="199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4" y="12"/>
                </a:moveTo>
                <a:arcTo wR="10800" hR="10800" stAng="-5564461" swAng="5565880"/>
                <a:lnTo>
                  <a:pt x="10800" y="10800"/>
                </a:lnTo>
                <a:close/>
              </a:path>
              <a:path fill="none" w="21600" h="21600">
                <a:moveTo>
                  <a:pt x="10284" y="12"/>
                </a:moveTo>
                <a:arcTo wR="10800" hR="10800" stAng="-5564461" swAng="5565880"/>
              </a:path>
            </a:pathLst>
          </a:custGeom>
          <a:noFill/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4654440" y="3198600"/>
            <a:ext cx="158400" cy="1144440"/>
            <a:chOff x="4654440" y="3198600"/>
            <a:chExt cx="158400" cy="1144440"/>
          </a:xfrm>
        </p:grpSpPr>
        <p:sp>
          <p:nvSpPr>
            <p:cNvPr id="881" name=""/>
            <p:cNvSpPr/>
            <p:nvPr/>
          </p:nvSpPr>
          <p:spPr>
            <a:xfrm flipV="1">
              <a:off x="4727160" y="3198600"/>
              <a:ext cx="1440" cy="1007640"/>
            </a:xfrm>
            <a:prstGeom prst="line">
              <a:avLst/>
            </a:prstGeom>
            <a:ln w="144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54440" y="4206600"/>
              <a:ext cx="158400" cy="1364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43" y="85"/>
                  </a:lnTo>
                  <a:lnTo>
                    <a:pt x="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termination of the am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41720" y="3705120"/>
            <a:ext cx="10792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333520" y="2387520"/>
            <a:ext cx="444600" cy="132408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2784240" y="2394000"/>
            <a:ext cx="438120" cy="131760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41720" y="4083120"/>
            <a:ext cx="10792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41720" y="3298680"/>
            <a:ext cx="10792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6234120" y="2387520"/>
            <a:ext cx="438120" cy="132264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6678360" y="2394000"/>
            <a:ext cx="438120" cy="131616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34040" y="4083120"/>
            <a:ext cx="10810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34040" y="3298680"/>
            <a:ext cx="10810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21307200">
            <a:off x="2784240" y="2193840"/>
            <a:ext cx="3894120" cy="366840"/>
          </a:xfrm>
          <a:custGeom>
            <a:avLst/>
            <a:gdLst/>
            <a:ahLst/>
            <a:rect l="l" t="t" r="r" b="b"/>
            <a:pathLst>
              <a:path w="2453" h="231">
                <a:moveTo>
                  <a:pt x="0" y="0"/>
                </a:moveTo>
                <a:lnTo>
                  <a:pt x="0" y="24"/>
                </a:lnTo>
                <a:lnTo>
                  <a:pt x="2453" y="231"/>
                </a:lnTo>
                <a:lnTo>
                  <a:pt x="2453" y="206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72240" y="2535120"/>
            <a:ext cx="1764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53160" y="2349360"/>
            <a:ext cx="55440" cy="5904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78120" y="2212920"/>
            <a:ext cx="2376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59040" y="2346480"/>
            <a:ext cx="61920" cy="5688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243160" y="1901880"/>
            <a:ext cx="4973400" cy="1976400"/>
            <a:chOff x="2243160" y="1901880"/>
            <a:chExt cx="4973400" cy="1976400"/>
          </a:xfrm>
        </p:grpSpPr>
        <p:grpSp>
          <p:nvGrpSpPr>
            <p:cNvPr id="899" name=""/>
            <p:cNvGrpSpPr/>
            <p:nvPr/>
          </p:nvGrpSpPr>
          <p:grpSpPr>
            <a:xfrm>
              <a:off x="2243160" y="3530520"/>
              <a:ext cx="4973400" cy="347760"/>
              <a:chOff x="2243160" y="3530520"/>
              <a:chExt cx="4973400" cy="347760"/>
            </a:xfrm>
          </p:grpSpPr>
          <p:sp>
            <p:nvSpPr>
              <p:cNvPr id="900" name=""/>
              <p:cNvSpPr/>
              <p:nvPr/>
            </p:nvSpPr>
            <p:spPr>
              <a:xfrm>
                <a:off x="6135480" y="3851280"/>
                <a:ext cx="1081080" cy="2700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43160" y="3530520"/>
                <a:ext cx="1079280" cy="2556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3257640" y="2257560"/>
              <a:ext cx="1440" cy="114120"/>
            </a:xfrm>
            <a:prstGeom prst="line">
              <a:avLst/>
            </a:prstGeom>
            <a:ln w="7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2787480" y="2211480"/>
              <a:ext cx="3886200" cy="1593720"/>
              <a:chOff x="2787480" y="2211480"/>
              <a:chExt cx="3886200" cy="159372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4611600" y="2433600"/>
                <a:ext cx="114480" cy="1371600"/>
              </a:xfrm>
              <a:prstGeom prst="line">
                <a:avLst/>
              </a:prstGeom>
              <a:ln w="9360">
                <a:solidFill>
                  <a:srgbClr val="008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787480" y="2211480"/>
                <a:ext cx="3886200" cy="323640"/>
              </a:xfrm>
              <a:prstGeom prst="line">
                <a:avLst/>
              </a:prstGeom>
              <a:ln w="9360">
                <a:solidFill>
                  <a:srgbClr val="008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061440" y="1901880"/>
              <a:ext cx="1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84920" y="1901880"/>
              <a:ext cx="15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259720" y="23623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25760" y="35132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154360" y="35132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333640" y="3641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800520" y="2263320"/>
            <a:ext cx="136440" cy="681120"/>
            <a:chOff x="3800520" y="2263320"/>
            <a:chExt cx="136440" cy="681120"/>
          </a:xfrm>
        </p:grpSpPr>
        <p:sp>
          <p:nvSpPr>
            <p:cNvPr id="913" name=""/>
            <p:cNvSpPr/>
            <p:nvPr/>
          </p:nvSpPr>
          <p:spPr>
            <a:xfrm flipV="1">
              <a:off x="3862440" y="2263320"/>
              <a:ext cx="1440" cy="546120"/>
            </a:xfrm>
            <a:prstGeom prst="line">
              <a:avLst/>
            </a:prstGeom>
            <a:ln w="144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0520" y="2809800"/>
              <a:ext cx="136440" cy="13464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0" y="0"/>
                  </a:moveTo>
                  <a:lnTo>
                    <a:pt x="43" y="85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2730600" y="3718080"/>
            <a:ext cx="98280" cy="345960"/>
          </a:xfrm>
          <a:custGeom>
            <a:avLst/>
            <a:gdLst/>
            <a:ahLst/>
            <a:rect l="l" t="t" r="r" b="b"/>
            <a:pathLst>
              <a:path w="62" h="178">
                <a:moveTo>
                  <a:pt x="0" y="44"/>
                </a:moveTo>
                <a:lnTo>
                  <a:pt x="15" y="44"/>
                </a:lnTo>
                <a:lnTo>
                  <a:pt x="15" y="178"/>
                </a:lnTo>
                <a:lnTo>
                  <a:pt x="46" y="178"/>
                </a:lnTo>
                <a:lnTo>
                  <a:pt x="46" y="44"/>
                </a:lnTo>
                <a:lnTo>
                  <a:pt x="62" y="44"/>
                </a:lnTo>
                <a:lnTo>
                  <a:pt x="31" y="0"/>
                </a:lnTo>
                <a:lnTo>
                  <a:pt x="0" y="4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30600" y="3324240"/>
            <a:ext cx="98280" cy="345960"/>
          </a:xfrm>
          <a:custGeom>
            <a:avLst/>
            <a:gdLst/>
            <a:ahLst/>
            <a:rect l="l" t="t" r="r" b="b"/>
            <a:pathLst>
              <a:path w="62" h="178">
                <a:moveTo>
                  <a:pt x="0" y="44"/>
                </a:moveTo>
                <a:lnTo>
                  <a:pt x="15" y="44"/>
                </a:lnTo>
                <a:lnTo>
                  <a:pt x="15" y="178"/>
                </a:lnTo>
                <a:lnTo>
                  <a:pt x="46" y="178"/>
                </a:lnTo>
                <a:lnTo>
                  <a:pt x="46" y="44"/>
                </a:lnTo>
                <a:lnTo>
                  <a:pt x="62" y="44"/>
                </a:lnTo>
                <a:lnTo>
                  <a:pt x="31" y="0"/>
                </a:lnTo>
                <a:lnTo>
                  <a:pt x="0" y="4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629400" y="3745800"/>
            <a:ext cx="98280" cy="345960"/>
          </a:xfrm>
          <a:custGeom>
            <a:avLst/>
            <a:gdLst/>
            <a:ahLst/>
            <a:rect l="l" t="t" r="r" b="b"/>
            <a:pathLst>
              <a:path w="62" h="178">
                <a:moveTo>
                  <a:pt x="0" y="44"/>
                </a:moveTo>
                <a:lnTo>
                  <a:pt x="15" y="44"/>
                </a:lnTo>
                <a:lnTo>
                  <a:pt x="15" y="178"/>
                </a:lnTo>
                <a:lnTo>
                  <a:pt x="46" y="178"/>
                </a:lnTo>
                <a:lnTo>
                  <a:pt x="46" y="44"/>
                </a:lnTo>
                <a:lnTo>
                  <a:pt x="62" y="44"/>
                </a:lnTo>
                <a:lnTo>
                  <a:pt x="31" y="0"/>
                </a:lnTo>
                <a:lnTo>
                  <a:pt x="0" y="4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6629400" y="3352680"/>
            <a:ext cx="98280" cy="346320"/>
          </a:xfrm>
          <a:custGeom>
            <a:avLst/>
            <a:gdLst/>
            <a:ahLst/>
            <a:rect l="l" t="t" r="r" b="b"/>
            <a:pathLst>
              <a:path w="62" h="178">
                <a:moveTo>
                  <a:pt x="0" y="44"/>
                </a:moveTo>
                <a:lnTo>
                  <a:pt x="15" y="44"/>
                </a:lnTo>
                <a:lnTo>
                  <a:pt x="15" y="178"/>
                </a:lnTo>
                <a:lnTo>
                  <a:pt x="46" y="178"/>
                </a:lnTo>
                <a:lnTo>
                  <a:pt x="46" y="44"/>
                </a:lnTo>
                <a:lnTo>
                  <a:pt x="62" y="44"/>
                </a:lnTo>
                <a:lnTo>
                  <a:pt x="31" y="0"/>
                </a:lnTo>
                <a:lnTo>
                  <a:pt x="0" y="44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730760" y="2421000"/>
            <a:ext cx="1440" cy="779400"/>
          </a:xfrm>
          <a:prstGeom prst="line">
            <a:avLst/>
          </a:prstGeom>
          <a:ln w="9360">
            <a:solidFill>
              <a:srgbClr val="86868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40520" y="3692520"/>
            <a:ext cx="10792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765320" y="2093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876560" y="30481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798720" y="2079720"/>
            <a:ext cx="135000" cy="280800"/>
            <a:chOff x="3798720" y="2079720"/>
            <a:chExt cx="135000" cy="280800"/>
          </a:xfrm>
        </p:grpSpPr>
        <p:grpSp>
          <p:nvGrpSpPr>
            <p:cNvPr id="924" name=""/>
            <p:cNvGrpSpPr/>
            <p:nvPr/>
          </p:nvGrpSpPr>
          <p:grpSpPr>
            <a:xfrm>
              <a:off x="3828960" y="2079720"/>
              <a:ext cx="77760" cy="77760"/>
              <a:chOff x="3828960" y="2079720"/>
              <a:chExt cx="77760" cy="7776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3833640" y="2082960"/>
                <a:ext cx="69840" cy="69840"/>
                <a:chOff x="3833640" y="2082960"/>
                <a:chExt cx="69840" cy="698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3833640" y="2082960"/>
                  <a:ext cx="69840" cy="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841560" y="2092320"/>
                  <a:ext cx="4752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855960" y="2104920"/>
                  <a:ext cx="20520" cy="2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3828960" y="2079720"/>
                <a:ext cx="77760" cy="77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3798720" y="2157480"/>
              <a:ext cx="135000" cy="203040"/>
              <a:chOff x="3798720" y="2157480"/>
              <a:chExt cx="135000" cy="20304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3798720" y="2157480"/>
                <a:ext cx="131760" cy="200160"/>
                <a:chOff x="3798720" y="2157480"/>
                <a:chExt cx="131760" cy="2001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798720" y="215748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811320" y="2157480"/>
                  <a:ext cx="1296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824280" y="2157480"/>
                  <a:ext cx="140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838320" y="2157480"/>
                  <a:ext cx="1296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851280" y="215748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863880" y="215748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876480" y="215748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889080" y="2157480"/>
                  <a:ext cx="144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03480" y="2157480"/>
                  <a:ext cx="1260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916080" y="2157480"/>
                  <a:ext cx="1296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929040" y="2157480"/>
                  <a:ext cx="1440" cy="2001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>
                <a:off x="3798720" y="2157480"/>
                <a:ext cx="135000" cy="203040"/>
              </a:xfrm>
              <a:prstGeom prst="rect">
                <a:avLst/>
              </a:prstGeom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10800000"/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4" name=""/>
          <p:cNvSpPr/>
          <p:nvPr/>
        </p:nvSpPr>
        <p:spPr>
          <a:xfrm>
            <a:off x="4697280" y="3141720"/>
            <a:ext cx="69840" cy="698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84680" y="2398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31" y="0"/>
                </a:moveTo>
                <a:lnTo>
                  <a:pt x="0" y="53"/>
                </a:lnTo>
                <a:lnTo>
                  <a:pt x="58" y="53"/>
                </a:lnTo>
                <a:lnTo>
                  <a:pt x="3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9:53:05Z</dcterms:created>
  <dc:creator>cm</dc:creator>
  <dc:description/>
  <dc:language>en-US</dc:language>
  <cp:lastModifiedBy>Departamento d Física</cp:lastModifiedBy>
  <dcterms:modified xsi:type="dcterms:W3CDTF">2005-07-02T15:36:56Z</dcterms:modified>
  <cp:revision>40</cp:revision>
  <dc:subject/>
  <dc:title>Theoretical Question 2:  Absolute measurements  of electrical quantities</dc:title>
</cp:coreProperties>
</file>