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EBB-3F73-4426-8EC9-411E361E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945-FAEA-40E6-B758-947F18DE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B79-CA62-4070-BF50-F2474D68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868-2248-479C-B68B-45D27F0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425-E1F0-4016-9586-DF196FD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978-E388-461F-829E-73BA412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2A3-3D1F-4028-8E1A-8039DE0F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AEE-2179-4201-8B11-B5190EE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4BF-D36B-40C3-ADC6-AF9D5B41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7DF-7ED3-45D4-9A98-C70C3A69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BB1-4E56-4477-A851-7807C66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207-5133-49E8-897D-5DD036C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F7B-F0E0-4AF1-9455-1B244CD4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55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Times New Roman"/>
              </a:rPr>
              <a:t>Planck’s constant       in the light of an incandescent lam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58112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48360" y="4811760"/>
            <a:ext cx="1944720" cy="17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132000" y="4014720"/>
          <a:ext cx="295272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014720"/>
                    <a:ext cx="29527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87800" y="50166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215040" y="1243080"/>
                <a:ext cx="23544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457200" y="380880"/>
            <a:ext cx="83059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ccecff"/>
                </a:solidFill>
                <a:latin typeface="Times New Roman"/>
              </a:rPr>
              <a:t>We will assume that the selected band is nearly monochromatic.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7760" y="4191120"/>
            <a:ext cx="3781440" cy="1523880"/>
          </a:xfrm>
          <a:custGeom>
            <a:avLst/>
            <a:gdLst>
              <a:gd name="textAreaLeft" fmla="*/ 1240560 w 3781440"/>
              <a:gd name="textAreaRight" fmla="*/ 2540880 w 3781440"/>
              <a:gd name="textAreaTop" fmla="*/ 500040 h 1523880"/>
              <a:gd name="textAreaBottom" fmla="*/ 1023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95" y="21600"/>
                </a:lnTo>
                <a:lnTo>
                  <a:pt x="9605" y="21600"/>
                </a:lnTo>
                <a:close/>
              </a:path>
            </a:pathLst>
          </a:custGeom>
          <a:gradFill rotWithShape="0">
            <a:gsLst>
              <a:gs pos="0">
                <a:srgbClr val="464638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52800" y="4191120"/>
            <a:ext cx="3781440" cy="990360"/>
          </a:xfrm>
          <a:custGeom>
            <a:avLst/>
            <a:gdLst>
              <a:gd name="textAreaLeft" fmla="*/ 915840 w 3781440"/>
              <a:gd name="textAreaRight" fmla="*/ 2865600 w 3781440"/>
              <a:gd name="textAreaTop" fmla="*/ 239760 h 990360"/>
              <a:gd name="textAreaBottom" fmla="*/ 7506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334" y="21600"/>
                </a:lnTo>
                <a:lnTo>
                  <a:pt x="6266" y="2160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55600" y="1285920"/>
            <a:ext cx="5796000" cy="3438000"/>
            <a:chOff x="1155600" y="1285920"/>
            <a:chExt cx="5796000" cy="3438000"/>
          </a:xfrm>
        </p:grpSpPr>
        <p:sp>
          <p:nvSpPr>
            <p:cNvPr id="235" name=""/>
            <p:cNvSpPr/>
            <p:nvPr/>
          </p:nvSpPr>
          <p:spPr>
            <a:xfrm>
              <a:off x="1155600" y="1285920"/>
              <a:ext cx="463680" cy="38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6600"/>
                  </a:solidFill>
                  <a:latin typeface="Times New Roman"/>
                </a:rPr>
                <a:t>u</a:t>
              </a:r>
              <a:r>
                <a:rPr b="0" lang="es-ES_tradnl" sz="1800" spc="-1" strike="noStrike" baseline="-25000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7200" y="1376280"/>
              <a:ext cx="5324400" cy="2769840"/>
            </a:xfrm>
            <a:custGeom>
              <a:avLst/>
              <a:gdLst/>
              <a:ahLst/>
              <a:rect l="l" t="t" r="r" b="b"/>
              <a:pathLst>
                <a:path w="2202" h="1147">
                  <a:moveTo>
                    <a:pt x="0" y="0"/>
                  </a:moveTo>
                  <a:lnTo>
                    <a:pt x="0" y="1145"/>
                  </a:lnTo>
                  <a:lnTo>
                    <a:pt x="2202" y="11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65840" y="4257360"/>
              <a:ext cx="19573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6600"/>
                  </a:solidFill>
                  <a:latin typeface="Times New Roman"/>
                </a:rPr>
                <a:t>wavelength, </a:t>
              </a:r>
              <a:r>
                <a:rPr b="0" i="1" lang="es-ES_tradnl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676520" y="1549440"/>
            <a:ext cx="5310000" cy="2585880"/>
          </a:xfrm>
          <a:custGeom>
            <a:avLst/>
            <a:gdLst/>
            <a:ahLst/>
            <a:rect l="l" t="t" r="r" b="b"/>
            <a:pathLst>
              <a:path w="2196" h="1071">
                <a:moveTo>
                  <a:pt x="0" y="1068"/>
                </a:moveTo>
                <a:lnTo>
                  <a:pt x="42" y="1038"/>
                </a:lnTo>
                <a:lnTo>
                  <a:pt x="75" y="1002"/>
                </a:lnTo>
                <a:lnTo>
                  <a:pt x="138" y="825"/>
                </a:lnTo>
                <a:lnTo>
                  <a:pt x="210" y="564"/>
                </a:lnTo>
                <a:lnTo>
                  <a:pt x="261" y="423"/>
                </a:lnTo>
                <a:lnTo>
                  <a:pt x="315" y="282"/>
                </a:lnTo>
                <a:lnTo>
                  <a:pt x="381" y="150"/>
                </a:lnTo>
                <a:lnTo>
                  <a:pt x="444" y="72"/>
                </a:lnTo>
                <a:lnTo>
                  <a:pt x="513" y="15"/>
                </a:lnTo>
                <a:lnTo>
                  <a:pt x="555" y="0"/>
                </a:lnTo>
                <a:lnTo>
                  <a:pt x="597" y="6"/>
                </a:lnTo>
                <a:lnTo>
                  <a:pt x="648" y="18"/>
                </a:lnTo>
                <a:lnTo>
                  <a:pt x="684" y="42"/>
                </a:lnTo>
                <a:lnTo>
                  <a:pt x="756" y="90"/>
                </a:lnTo>
                <a:lnTo>
                  <a:pt x="795" y="126"/>
                </a:lnTo>
                <a:lnTo>
                  <a:pt x="840" y="162"/>
                </a:lnTo>
                <a:lnTo>
                  <a:pt x="897" y="231"/>
                </a:lnTo>
                <a:lnTo>
                  <a:pt x="1017" y="390"/>
                </a:lnTo>
                <a:lnTo>
                  <a:pt x="1107" y="507"/>
                </a:lnTo>
                <a:lnTo>
                  <a:pt x="1182" y="591"/>
                </a:lnTo>
                <a:lnTo>
                  <a:pt x="1290" y="696"/>
                </a:lnTo>
                <a:lnTo>
                  <a:pt x="1377" y="753"/>
                </a:lnTo>
                <a:lnTo>
                  <a:pt x="1494" y="807"/>
                </a:lnTo>
                <a:lnTo>
                  <a:pt x="1650" y="855"/>
                </a:lnTo>
                <a:lnTo>
                  <a:pt x="1818" y="897"/>
                </a:lnTo>
                <a:lnTo>
                  <a:pt x="1953" y="921"/>
                </a:lnTo>
                <a:lnTo>
                  <a:pt x="2046" y="936"/>
                </a:lnTo>
                <a:lnTo>
                  <a:pt x="2196" y="951"/>
                </a:lnTo>
                <a:lnTo>
                  <a:pt x="2196" y="1071"/>
                </a:lnTo>
                <a:lnTo>
                  <a:pt x="0" y="106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3680" y="5029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6600"/>
                </a:solidFill>
                <a:latin typeface="Times New Roman"/>
              </a:rPr>
              <a:t>Liqui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19240" y="4635360"/>
            <a:ext cx="525600" cy="6080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8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60440" y="421596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384720" y="5713560"/>
            <a:ext cx="928440" cy="358560"/>
            <a:chOff x="3384720" y="5713560"/>
            <a:chExt cx="928440" cy="358560"/>
          </a:xfrm>
        </p:grpSpPr>
        <p:sp>
          <p:nvSpPr>
            <p:cNvPr id="243" name=""/>
            <p:cNvSpPr/>
            <p:nvPr/>
          </p:nvSpPr>
          <p:spPr>
            <a:xfrm flipH="1" rot="5400000">
              <a:off x="3863880" y="5622840"/>
              <a:ext cx="358560" cy="540000"/>
            </a:xfrm>
            <a:custGeom>
              <a:avLst/>
              <a:gdLst>
                <a:gd name="textAreaLeft" fmla="*/ 43560 w 358560"/>
                <a:gd name="textAreaRight" fmla="*/ 315000 w 358560"/>
                <a:gd name="textAreaTop" fmla="*/ 43560 h 540000"/>
                <a:gd name="textAreaBottom" fmla="*/ 496440 h 540000"/>
              </a:gdLst>
              <a:ahLst/>
              <a:rect l="textAreaLeft" t="textAreaTop" r="textAreaRight" b="textAreaBottom"/>
              <a:pathLst>
                <a:path w="21600" h="32519">
                  <a:moveTo>
                    <a:pt x="8960" y="0"/>
                  </a:moveTo>
                  <a:arcTo wR="8960" hR="8960" stAng="16200000" swAng="-5400000"/>
                  <a:lnTo>
                    <a:pt x="0" y="23559"/>
                  </a:lnTo>
                  <a:arcTo wR="8960" hR="8960" stAng="10800000" swAng="-5400000"/>
                  <a:lnTo>
                    <a:pt x="12640" y="32519"/>
                  </a:lnTo>
                  <a:arcTo wR="8960" hR="8960" stAng="5400000" swAng="-5400000"/>
                  <a:lnTo>
                    <a:pt x="21600" y="8960"/>
                  </a:lnTo>
                  <a:arcTo wR="8960" hR="896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843000" y="5823000"/>
              <a:ext cx="241200" cy="144360"/>
              <a:chOff x="3843000" y="5823000"/>
              <a:chExt cx="241200" cy="14436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3843000" y="582300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843000" y="591912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3892320" y="5848560"/>
              <a:ext cx="900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9c9c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077360" y="5826240"/>
              <a:ext cx="190440" cy="13932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300" y="0"/>
                  </a:moveTo>
                  <a:lnTo>
                    <a:pt x="0" y="84"/>
                  </a:lnTo>
                  <a:lnTo>
                    <a:pt x="300" y="219"/>
                  </a:lnTo>
                </a:path>
              </a:pathLst>
            </a:custGeom>
            <a:noFill/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384720" y="5719680"/>
              <a:ext cx="450360" cy="345240"/>
              <a:chOff x="3384720" y="5719680"/>
              <a:chExt cx="450360" cy="345240"/>
            </a:xfrm>
          </p:grpSpPr>
          <p:sp>
            <p:nvSpPr>
              <p:cNvPr id="250" name=""/>
              <p:cNvSpPr/>
              <p:nvPr/>
            </p:nvSpPr>
            <p:spPr>
              <a:xfrm>
                <a:off x="3384720" y="5848200"/>
                <a:ext cx="51480" cy="77040"/>
              </a:xfrm>
              <a:prstGeom prst="ellipse">
                <a:avLst/>
              </a:prstGeom>
              <a:solidFill>
                <a:srgbClr val="969696"/>
              </a:soli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89840" y="5738040"/>
                <a:ext cx="345240" cy="30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caca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3487680" y="5721840"/>
                <a:ext cx="343440" cy="25200"/>
                <a:chOff x="3487680" y="5721840"/>
                <a:chExt cx="343440" cy="25200"/>
              </a:xfrm>
            </p:grpSpPr>
            <p:sp>
              <p:nvSpPr>
                <p:cNvPr id="253" name=""/>
                <p:cNvSpPr/>
                <p:nvPr/>
              </p:nvSpPr>
              <p:spPr>
                <a:xfrm rot="16200000">
                  <a:off x="349632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 rot="5400000">
                  <a:off x="353988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16200000">
                  <a:off x="358200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 rot="5400000">
                  <a:off x="362592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3659400" y="5721840"/>
                  <a:ext cx="85680" cy="25200"/>
                  <a:chOff x="3659400" y="5721840"/>
                  <a:chExt cx="85680" cy="252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rot="16200000">
                    <a:off x="366804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 rot="5400000">
                    <a:off x="371160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3745440" y="5721840"/>
                  <a:ext cx="85680" cy="25200"/>
                  <a:chOff x="3745440" y="5721840"/>
                  <a:chExt cx="85680" cy="25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rot="16200000">
                    <a:off x="375408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 rot="5400000">
                    <a:off x="379764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 rot="16200000">
                <a:off x="34956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 rot="5400000">
                <a:off x="35388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358128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 rot="5400000">
                <a:off x="36252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3660120" y="6036840"/>
                <a:ext cx="85680" cy="27720"/>
                <a:chOff x="3660120" y="6036840"/>
                <a:chExt cx="85680" cy="27720"/>
              </a:xfrm>
            </p:grpSpPr>
            <p:sp>
              <p:nvSpPr>
                <p:cNvPr id="268" name=""/>
                <p:cNvSpPr/>
                <p:nvPr/>
              </p:nvSpPr>
              <p:spPr>
                <a:xfrm rot="16200000">
                  <a:off x="3667320" y="602964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 rot="5400000">
                  <a:off x="3710880" y="602928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rot="16200000">
                <a:off x="37530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 rot="5400000">
                <a:off x="379692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5736960"/>
                <a:ext cx="360" cy="318600"/>
              </a:xfrm>
              <a:custGeom>
                <a:avLst/>
                <a:gdLst/>
                <a:ahLst/>
                <a:rect l="l" t="t" r="r" b="b"/>
                <a:pathLst>
                  <a:path w="1" h="2233">
                    <a:moveTo>
                      <a:pt x="1" y="0"/>
                    </a:moveTo>
                    <a:lnTo>
                      <a:pt x="0" y="223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87680" y="5731200"/>
                <a:ext cx="360" cy="315360"/>
              </a:xfrm>
              <a:custGeom>
                <a:avLst/>
                <a:gdLst/>
                <a:ahLst/>
                <a:rect l="l" t="t" r="r" b="b"/>
                <a:pathLst>
                  <a:path w="1" h="2210">
                    <a:moveTo>
                      <a:pt x="0" y="0"/>
                    </a:moveTo>
                    <a:lnTo>
                      <a:pt x="0" y="221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67400" y="574704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8460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98920" y="574812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1216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37440" y="572112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23120" y="571968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49240" y="572220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7680" y="5721120"/>
                <a:ext cx="24480" cy="171360"/>
              </a:xfrm>
              <a:custGeom>
                <a:avLst/>
                <a:gdLst/>
                <a:ahLst/>
                <a:rect l="l" t="t" r="r" b="b"/>
                <a:pathLst>
                  <a:path w="171" h="1203">
                    <a:moveTo>
                      <a:pt x="171" y="0"/>
                    </a:moveTo>
                    <a:lnTo>
                      <a:pt x="0" y="120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07720" y="5889960"/>
                <a:ext cx="23760" cy="174960"/>
              </a:xfrm>
              <a:custGeom>
                <a:avLst/>
                <a:gdLst/>
                <a:ahLst/>
                <a:rect l="l" t="t" r="r" b="b"/>
                <a:pathLst>
                  <a:path w="169" h="1227">
                    <a:moveTo>
                      <a:pt x="169" y="0"/>
                    </a:moveTo>
                    <a:lnTo>
                      <a:pt x="0" y="122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5400000">
                <a:off x="3294720" y="5844600"/>
                <a:ext cx="307800" cy="77040"/>
              </a:xfrm>
              <a:custGeom>
                <a:avLst/>
                <a:gdLst>
                  <a:gd name="textAreaLeft" fmla="*/ 88200 w 307800"/>
                  <a:gd name="textAreaRight" fmla="*/ 219600 w 307800"/>
                  <a:gd name="textAreaTop" fmla="*/ 21960 h 77040"/>
                  <a:gd name="textAreaBottom" fmla="*/ 55080 h 7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11" y="21600"/>
                    </a:lnTo>
                    <a:lnTo>
                      <a:pt x="79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48484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2209680" y="2514600"/>
            <a:ext cx="114480" cy="1587600"/>
          </a:xfrm>
          <a:custGeom>
            <a:avLst/>
            <a:gdLst/>
            <a:ahLst/>
            <a:rect l="l" t="t" r="r" b="b"/>
            <a:pathLst>
              <a:path w="72" h="1000">
                <a:moveTo>
                  <a:pt x="0" y="996"/>
                </a:moveTo>
                <a:lnTo>
                  <a:pt x="0" y="224"/>
                </a:lnTo>
                <a:lnTo>
                  <a:pt x="8" y="172"/>
                </a:lnTo>
                <a:lnTo>
                  <a:pt x="72" y="0"/>
                </a:lnTo>
                <a:lnTo>
                  <a:pt x="72" y="1000"/>
                </a:lnTo>
                <a:lnTo>
                  <a:pt x="0" y="99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924640" y="5029200"/>
            <a:ext cx="2262960" cy="318600"/>
            <a:chOff x="2924640" y="5029200"/>
            <a:chExt cx="2262960" cy="318600"/>
          </a:xfrm>
        </p:grpSpPr>
        <p:grpSp>
          <p:nvGrpSpPr>
            <p:cNvPr id="286" name=""/>
            <p:cNvGrpSpPr/>
            <p:nvPr/>
          </p:nvGrpSpPr>
          <p:grpSpPr>
            <a:xfrm>
              <a:off x="2939760" y="5041800"/>
              <a:ext cx="1780920" cy="300960"/>
              <a:chOff x="2939760" y="5041800"/>
              <a:chExt cx="1780920" cy="300960"/>
            </a:xfrm>
          </p:grpSpPr>
          <p:sp>
            <p:nvSpPr>
              <p:cNvPr id="287" name=""/>
              <p:cNvSpPr/>
              <p:nvPr/>
            </p:nvSpPr>
            <p:spPr>
              <a:xfrm rot="5400000">
                <a:off x="3649680" y="4331520"/>
                <a:ext cx="299520" cy="171972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5400000">
                <a:off x="4504320" y="5126400"/>
                <a:ext cx="300960" cy="13140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924640" y="5030640"/>
              <a:ext cx="2153880" cy="317160"/>
              <a:chOff x="2924640" y="5030640"/>
              <a:chExt cx="2153880" cy="317160"/>
            </a:xfrm>
          </p:grpSpPr>
          <p:sp>
            <p:nvSpPr>
              <p:cNvPr id="290" name=""/>
              <p:cNvSpPr/>
              <p:nvPr/>
            </p:nvSpPr>
            <p:spPr>
              <a:xfrm rot="5400000">
                <a:off x="3806640" y="4148280"/>
                <a:ext cx="315720" cy="208008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5400000">
                <a:off x="4840200" y="5109480"/>
                <a:ext cx="317160" cy="159120"/>
              </a:xfrm>
              <a:prstGeom prst="ellipse">
                <a:avLst/>
              </a:prstGeom>
              <a:noFill/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rot="5400000">
              <a:off x="4752000" y="5053320"/>
              <a:ext cx="248760" cy="266760"/>
            </a:xfrm>
            <a:prstGeom prst="can">
              <a:avLst>
                <a:gd name="adj" fmla="val 34722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4895640" y="5054400"/>
              <a:ext cx="317160" cy="266760"/>
            </a:xfrm>
            <a:prstGeom prst="can">
              <a:avLst>
                <a:gd name="adj" fmla="val 38888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5018400" y="5151600"/>
              <a:ext cx="234720" cy="716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5e2f"/>
                </a:gs>
                <a:gs pos="100000">
                  <a:srgbClr val="00cc66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91080" y="5041800"/>
              <a:ext cx="147600" cy="29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7800" y="50166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1480" y="1523880"/>
            <a:ext cx="5315040" cy="2586240"/>
          </a:xfrm>
          <a:custGeom>
            <a:avLst/>
            <a:gdLst/>
            <a:ahLst/>
            <a:rect l="l" t="t" r="r" b="b"/>
            <a:pathLst>
              <a:path w="3348" h="1629">
                <a:moveTo>
                  <a:pt x="0" y="1626"/>
                </a:moveTo>
                <a:lnTo>
                  <a:pt x="67" y="1579"/>
                </a:lnTo>
                <a:lnTo>
                  <a:pt x="117" y="1524"/>
                </a:lnTo>
                <a:lnTo>
                  <a:pt x="213" y="1255"/>
                </a:lnTo>
                <a:lnTo>
                  <a:pt x="323" y="858"/>
                </a:lnTo>
                <a:lnTo>
                  <a:pt x="401" y="643"/>
                </a:lnTo>
                <a:lnTo>
                  <a:pt x="483" y="429"/>
                </a:lnTo>
                <a:lnTo>
                  <a:pt x="583" y="228"/>
                </a:lnTo>
                <a:lnTo>
                  <a:pt x="679" y="110"/>
                </a:lnTo>
                <a:lnTo>
                  <a:pt x="784" y="23"/>
                </a:lnTo>
                <a:lnTo>
                  <a:pt x="848" y="0"/>
                </a:lnTo>
                <a:lnTo>
                  <a:pt x="912" y="9"/>
                </a:lnTo>
                <a:lnTo>
                  <a:pt x="990" y="27"/>
                </a:lnTo>
                <a:lnTo>
                  <a:pt x="1045" y="64"/>
                </a:lnTo>
                <a:lnTo>
                  <a:pt x="1155" y="137"/>
                </a:lnTo>
                <a:lnTo>
                  <a:pt x="1214" y="192"/>
                </a:lnTo>
                <a:lnTo>
                  <a:pt x="1283" y="246"/>
                </a:lnTo>
                <a:lnTo>
                  <a:pt x="1369" y="351"/>
                </a:lnTo>
                <a:lnTo>
                  <a:pt x="1552" y="593"/>
                </a:lnTo>
                <a:lnTo>
                  <a:pt x="1689" y="771"/>
                </a:lnTo>
                <a:lnTo>
                  <a:pt x="1803" y="899"/>
                </a:lnTo>
                <a:lnTo>
                  <a:pt x="1968" y="1059"/>
                </a:lnTo>
                <a:lnTo>
                  <a:pt x="2100" y="1145"/>
                </a:lnTo>
                <a:lnTo>
                  <a:pt x="2279" y="1227"/>
                </a:lnTo>
                <a:lnTo>
                  <a:pt x="2516" y="1300"/>
                </a:lnTo>
                <a:lnTo>
                  <a:pt x="2772" y="1364"/>
                </a:lnTo>
                <a:lnTo>
                  <a:pt x="2978" y="1401"/>
                </a:lnTo>
                <a:lnTo>
                  <a:pt x="3120" y="1424"/>
                </a:lnTo>
                <a:lnTo>
                  <a:pt x="3348" y="1446"/>
                </a:lnTo>
                <a:lnTo>
                  <a:pt x="3348" y="1629"/>
                </a:lnTo>
                <a:lnTo>
                  <a:pt x="0" y="1626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215040" y="1395360"/>
                <a:ext cx="23544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762120" y="380880"/>
            <a:ext cx="8001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imes New Roman"/>
              </a:rPr>
              <a:t>The wavelength of the selected band is in the spectral response range of a Light Dependent Resistor (L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13120" y="1695600"/>
            <a:ext cx="744480" cy="2409840"/>
          </a:xfrm>
          <a:custGeom>
            <a:avLst/>
            <a:gdLst/>
            <a:ahLst/>
            <a:rect l="l" t="t" r="r" b="b"/>
            <a:pathLst>
              <a:path w="469" h="1518">
                <a:moveTo>
                  <a:pt x="0" y="1516"/>
                </a:moveTo>
                <a:lnTo>
                  <a:pt x="0" y="1144"/>
                </a:lnTo>
                <a:lnTo>
                  <a:pt x="61" y="921"/>
                </a:lnTo>
                <a:lnTo>
                  <a:pt x="97" y="786"/>
                </a:lnTo>
                <a:lnTo>
                  <a:pt x="136" y="696"/>
                </a:lnTo>
                <a:lnTo>
                  <a:pt x="204" y="484"/>
                </a:lnTo>
                <a:lnTo>
                  <a:pt x="271" y="318"/>
                </a:lnTo>
                <a:lnTo>
                  <a:pt x="328" y="192"/>
                </a:lnTo>
                <a:lnTo>
                  <a:pt x="373" y="105"/>
                </a:lnTo>
                <a:lnTo>
                  <a:pt x="469" y="0"/>
                </a:lnTo>
                <a:lnTo>
                  <a:pt x="469" y="1518"/>
                </a:lnTo>
                <a:lnTo>
                  <a:pt x="0" y="1516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150080" y="1452600"/>
            <a:ext cx="1364400" cy="973080"/>
            <a:chOff x="4150080" y="1452600"/>
            <a:chExt cx="1364400" cy="973080"/>
          </a:xfrm>
        </p:grpSpPr>
        <p:grpSp>
          <p:nvGrpSpPr>
            <p:cNvPr id="302" name=""/>
            <p:cNvGrpSpPr/>
            <p:nvPr/>
          </p:nvGrpSpPr>
          <p:grpSpPr>
            <a:xfrm>
              <a:off x="4150080" y="1906200"/>
              <a:ext cx="450000" cy="519480"/>
              <a:chOff x="4150080" y="1906200"/>
              <a:chExt cx="450000" cy="519480"/>
            </a:xfrm>
          </p:grpSpPr>
          <p:sp>
            <p:nvSpPr>
              <p:cNvPr id="303" name=""/>
              <p:cNvSpPr/>
              <p:nvPr/>
            </p:nvSpPr>
            <p:spPr>
              <a:xfrm rot="14718600">
                <a:off x="4156560" y="2018160"/>
                <a:ext cx="436320" cy="2948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33600" y="2003400"/>
                <a:ext cx="145800" cy="388800"/>
              </a:xfrm>
              <a:custGeom>
                <a:avLst/>
                <a:gdLst/>
                <a:ahLst/>
                <a:rect l="l" t="t" r="r" b="b"/>
                <a:pathLst>
                  <a:path w="402" h="1071">
                    <a:moveTo>
                      <a:pt x="18" y="0"/>
                    </a:moveTo>
                    <a:lnTo>
                      <a:pt x="0" y="399"/>
                    </a:lnTo>
                    <a:lnTo>
                      <a:pt x="51" y="495"/>
                    </a:lnTo>
                    <a:lnTo>
                      <a:pt x="72" y="129"/>
                    </a:lnTo>
                    <a:lnTo>
                      <a:pt x="141" y="249"/>
                    </a:lnTo>
                    <a:lnTo>
                      <a:pt x="114" y="639"/>
                    </a:lnTo>
                    <a:lnTo>
                      <a:pt x="174" y="753"/>
                    </a:lnTo>
                    <a:lnTo>
                      <a:pt x="201" y="315"/>
                    </a:lnTo>
                    <a:lnTo>
                      <a:pt x="267" y="414"/>
                    </a:lnTo>
                    <a:lnTo>
                      <a:pt x="237" y="813"/>
                    </a:lnTo>
                    <a:lnTo>
                      <a:pt x="309" y="891"/>
                    </a:lnTo>
                    <a:lnTo>
                      <a:pt x="327" y="480"/>
                    </a:lnTo>
                    <a:lnTo>
                      <a:pt x="402" y="582"/>
                    </a:lnTo>
                    <a:lnTo>
                      <a:pt x="381" y="1071"/>
                    </a:lnTo>
                  </a:path>
                </a:pathLst>
              </a:custGeom>
              <a:noFill/>
              <a:ln w="1260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83000" y="2314440"/>
                <a:ext cx="17280" cy="349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0200" y="2017800"/>
                <a:ext cx="17280" cy="349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543200" y="2009880"/>
              <a:ext cx="971280" cy="228600"/>
            </a:xfrm>
            <a:custGeom>
              <a:avLst/>
              <a:gdLst/>
              <a:ahLst/>
              <a:rect l="l" t="t" r="r" b="b"/>
              <a:pathLst>
                <a:path w="612" h="144">
                  <a:moveTo>
                    <a:pt x="0" y="144"/>
                  </a:moveTo>
                  <a:lnTo>
                    <a:pt x="120" y="102"/>
                  </a:lnTo>
                  <a:lnTo>
                    <a:pt x="258" y="57"/>
                  </a:lnTo>
                  <a:lnTo>
                    <a:pt x="420" y="24"/>
                  </a:lnTo>
                  <a:lnTo>
                    <a:pt x="612" y="0"/>
                  </a:lnTo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4680" y="1452600"/>
              <a:ext cx="875880" cy="519120"/>
            </a:xfrm>
            <a:custGeom>
              <a:avLst/>
              <a:gdLst/>
              <a:ahLst/>
              <a:rect l="l" t="t" r="r" b="b"/>
              <a:pathLst>
                <a:path w="552" h="327">
                  <a:moveTo>
                    <a:pt x="0" y="327"/>
                  </a:moveTo>
                  <a:lnTo>
                    <a:pt x="135" y="261"/>
                  </a:lnTo>
                  <a:lnTo>
                    <a:pt x="285" y="189"/>
                  </a:lnTo>
                  <a:lnTo>
                    <a:pt x="426" y="99"/>
                  </a:lnTo>
                  <a:lnTo>
                    <a:pt x="552" y="0"/>
                  </a:lnTo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19520" y="20289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gradFill rotWithShape="0">
            <a:gsLst>
              <a:gs pos="0">
                <a:srgbClr val="660033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2514600"/>
            <a:ext cx="114480" cy="1587600"/>
          </a:xfrm>
          <a:custGeom>
            <a:avLst/>
            <a:gdLst/>
            <a:ahLst/>
            <a:rect l="l" t="t" r="r" b="b"/>
            <a:pathLst>
              <a:path w="72" h="1000">
                <a:moveTo>
                  <a:pt x="0" y="996"/>
                </a:moveTo>
                <a:lnTo>
                  <a:pt x="0" y="224"/>
                </a:lnTo>
                <a:lnTo>
                  <a:pt x="8" y="172"/>
                </a:lnTo>
                <a:lnTo>
                  <a:pt x="72" y="0"/>
                </a:lnTo>
                <a:lnTo>
                  <a:pt x="72" y="1000"/>
                </a:lnTo>
                <a:lnTo>
                  <a:pt x="0" y="99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47760" y="4191120"/>
            <a:ext cx="3781440" cy="1523880"/>
          </a:xfrm>
          <a:custGeom>
            <a:avLst/>
            <a:gdLst>
              <a:gd name="textAreaLeft" fmla="*/ 1240560 w 3781440"/>
              <a:gd name="textAreaRight" fmla="*/ 2540880 w 3781440"/>
              <a:gd name="textAreaTop" fmla="*/ 500040 h 1523880"/>
              <a:gd name="textAreaBottom" fmla="*/ 1023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95" y="21600"/>
                </a:lnTo>
                <a:lnTo>
                  <a:pt x="9605" y="21600"/>
                </a:lnTo>
                <a:close/>
              </a:path>
            </a:pathLst>
          </a:custGeom>
          <a:gradFill rotWithShape="0">
            <a:gsLst>
              <a:gs pos="0">
                <a:srgbClr val="464638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52800" y="4191120"/>
            <a:ext cx="3781440" cy="990360"/>
          </a:xfrm>
          <a:custGeom>
            <a:avLst/>
            <a:gdLst>
              <a:gd name="textAreaLeft" fmla="*/ 915840 w 3781440"/>
              <a:gd name="textAreaRight" fmla="*/ 2865600 w 3781440"/>
              <a:gd name="textAreaTop" fmla="*/ 239760 h 990360"/>
              <a:gd name="textAreaBottom" fmla="*/ 7506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334" y="21600"/>
                </a:lnTo>
                <a:lnTo>
                  <a:pt x="6266" y="2160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53040" y="50292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6600"/>
                </a:solidFill>
                <a:latin typeface="Times New Roman"/>
              </a:rPr>
              <a:t>Liqui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19240" y="4635360"/>
            <a:ext cx="525600" cy="6080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8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260440" y="421596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155600" y="1257480"/>
            <a:ext cx="5796000" cy="3438000"/>
            <a:chOff x="1155600" y="1257480"/>
            <a:chExt cx="5796000" cy="3438000"/>
          </a:xfrm>
        </p:grpSpPr>
        <p:sp>
          <p:nvSpPr>
            <p:cNvPr id="317" name=""/>
            <p:cNvSpPr/>
            <p:nvPr/>
          </p:nvSpPr>
          <p:spPr>
            <a:xfrm>
              <a:off x="1155600" y="1257480"/>
              <a:ext cx="463680" cy="38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6600"/>
                  </a:solidFill>
                  <a:latin typeface="Times New Roman"/>
                </a:rPr>
                <a:t>u</a:t>
              </a:r>
              <a:r>
                <a:rPr b="0" lang="es-ES_tradnl" sz="1800" spc="-1" strike="noStrike" baseline="-25000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27200" y="1347840"/>
              <a:ext cx="5324400" cy="2769840"/>
            </a:xfrm>
            <a:custGeom>
              <a:avLst/>
              <a:gdLst/>
              <a:ahLst/>
              <a:rect l="l" t="t" r="r" b="b"/>
              <a:pathLst>
                <a:path w="2202" h="1147">
                  <a:moveTo>
                    <a:pt x="0" y="0"/>
                  </a:moveTo>
                  <a:lnTo>
                    <a:pt x="0" y="1145"/>
                  </a:lnTo>
                  <a:lnTo>
                    <a:pt x="2202" y="11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65840" y="4228920"/>
              <a:ext cx="19573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6600"/>
                  </a:solidFill>
                  <a:latin typeface="Times New Roman"/>
                </a:rPr>
                <a:t>wavelength, </a:t>
              </a:r>
              <a:r>
                <a:rPr b="0" i="1" lang="es-ES_tradnl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84720" y="5713560"/>
            <a:ext cx="928440" cy="358560"/>
            <a:chOff x="3384720" y="5713560"/>
            <a:chExt cx="928440" cy="358560"/>
          </a:xfrm>
        </p:grpSpPr>
        <p:sp>
          <p:nvSpPr>
            <p:cNvPr id="321" name=""/>
            <p:cNvSpPr/>
            <p:nvPr/>
          </p:nvSpPr>
          <p:spPr>
            <a:xfrm flipH="1" rot="5400000">
              <a:off x="3863880" y="5622840"/>
              <a:ext cx="358560" cy="540000"/>
            </a:xfrm>
            <a:custGeom>
              <a:avLst/>
              <a:gdLst>
                <a:gd name="textAreaLeft" fmla="*/ 43560 w 358560"/>
                <a:gd name="textAreaRight" fmla="*/ 315000 w 358560"/>
                <a:gd name="textAreaTop" fmla="*/ 43560 h 540000"/>
                <a:gd name="textAreaBottom" fmla="*/ 496440 h 540000"/>
              </a:gdLst>
              <a:ahLst/>
              <a:rect l="textAreaLeft" t="textAreaTop" r="textAreaRight" b="textAreaBottom"/>
              <a:pathLst>
                <a:path w="21600" h="32519">
                  <a:moveTo>
                    <a:pt x="8960" y="0"/>
                  </a:moveTo>
                  <a:arcTo wR="8960" hR="8960" stAng="16200000" swAng="-5400000"/>
                  <a:lnTo>
                    <a:pt x="0" y="23559"/>
                  </a:lnTo>
                  <a:arcTo wR="8960" hR="8960" stAng="10800000" swAng="-5400000"/>
                  <a:lnTo>
                    <a:pt x="12640" y="32519"/>
                  </a:lnTo>
                  <a:arcTo wR="8960" hR="8960" stAng="5400000" swAng="-5400000"/>
                  <a:lnTo>
                    <a:pt x="21600" y="8960"/>
                  </a:lnTo>
                  <a:arcTo wR="8960" hR="896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843000" y="5823000"/>
              <a:ext cx="241200" cy="144360"/>
              <a:chOff x="3843000" y="5823000"/>
              <a:chExt cx="241200" cy="144360"/>
            </a:xfrm>
          </p:grpSpPr>
          <p:sp>
            <p:nvSpPr>
              <p:cNvPr id="323" name=""/>
              <p:cNvSpPr/>
              <p:nvPr/>
            </p:nvSpPr>
            <p:spPr>
              <a:xfrm flipH="1">
                <a:off x="3843000" y="582300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3843000" y="591912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3892320" y="5848560"/>
              <a:ext cx="900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9c9c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077360" y="5826240"/>
              <a:ext cx="190440" cy="13932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300" y="0"/>
                  </a:moveTo>
                  <a:lnTo>
                    <a:pt x="0" y="84"/>
                  </a:lnTo>
                  <a:lnTo>
                    <a:pt x="300" y="219"/>
                  </a:lnTo>
                </a:path>
              </a:pathLst>
            </a:custGeom>
            <a:noFill/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384720" y="5719680"/>
              <a:ext cx="450360" cy="345240"/>
              <a:chOff x="3384720" y="5719680"/>
              <a:chExt cx="450360" cy="345240"/>
            </a:xfrm>
          </p:grpSpPr>
          <p:sp>
            <p:nvSpPr>
              <p:cNvPr id="328" name=""/>
              <p:cNvSpPr/>
              <p:nvPr/>
            </p:nvSpPr>
            <p:spPr>
              <a:xfrm>
                <a:off x="3384720" y="5848200"/>
                <a:ext cx="51480" cy="77040"/>
              </a:xfrm>
              <a:prstGeom prst="ellipse">
                <a:avLst/>
              </a:prstGeom>
              <a:solidFill>
                <a:srgbClr val="969696"/>
              </a:soli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89840" y="5738040"/>
                <a:ext cx="345240" cy="30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caca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487680" y="5721840"/>
                <a:ext cx="343440" cy="25200"/>
                <a:chOff x="3487680" y="5721840"/>
                <a:chExt cx="343440" cy="25200"/>
              </a:xfrm>
            </p:grpSpPr>
            <p:sp>
              <p:nvSpPr>
                <p:cNvPr id="331" name=""/>
                <p:cNvSpPr/>
                <p:nvPr/>
              </p:nvSpPr>
              <p:spPr>
                <a:xfrm rot="16200000">
                  <a:off x="349632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 rot="5400000">
                  <a:off x="353988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6200000">
                  <a:off x="358200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 rot="5400000">
                  <a:off x="362592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3659400" y="5721840"/>
                  <a:ext cx="85680" cy="25200"/>
                  <a:chOff x="3659400" y="5721840"/>
                  <a:chExt cx="85680" cy="252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16200000">
                    <a:off x="366804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 rot="5400000">
                    <a:off x="371160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745440" y="5721840"/>
                  <a:ext cx="85680" cy="25200"/>
                  <a:chOff x="3745440" y="5721840"/>
                  <a:chExt cx="85680" cy="252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16200000">
                    <a:off x="375408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 rot="5400000">
                    <a:off x="379764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1" name=""/>
              <p:cNvSpPr/>
              <p:nvPr/>
            </p:nvSpPr>
            <p:spPr>
              <a:xfrm rot="16200000">
                <a:off x="34956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 rot="5400000">
                <a:off x="35388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358128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 rot="5400000">
                <a:off x="36252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660120" y="6036840"/>
                <a:ext cx="85680" cy="27720"/>
                <a:chOff x="3660120" y="6036840"/>
                <a:chExt cx="85680" cy="27720"/>
              </a:xfrm>
            </p:grpSpPr>
            <p:sp>
              <p:nvSpPr>
                <p:cNvPr id="346" name=""/>
                <p:cNvSpPr/>
                <p:nvPr/>
              </p:nvSpPr>
              <p:spPr>
                <a:xfrm rot="16200000">
                  <a:off x="3667320" y="602964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 rot="5400000">
                  <a:off x="3710880" y="602928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 rot="16200000">
                <a:off x="37530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 rot="5400000">
                <a:off x="379692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31840" y="5736960"/>
                <a:ext cx="360" cy="318600"/>
              </a:xfrm>
              <a:custGeom>
                <a:avLst/>
                <a:gdLst/>
                <a:ahLst/>
                <a:rect l="l" t="t" r="r" b="b"/>
                <a:pathLst>
                  <a:path w="1" h="2233">
                    <a:moveTo>
                      <a:pt x="1" y="0"/>
                    </a:moveTo>
                    <a:lnTo>
                      <a:pt x="0" y="223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87680" y="5731200"/>
                <a:ext cx="360" cy="315360"/>
              </a:xfrm>
              <a:custGeom>
                <a:avLst/>
                <a:gdLst/>
                <a:ahLst/>
                <a:rect l="l" t="t" r="r" b="b"/>
                <a:pathLst>
                  <a:path w="1" h="2210">
                    <a:moveTo>
                      <a:pt x="0" y="0"/>
                    </a:moveTo>
                    <a:lnTo>
                      <a:pt x="0" y="221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67400" y="574704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8460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98920" y="574812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1216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637440" y="572112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23120" y="571968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9240" y="572220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87680" y="5721120"/>
                <a:ext cx="24480" cy="171360"/>
              </a:xfrm>
              <a:custGeom>
                <a:avLst/>
                <a:gdLst/>
                <a:ahLst/>
                <a:rect l="l" t="t" r="r" b="b"/>
                <a:pathLst>
                  <a:path w="171" h="1203">
                    <a:moveTo>
                      <a:pt x="171" y="0"/>
                    </a:moveTo>
                    <a:lnTo>
                      <a:pt x="0" y="120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07720" y="5889960"/>
                <a:ext cx="23760" cy="174960"/>
              </a:xfrm>
              <a:custGeom>
                <a:avLst/>
                <a:gdLst/>
                <a:ahLst/>
                <a:rect l="l" t="t" r="r" b="b"/>
                <a:pathLst>
                  <a:path w="169" h="1227">
                    <a:moveTo>
                      <a:pt x="169" y="0"/>
                    </a:moveTo>
                    <a:lnTo>
                      <a:pt x="0" y="122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5400000">
                <a:off x="3294720" y="5844600"/>
                <a:ext cx="307800" cy="77040"/>
              </a:xfrm>
              <a:custGeom>
                <a:avLst/>
                <a:gdLst>
                  <a:gd name="textAreaLeft" fmla="*/ 88200 w 307800"/>
                  <a:gd name="textAreaRight" fmla="*/ 219600 w 307800"/>
                  <a:gd name="textAreaTop" fmla="*/ 21960 h 77040"/>
                  <a:gd name="textAreaBottom" fmla="*/ 55080 h 7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11" y="21600"/>
                    </a:lnTo>
                    <a:lnTo>
                      <a:pt x="79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48484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2924640" y="5029200"/>
            <a:ext cx="2262960" cy="318600"/>
            <a:chOff x="2924640" y="5029200"/>
            <a:chExt cx="2262960" cy="318600"/>
          </a:xfrm>
        </p:grpSpPr>
        <p:grpSp>
          <p:nvGrpSpPr>
            <p:cNvPr id="363" name=""/>
            <p:cNvGrpSpPr/>
            <p:nvPr/>
          </p:nvGrpSpPr>
          <p:grpSpPr>
            <a:xfrm>
              <a:off x="2939760" y="5041800"/>
              <a:ext cx="1780920" cy="300960"/>
              <a:chOff x="2939760" y="5041800"/>
              <a:chExt cx="1780920" cy="300960"/>
            </a:xfrm>
          </p:grpSpPr>
          <p:sp>
            <p:nvSpPr>
              <p:cNvPr id="364" name=""/>
              <p:cNvSpPr/>
              <p:nvPr/>
            </p:nvSpPr>
            <p:spPr>
              <a:xfrm rot="5400000">
                <a:off x="3649680" y="4331520"/>
                <a:ext cx="299520" cy="171972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5400000">
                <a:off x="4504320" y="5126400"/>
                <a:ext cx="300960" cy="13140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924640" y="5030640"/>
              <a:ext cx="2153880" cy="317160"/>
              <a:chOff x="2924640" y="5030640"/>
              <a:chExt cx="2153880" cy="317160"/>
            </a:xfrm>
          </p:grpSpPr>
          <p:sp>
            <p:nvSpPr>
              <p:cNvPr id="367" name=""/>
              <p:cNvSpPr/>
              <p:nvPr/>
            </p:nvSpPr>
            <p:spPr>
              <a:xfrm rot="5400000">
                <a:off x="3806640" y="4148280"/>
                <a:ext cx="315720" cy="208008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400000">
                <a:off x="4840200" y="5109480"/>
                <a:ext cx="317160" cy="159120"/>
              </a:xfrm>
              <a:prstGeom prst="ellipse">
                <a:avLst/>
              </a:prstGeom>
              <a:noFill/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rot="5400000">
              <a:off x="4752000" y="5053320"/>
              <a:ext cx="248760" cy="266760"/>
            </a:xfrm>
            <a:prstGeom prst="can">
              <a:avLst>
                <a:gd name="adj" fmla="val 34722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4895640" y="5054400"/>
              <a:ext cx="317160" cy="266760"/>
            </a:xfrm>
            <a:prstGeom prst="can">
              <a:avLst>
                <a:gd name="adj" fmla="val 38888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5018400" y="5151600"/>
              <a:ext cx="234720" cy="716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5e2f"/>
                </a:gs>
                <a:gs pos="100000">
                  <a:srgbClr val="00cc66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91080" y="5041800"/>
              <a:ext cx="147600" cy="29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39640" y="101520"/>
            <a:ext cx="3024360" cy="5907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From the formu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3200" y="304920"/>
            <a:ext cx="7848360" cy="5867280"/>
          </a:xfrm>
          <a:custGeom>
            <a:avLst/>
            <a:gdLst/>
            <a:ahLst/>
            <a:rect l="l" t="t" r="r" b="b"/>
            <a:pathLst>
              <a:path w="4944" h="3696">
                <a:moveTo>
                  <a:pt x="8" y="0"/>
                </a:moveTo>
                <a:lnTo>
                  <a:pt x="0" y="3688"/>
                </a:lnTo>
                <a:lnTo>
                  <a:pt x="4944" y="3696"/>
                </a:lnTo>
                <a:lnTo>
                  <a:pt x="4936" y="200"/>
                </a:lnTo>
              </a:path>
            </a:pathLst>
          </a:custGeom>
          <a:noFill/>
          <a:ln w="763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1700280"/>
            <a:ext cx="2520720" cy="649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For  small </a:t>
            </a:r>
            <a:r>
              <a:rPr b="1" i="1" lang="es-ES_tradnl" sz="16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4869000"/>
            <a:ext cx="4067280" cy="1152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Resistance </a:t>
            </a:r>
            <a:r>
              <a:rPr b="1" i="1" lang="es-ES_tradnl" sz="16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 of L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is related to  illumination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429000"/>
            <a:ext cx="4572000" cy="1440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lllumination </a:t>
            </a:r>
            <a:r>
              <a:rPr b="1" i="1" lang="es-ES_tradnl" sz="1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 on the LD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proportional to the transmitted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258920" y="4606920"/>
                <a:ext cx="1657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179360" y="5856120"/>
                <a:ext cx="1737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γ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963720" y="622440"/>
                <a:ext cx="20764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85800" y="6237360"/>
            <a:ext cx="2301840" cy="620640"/>
          </a:xfrm>
          <a:prstGeom prst="roundRect">
            <a:avLst>
              <a:gd name="adj" fmla="val 19699"/>
            </a:avLst>
          </a:prstGeom>
          <a:gradFill rotWithShape="0">
            <a:gsLst>
              <a:gs pos="0">
                <a:srgbClr val="99ff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: par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72200" y="5003640"/>
            <a:ext cx="2286000" cy="838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Taking  loga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19760" y="5877000"/>
                <a:ext cx="18478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26920" y="2421000"/>
                <a:ext cx="21355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3132000" y="5589720"/>
            <a:ext cx="3311640" cy="1268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Combining  (2), (3) and (4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985000" y="4427640"/>
                <a:ext cx="2457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γ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816520" y="3898800"/>
            <a:ext cx="2895840" cy="5335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Times New Roman"/>
              </a:rPr>
              <a:t>Plo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170040" y="2060640"/>
            <a:ext cx="2190960" cy="1828800"/>
            <a:chOff x="6170040" y="2060640"/>
            <a:chExt cx="2190960" cy="1828800"/>
          </a:xfrm>
        </p:grpSpPr>
        <p:sp>
          <p:nvSpPr>
            <p:cNvPr id="389" name=""/>
            <p:cNvSpPr/>
            <p:nvPr/>
          </p:nvSpPr>
          <p:spPr>
            <a:xfrm>
              <a:off x="6227640" y="2060640"/>
              <a:ext cx="2133360" cy="1828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56240" y="2365560"/>
              <a:ext cx="1701720" cy="1295280"/>
            </a:xfrm>
            <a:custGeom>
              <a:avLst/>
              <a:gdLst/>
              <a:ahLst/>
              <a:rect l="l" t="t" r="r" b="b"/>
              <a:pathLst>
                <a:path w="1072" h="816">
                  <a:moveTo>
                    <a:pt x="0" y="0"/>
                  </a:moveTo>
                  <a:lnTo>
                    <a:pt x="0" y="816"/>
                  </a:lnTo>
                  <a:lnTo>
                    <a:pt x="1072" y="816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5960" y="2199600"/>
              <a:ext cx="489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ln</a:t>
              </a:r>
              <a:r>
                <a:rPr b="0" i="1" lang="es-ES_tradnl" sz="12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25000">
                  <a:solidFill>
                    <a:srgbClr val="ff3300"/>
                  </a:solidFill>
                  <a:latin typeface="Times New Roman"/>
                </a:rPr>
                <a:t>l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69960" y="3355200"/>
              <a:ext cx="42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1/ </a:t>
              </a:r>
              <a:r>
                <a:rPr b="0" i="1" lang="es-ES_tradnl" sz="12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456240" y="2441520"/>
              <a:ext cx="1447560" cy="9144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3560" y="3216240"/>
              <a:ext cx="997200" cy="1800"/>
            </a:xfrm>
            <a:custGeom>
              <a:avLst/>
              <a:gdLst/>
              <a:ahLst/>
              <a:rect l="l" t="t" r="r" b="b"/>
              <a:pathLst>
                <a:path w="628" h="1">
                  <a:moveTo>
                    <a:pt x="0" y="0"/>
                  </a:moveTo>
                  <a:lnTo>
                    <a:pt x="628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70040" y="2685960"/>
              <a:ext cx="1066680" cy="106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911" y="5002"/>
                  </a:moveTo>
                  <a:arcTo wR="10800" hR="10800" stAng="-1948312" swAng="1948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911" y="5002"/>
                  </a:moveTo>
                  <a:arcTo wR="10800" hR="10800" stAng="-1948312" swAng="1948312"/>
                </a:path>
              </a:pathLst>
            </a:custGeom>
            <a:solidFill>
              <a:srgbClr val="008080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164360" y="1484280"/>
                <a:ext cx="523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7" name=""/>
          <p:cNvGrpSpPr/>
          <p:nvPr/>
        </p:nvGrpSpPr>
        <p:grpSpPr>
          <a:xfrm>
            <a:off x="7020000" y="549360"/>
            <a:ext cx="888840" cy="528120"/>
            <a:chOff x="7020000" y="549360"/>
            <a:chExt cx="888840" cy="528120"/>
          </a:xfrm>
        </p:grpSpPr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7020000" y="549360"/>
                  <a:ext cx="888840" cy="52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7343640" y="600840"/>
                  <a:ext cx="240840" cy="38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3564000" y="620640"/>
          <a:ext cx="2519280" cy="1890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620640"/>
                    <a:ext cx="251928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564000" y="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lock 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380360" y="1125360"/>
            <a:ext cx="0" cy="432000"/>
          </a:xfrm>
          <a:prstGeom prst="line">
            <a:avLst/>
          </a:prstGeom>
          <a:ln w="3168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019640" y="2133720"/>
            <a:ext cx="360720" cy="934920"/>
            <a:chOff x="7019640" y="2133720"/>
            <a:chExt cx="360720" cy="934920"/>
          </a:xfrm>
        </p:grpSpPr>
        <p:sp>
          <p:nvSpPr>
            <p:cNvPr id="405" name=""/>
            <p:cNvSpPr/>
            <p:nvPr/>
          </p:nvSpPr>
          <p:spPr>
            <a:xfrm flipV="1">
              <a:off x="7380360" y="2133720"/>
              <a:ext cx="0" cy="287280"/>
            </a:xfrm>
            <a:prstGeom prst="line">
              <a:avLst/>
            </a:prstGeom>
            <a:ln w="316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019640" y="2421000"/>
              <a:ext cx="360360" cy="647640"/>
            </a:xfrm>
            <a:prstGeom prst="line">
              <a:avLst/>
            </a:prstGeom>
            <a:ln w="316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75248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66"/>
                </a:solidFill>
                <a:latin typeface="Times New Roman"/>
              </a:rPr>
              <a:t>Experimental            setup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40680" y="548280"/>
            <a:ext cx="43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ffff"/>
                </a:solidFill>
                <a:latin typeface="Times New Roman"/>
              </a:rPr>
              <a:t>GENERAL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116000" y="1628640"/>
            <a:ext cx="7051680" cy="3444840"/>
            <a:chOff x="1116000" y="1628640"/>
            <a:chExt cx="7051680" cy="3444840"/>
          </a:xfrm>
        </p:grpSpPr>
        <p:sp>
          <p:nvSpPr>
            <p:cNvPr id="410" name=""/>
            <p:cNvSpPr/>
            <p:nvPr/>
          </p:nvSpPr>
          <p:spPr>
            <a:xfrm>
              <a:off x="4836960" y="2771640"/>
              <a:ext cx="939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Volt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5200" y="2466720"/>
              <a:ext cx="844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L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04000" y="4829040"/>
              <a:ext cx="1199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Am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46800" y="2009520"/>
              <a:ext cx="13413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Potentio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70680" y="2543040"/>
              <a:ext cx="119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Batt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62280" y="2247840"/>
              <a:ext cx="417600" cy="712800"/>
            </a:xfrm>
            <a:custGeom>
              <a:avLst/>
              <a:gdLst/>
              <a:ahLst/>
              <a:rect l="l" t="t" r="r" b="b"/>
              <a:pathLst>
                <a:path w="465" h="795">
                  <a:moveTo>
                    <a:pt x="465" y="0"/>
                  </a:moveTo>
                  <a:lnTo>
                    <a:pt x="0" y="795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51360" y="2466720"/>
              <a:ext cx="228600" cy="430200"/>
            </a:xfrm>
            <a:custGeom>
              <a:avLst/>
              <a:gdLst/>
              <a:ahLst/>
              <a:rect l="l" t="t" r="r" b="b"/>
              <a:pathLst>
                <a:path w="255" h="480">
                  <a:moveTo>
                    <a:pt x="0" y="0"/>
                  </a:moveTo>
                  <a:lnTo>
                    <a:pt x="255" y="480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14600" y="1628640"/>
              <a:ext cx="1143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Solution             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27680" y="4524120"/>
              <a:ext cx="538200" cy="363600"/>
            </a:xfrm>
            <a:custGeom>
              <a:avLst/>
              <a:gdLst/>
              <a:ahLst/>
              <a:rect l="l" t="t" r="r" b="b"/>
              <a:pathLst>
                <a:path w="600" h="405">
                  <a:moveTo>
                    <a:pt x="0" y="0"/>
                  </a:moveTo>
                  <a:lnTo>
                    <a:pt x="600" y="405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40040" y="2500200"/>
              <a:ext cx="144360" cy="1170000"/>
            </a:xfrm>
            <a:custGeom>
              <a:avLst/>
              <a:gdLst/>
              <a:ahLst/>
              <a:rect l="l" t="t" r="r" b="b"/>
              <a:pathLst>
                <a:path w="91" h="737">
                  <a:moveTo>
                    <a:pt x="91" y="737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63920" y="2162160"/>
              <a:ext cx="4381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L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78120" y="3000240"/>
              <a:ext cx="201600" cy="604800"/>
            </a:xfrm>
            <a:custGeom>
              <a:avLst/>
              <a:gdLst/>
              <a:ahLst/>
              <a:rect l="l" t="t" r="r" b="b"/>
              <a:pathLst>
                <a:path w="225" h="675">
                  <a:moveTo>
                    <a:pt x="0" y="0"/>
                  </a:moveTo>
                  <a:lnTo>
                    <a:pt x="225" y="675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16000" y="2543040"/>
              <a:ext cx="900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66"/>
                  </a:solidFill>
                  <a:latin typeface="Times New Roman"/>
                </a:rPr>
                <a:t>Oh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5880" y="2832120"/>
              <a:ext cx="158760" cy="793440"/>
            </a:xfrm>
            <a:custGeom>
              <a:avLst/>
              <a:gdLst/>
              <a:ahLst/>
              <a:rect l="l" t="t" r="r" b="b"/>
              <a:pathLst>
                <a:path w="100" h="500">
                  <a:moveTo>
                    <a:pt x="100" y="0"/>
                  </a:moveTo>
                  <a:lnTo>
                    <a:pt x="0" y="500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3240" y="2832120"/>
              <a:ext cx="433080" cy="506160"/>
            </a:xfrm>
            <a:custGeom>
              <a:avLst/>
              <a:gdLst/>
              <a:ahLst/>
              <a:rect l="l" t="t" r="r" b="b"/>
              <a:pathLst>
                <a:path w="273" h="319">
                  <a:moveTo>
                    <a:pt x="273" y="0"/>
                  </a:moveTo>
                  <a:lnTo>
                    <a:pt x="0" y="319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18200" y="3076560"/>
              <a:ext cx="187200" cy="579240"/>
            </a:xfrm>
            <a:custGeom>
              <a:avLst/>
              <a:gdLst/>
              <a:ahLst/>
              <a:rect l="l" t="t" r="r" b="b"/>
              <a:pathLst>
                <a:path w="210" h="645">
                  <a:moveTo>
                    <a:pt x="210" y="0"/>
                  </a:moveTo>
                  <a:lnTo>
                    <a:pt x="0" y="645"/>
                  </a:lnTo>
                </a:path>
              </a:pathLst>
            </a:custGeom>
            <a:noFill/>
            <a:ln w="19080">
              <a:solidFill>
                <a:srgbClr val="ffff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026800" y="3273120"/>
              <a:ext cx="1083600" cy="1230120"/>
              <a:chOff x="2026800" y="3273120"/>
              <a:chExt cx="1083600" cy="12301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2697120" y="3273120"/>
                <a:ext cx="188640" cy="1229040"/>
                <a:chOff x="2697120" y="3273120"/>
                <a:chExt cx="188640" cy="12290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697120" y="3273120"/>
                  <a:ext cx="188640" cy="50868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2697120" y="3993120"/>
                  <a:ext cx="188640" cy="50868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852640" y="3724560"/>
                <a:ext cx="257760" cy="304920"/>
                <a:chOff x="2852640" y="3724560"/>
                <a:chExt cx="257760" cy="304920"/>
              </a:xfrm>
            </p:grpSpPr>
            <p:sp>
              <p:nvSpPr>
                <p:cNvPr id="431" name=""/>
                <p:cNvSpPr/>
                <p:nvPr/>
              </p:nvSpPr>
              <p:spPr>
                <a:xfrm flipH="1" rot="5418000">
                  <a:off x="2804040" y="3774240"/>
                  <a:ext cx="303840" cy="20520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rot="20136600">
                  <a:off x="2957400" y="3741840"/>
                  <a:ext cx="101520" cy="270720"/>
                </a:xfrm>
                <a:custGeom>
                  <a:avLst/>
                  <a:gdLst/>
                  <a:ahLst/>
                  <a:rect l="l" t="t" r="r" b="b"/>
                  <a:pathLst>
                    <a:path w="402" h="1071">
                      <a:moveTo>
                        <a:pt x="18" y="0"/>
                      </a:moveTo>
                      <a:lnTo>
                        <a:pt x="0" y="399"/>
                      </a:lnTo>
                      <a:lnTo>
                        <a:pt x="51" y="495"/>
                      </a:lnTo>
                      <a:lnTo>
                        <a:pt x="72" y="129"/>
                      </a:lnTo>
                      <a:lnTo>
                        <a:pt x="141" y="249"/>
                      </a:lnTo>
                      <a:lnTo>
                        <a:pt x="114" y="639"/>
                      </a:lnTo>
                      <a:lnTo>
                        <a:pt x="174" y="753"/>
                      </a:lnTo>
                      <a:lnTo>
                        <a:pt x="201" y="315"/>
                      </a:lnTo>
                      <a:lnTo>
                        <a:pt x="267" y="414"/>
                      </a:lnTo>
                      <a:lnTo>
                        <a:pt x="237" y="813"/>
                      </a:lnTo>
                      <a:lnTo>
                        <a:pt x="309" y="891"/>
                      </a:lnTo>
                      <a:lnTo>
                        <a:pt x="327" y="480"/>
                      </a:lnTo>
                      <a:lnTo>
                        <a:pt x="402" y="582"/>
                      </a:lnTo>
                      <a:lnTo>
                        <a:pt x="381" y="1071"/>
                      </a:lnTo>
                    </a:path>
                  </a:pathLst>
                </a:custGeom>
                <a:noFill/>
                <a:ln w="12600">
                  <a:solidFill>
                    <a:srgbClr val="66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 rot="20136600">
                  <a:off x="2986560" y="3974760"/>
                  <a:ext cx="12240" cy="2412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 rot="20136600">
                  <a:off x="3010680" y="3737160"/>
                  <a:ext cx="12240" cy="24120"/>
                </a:xfrm>
                <a:prstGeom prst="ellips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239920" y="3273120"/>
                <a:ext cx="473040" cy="1230120"/>
              </a:xfrm>
              <a:custGeom>
                <a:avLst/>
                <a:gdLst/>
                <a:ahLst/>
                <a:rect l="l" t="t" r="r" b="b"/>
                <a:pathLst>
                  <a:path w="240" h="528">
                    <a:moveTo>
                      <a:pt x="240" y="0"/>
                    </a:moveTo>
                    <a:lnTo>
                      <a:pt x="0" y="0"/>
                    </a:lnTo>
                    <a:lnTo>
                      <a:pt x="0" y="528"/>
                    </a:lnTo>
                    <a:lnTo>
                      <a:pt x="240" y="528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026440" y="3666600"/>
                <a:ext cx="382680" cy="38592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08440" y="3398760"/>
              <a:ext cx="1022400" cy="979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02240" y="3012840"/>
              <a:ext cx="1674720" cy="765360"/>
            </a:xfrm>
            <a:custGeom>
              <a:avLst/>
              <a:gdLst/>
              <a:ahLst/>
              <a:rect l="l" t="t" r="r" b="b"/>
              <a:pathLst>
                <a:path w="850" h="388">
                  <a:moveTo>
                    <a:pt x="2" y="388"/>
                  </a:moveTo>
                  <a:lnTo>
                    <a:pt x="0" y="202"/>
                  </a:lnTo>
                  <a:lnTo>
                    <a:pt x="620" y="202"/>
                  </a:lnTo>
                  <a:lnTo>
                    <a:pt x="850" y="0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02240" y="3579840"/>
              <a:ext cx="523800" cy="804600"/>
            </a:xfrm>
            <a:custGeom>
              <a:avLst/>
              <a:gdLst/>
              <a:ahLst/>
              <a:rect l="l" t="t" r="r" b="b"/>
              <a:pathLst>
                <a:path w="266" h="409">
                  <a:moveTo>
                    <a:pt x="0" y="0"/>
                  </a:moveTo>
                  <a:lnTo>
                    <a:pt x="265" y="0"/>
                  </a:lnTo>
                  <a:lnTo>
                    <a:pt x="266" y="405"/>
                  </a:lnTo>
                  <a:lnTo>
                    <a:pt x="6" y="409"/>
                  </a:lnTo>
                  <a:lnTo>
                    <a:pt x="6" y="285"/>
                  </a:lnTo>
                  <a:lnTo>
                    <a:pt x="74" y="285"/>
                  </a:lnTo>
                  <a:lnTo>
                    <a:pt x="74" y="157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9760" y="3701880"/>
              <a:ext cx="384120" cy="38412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973840" y="2917800"/>
              <a:ext cx="133200" cy="7761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041160" y="2732040"/>
              <a:ext cx="746280" cy="450720"/>
            </a:xfrm>
            <a:custGeom>
              <a:avLst/>
              <a:gdLst/>
              <a:ahLst/>
              <a:rect l="l" t="t" r="r" b="b"/>
              <a:pathLst>
                <a:path w="1305" h="405">
                  <a:moveTo>
                    <a:pt x="1305" y="165"/>
                  </a:moveTo>
                  <a:lnTo>
                    <a:pt x="1305" y="1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6621480" y="3192480"/>
              <a:ext cx="309600" cy="694800"/>
              <a:chOff x="6621480" y="3192480"/>
              <a:chExt cx="309600" cy="6948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21480" y="3794040"/>
                <a:ext cx="309600" cy="93240"/>
                <a:chOff x="6621480" y="3794040"/>
                <a:chExt cx="309600" cy="93240"/>
              </a:xfrm>
            </p:grpSpPr>
            <p:sp>
              <p:nvSpPr>
                <p:cNvPr id="445" name=""/>
                <p:cNvSpPr/>
                <p:nvPr/>
              </p:nvSpPr>
              <p:spPr>
                <a:xfrm flipH="1">
                  <a:off x="6621480" y="3887280"/>
                  <a:ext cx="3096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>
                  <a:off x="6706440" y="3794040"/>
                  <a:ext cx="1548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621480" y="3593520"/>
                <a:ext cx="309600" cy="93600"/>
                <a:chOff x="6621480" y="3593520"/>
                <a:chExt cx="309600" cy="9360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6621480" y="3687120"/>
                  <a:ext cx="3096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6706440" y="3593520"/>
                  <a:ext cx="1548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621480" y="3392640"/>
                <a:ext cx="309600" cy="93600"/>
                <a:chOff x="6621480" y="3392640"/>
                <a:chExt cx="309600" cy="93600"/>
              </a:xfrm>
            </p:grpSpPr>
            <p:sp>
              <p:nvSpPr>
                <p:cNvPr id="451" name=""/>
                <p:cNvSpPr/>
                <p:nvPr/>
              </p:nvSpPr>
              <p:spPr>
                <a:xfrm flipH="1">
                  <a:off x="6621480" y="3486240"/>
                  <a:ext cx="3096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6706440" y="3392640"/>
                  <a:ext cx="1548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621480" y="3192480"/>
                <a:ext cx="309600" cy="93240"/>
                <a:chOff x="6621480" y="3192480"/>
                <a:chExt cx="309600" cy="93240"/>
              </a:xfrm>
            </p:grpSpPr>
            <p:sp>
              <p:nvSpPr>
                <p:cNvPr id="454" name=""/>
                <p:cNvSpPr/>
                <p:nvPr/>
              </p:nvSpPr>
              <p:spPr>
                <a:xfrm flipH="1">
                  <a:off x="6621480" y="3285720"/>
                  <a:ext cx="3096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6706440" y="3192480"/>
                  <a:ext cx="1548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 flipH="1">
              <a:off x="6039720" y="3690720"/>
              <a:ext cx="360" cy="676440"/>
            </a:xfrm>
            <a:custGeom>
              <a:avLst/>
              <a:gdLst/>
              <a:ahLst/>
              <a:rect l="l" t="t" r="r" b="b"/>
              <a:pathLst>
                <a:path w="1" h="608">
                  <a:moveTo>
                    <a:pt x="0" y="0"/>
                  </a:moveTo>
                  <a:lnTo>
                    <a:pt x="0" y="608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26040" y="3897000"/>
              <a:ext cx="1663560" cy="481320"/>
            </a:xfrm>
            <a:custGeom>
              <a:avLst/>
              <a:gdLst/>
              <a:ahLst/>
              <a:rect l="l" t="t" r="r" b="b"/>
              <a:pathLst>
                <a:path w="844" h="244">
                  <a:moveTo>
                    <a:pt x="844" y="0"/>
                  </a:moveTo>
                  <a:lnTo>
                    <a:pt x="844" y="240"/>
                  </a:lnTo>
                  <a:lnTo>
                    <a:pt x="0" y="244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422320" y="4186080"/>
              <a:ext cx="384120" cy="38412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194360" y="3762000"/>
              <a:ext cx="556920" cy="215640"/>
              <a:chOff x="4194360" y="3762000"/>
              <a:chExt cx="556920" cy="215640"/>
            </a:xfrm>
          </p:grpSpPr>
          <p:sp>
            <p:nvSpPr>
              <p:cNvPr id="460" name=""/>
              <p:cNvSpPr/>
              <p:nvPr/>
            </p:nvSpPr>
            <p:spPr>
              <a:xfrm rot="16200000">
                <a:off x="4248360" y="3707640"/>
                <a:ext cx="215640" cy="324000"/>
              </a:xfrm>
              <a:custGeom>
                <a:avLst/>
                <a:gdLst>
                  <a:gd name="textAreaLeft" fmla="*/ 25920 w 215640"/>
                  <a:gd name="textAreaRight" fmla="*/ 189720 w 215640"/>
                  <a:gd name="textAreaTop" fmla="*/ 25920 h 324000"/>
                  <a:gd name="textAreaBottom" fmla="*/ 298080 h 324000"/>
                </a:gdLst>
                <a:ahLst/>
                <a:rect l="textAreaLeft" t="textAreaTop" r="textAreaRight" b="textAreaBottom"/>
                <a:pathLst>
                  <a:path w="21600" h="32436">
                    <a:moveTo>
                      <a:pt x="8960" y="0"/>
                    </a:moveTo>
                    <a:arcTo wR="8960" hR="8960" stAng="16200000" swAng="-5400000"/>
                    <a:lnTo>
                      <a:pt x="0" y="23476"/>
                    </a:lnTo>
                    <a:arcTo wR="8960" hR="8960" stAng="10800000" swAng="-5400000"/>
                    <a:lnTo>
                      <a:pt x="12640" y="32436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4331520" y="3828240"/>
                <a:ext cx="144720" cy="86760"/>
                <a:chOff x="4331520" y="3828240"/>
                <a:chExt cx="144720" cy="86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4331520" y="3828240"/>
                  <a:ext cx="144720" cy="2880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4331520" y="3886200"/>
                  <a:ext cx="144720" cy="2880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4392360" y="3843360"/>
                <a:ext cx="54000" cy="5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c9c9c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20640" y="3830040"/>
                <a:ext cx="114480" cy="8388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300" y="0"/>
                    </a:moveTo>
                    <a:lnTo>
                      <a:pt x="0" y="84"/>
                    </a:lnTo>
                    <a:lnTo>
                      <a:pt x="300" y="219"/>
                    </a:lnTo>
                  </a:path>
                </a:pathLst>
              </a:custGeom>
              <a:noFill/>
              <a:ln w="381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480920" y="3765960"/>
                <a:ext cx="270360" cy="207720"/>
                <a:chOff x="4480920" y="3765960"/>
                <a:chExt cx="270360" cy="207720"/>
              </a:xfrm>
            </p:grpSpPr>
            <p:sp>
              <p:nvSpPr>
                <p:cNvPr id="467" name=""/>
                <p:cNvSpPr/>
                <p:nvPr/>
              </p:nvSpPr>
              <p:spPr>
                <a:xfrm flipH="1">
                  <a:off x="4720320" y="3843000"/>
                  <a:ext cx="30600" cy="46440"/>
                </a:xfrm>
                <a:prstGeom prst="ellipse">
                  <a:avLst/>
                </a:prstGeom>
                <a:solidFill>
                  <a:srgbClr val="969696"/>
                </a:soli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480920" y="3776760"/>
                  <a:ext cx="20736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caca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4483800" y="3767400"/>
                  <a:ext cx="205920" cy="14760"/>
                  <a:chOff x="4483800" y="3767400"/>
                  <a:chExt cx="205920" cy="147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H="1" rot="5400000">
                    <a:off x="4669920" y="376200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flipV="1" rot="16200000">
                    <a:off x="4644360" y="37623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5400000">
                    <a:off x="4618440" y="376200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flipV="1" rot="16200000">
                    <a:off x="4592520" y="37623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535280" y="3767400"/>
                    <a:ext cx="51120" cy="14760"/>
                    <a:chOff x="4535280" y="3767400"/>
                    <a:chExt cx="51120" cy="1476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5400000">
                      <a:off x="4566600" y="376200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flipV="1" rot="16200000">
                      <a:off x="4540680" y="37623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483800" y="3767400"/>
                    <a:ext cx="51120" cy="14760"/>
                    <a:chOff x="4483800" y="3767400"/>
                    <a:chExt cx="51120" cy="147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5400000">
                      <a:off x="4515120" y="376200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flipV="1" rot="16200000">
                      <a:off x="4489200" y="37623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80" name=""/>
                <p:cNvSpPr/>
                <p:nvPr/>
              </p:nvSpPr>
              <p:spPr>
                <a:xfrm flipH="1" rot="5400000">
                  <a:off x="4668480" y="3952440"/>
                  <a:ext cx="1620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 rot="16200000">
                  <a:off x="4641840" y="395172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rot="5400000">
                  <a:off x="4617000" y="3952080"/>
                  <a:ext cx="16200" cy="2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 rot="16200000">
                  <a:off x="4590000" y="395172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4535280" y="3956760"/>
                  <a:ext cx="50760" cy="16200"/>
                  <a:chOff x="4535280" y="3956760"/>
                  <a:chExt cx="50760" cy="162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5400000">
                    <a:off x="4565160" y="395208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flipV="1" rot="16200000">
                    <a:off x="4539600" y="395172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 flipH="1" rot="5400000">
                  <a:off x="4513320" y="395208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 rot="16200000">
                  <a:off x="4486680" y="395172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482000" y="3776400"/>
                  <a:ext cx="360" cy="191520"/>
                </a:xfrm>
                <a:custGeom>
                  <a:avLst/>
                  <a:gdLst/>
                  <a:ahLst/>
                  <a:rect l="l" t="t" r="r" b="b"/>
                  <a:pathLst>
                    <a:path w="1" h="2233">
                      <a:moveTo>
                        <a:pt x="1" y="0"/>
                      </a:moveTo>
                      <a:lnTo>
                        <a:pt x="0" y="223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689000" y="3772800"/>
                  <a:ext cx="360" cy="189720"/>
                </a:xfrm>
                <a:custGeom>
                  <a:avLst/>
                  <a:gdLst/>
                  <a:ahLst/>
                  <a:rect l="l" t="t" r="r" b="b"/>
                  <a:pathLst>
                    <a:path w="1" h="2210">
                      <a:moveTo>
                        <a:pt x="0" y="0"/>
                      </a:moveTo>
                      <a:lnTo>
                        <a:pt x="0" y="221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4498560" y="3782160"/>
                  <a:ext cx="23040" cy="17424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4548240" y="378180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4599720" y="3782880"/>
                  <a:ext cx="23040" cy="17424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4651560" y="378180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571280" y="3766680"/>
                  <a:ext cx="28080" cy="206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4519800" y="3765960"/>
                  <a:ext cx="28080" cy="206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4624560" y="3767400"/>
                  <a:ext cx="28080" cy="206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4674600" y="3766680"/>
                  <a:ext cx="14760" cy="103320"/>
                </a:xfrm>
                <a:custGeom>
                  <a:avLst/>
                  <a:gdLst/>
                  <a:ahLst/>
                  <a:rect l="l" t="t" r="r" b="b"/>
                  <a:pathLst>
                    <a:path w="171" h="1203">
                      <a:moveTo>
                        <a:pt x="171" y="0"/>
                      </a:moveTo>
                      <a:lnTo>
                        <a:pt x="0" y="120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4482720" y="3868560"/>
                  <a:ext cx="14400" cy="105120"/>
                </a:xfrm>
                <a:custGeom>
                  <a:avLst/>
                  <a:gdLst/>
                  <a:ahLst/>
                  <a:rect l="l" t="t" r="r" b="b"/>
                  <a:pathLst>
                    <a:path w="169" h="1227">
                      <a:moveTo>
                        <a:pt x="169" y="0"/>
                      </a:moveTo>
                      <a:lnTo>
                        <a:pt x="0" y="1227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rot="16200000">
                  <a:off x="4620240" y="3841200"/>
                  <a:ext cx="185400" cy="46080"/>
                </a:xfrm>
                <a:custGeom>
                  <a:avLst/>
                  <a:gdLst>
                    <a:gd name="textAreaLeft" fmla="*/ 52920 w 185400"/>
                    <a:gd name="textAreaRight" fmla="*/ 132480 w 185400"/>
                    <a:gd name="textAreaTop" fmla="*/ 12960 h 46080"/>
                    <a:gd name="textAreaBottom" fmla="*/ 33120 h 46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11" y="21600"/>
                      </a:lnTo>
                      <a:lnTo>
                        <a:pt x="79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848484"/>
                    </a:gs>
                    <a:gs pos="100000">
                      <a:srgbClr val="ffffff"/>
                    </a:gs>
                  </a:gsLst>
                  <a:lin ang="5400000"/>
                </a:gra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" name=""/>
            <p:cNvGrpSpPr/>
            <p:nvPr/>
          </p:nvGrpSpPr>
          <p:grpSpPr>
            <a:xfrm>
              <a:off x="3325680" y="2695320"/>
              <a:ext cx="277560" cy="1984320"/>
              <a:chOff x="3325680" y="2695320"/>
              <a:chExt cx="277560" cy="198432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3328560" y="3266640"/>
                <a:ext cx="266760" cy="1400040"/>
                <a:chOff x="3328560" y="3266640"/>
                <a:chExt cx="266760" cy="14000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328560" y="3314520"/>
                  <a:ext cx="265680" cy="135216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328560" y="3266640"/>
                  <a:ext cx="266760" cy="1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64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325680" y="2793600"/>
                <a:ext cx="277560" cy="1886040"/>
                <a:chOff x="3325680" y="2793600"/>
                <a:chExt cx="277560" cy="1886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325680" y="2858400"/>
                  <a:ext cx="276480" cy="182124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25680" y="2793600"/>
                  <a:ext cx="277560" cy="139320"/>
                </a:xfrm>
                <a:prstGeom prst="ellipse">
                  <a:avLst/>
                </a:prstGeom>
                <a:noFill/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3325680" y="2695320"/>
                <a:ext cx="277560" cy="388440"/>
                <a:chOff x="3325680" y="2695320"/>
                <a:chExt cx="277560" cy="3884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3354120" y="2850480"/>
                  <a:ext cx="218520" cy="233280"/>
                </a:xfrm>
                <a:prstGeom prst="can">
                  <a:avLst>
                    <a:gd name="adj" fmla="val 34722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25680" y="2695320"/>
                  <a:ext cx="277560" cy="23328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62040" y="2709360"/>
                  <a:ext cx="20448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5e2f"/>
                    </a:gs>
                    <a:gs pos="100000">
                      <a:srgbClr val="00cc66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f3f3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641960" y="16740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507200" y="1413000"/>
            <a:ext cx="2212200" cy="1949760"/>
            <a:chOff x="4507200" y="1413000"/>
            <a:chExt cx="2212200" cy="1949760"/>
          </a:xfrm>
        </p:grpSpPr>
        <p:grpSp>
          <p:nvGrpSpPr>
            <p:cNvPr id="514" name=""/>
            <p:cNvGrpSpPr/>
            <p:nvPr/>
          </p:nvGrpSpPr>
          <p:grpSpPr>
            <a:xfrm>
              <a:off x="4507200" y="2841120"/>
              <a:ext cx="1638000" cy="521640"/>
              <a:chOff x="4507200" y="2841120"/>
              <a:chExt cx="1638000" cy="52164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4806360" y="3123720"/>
                <a:ext cx="257040" cy="239040"/>
                <a:chOff x="4806360" y="3123720"/>
                <a:chExt cx="257040" cy="239040"/>
              </a:xfrm>
            </p:grpSpPr>
            <p:sp>
              <p:nvSpPr>
                <p:cNvPr id="516" name=""/>
                <p:cNvSpPr/>
                <p:nvPr/>
              </p:nvSpPr>
              <p:spPr>
                <a:xfrm rot="19016400">
                  <a:off x="4876560" y="3178080"/>
                  <a:ext cx="187920" cy="70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4806360" y="3245760"/>
                  <a:ext cx="126720" cy="117000"/>
                  <a:chOff x="4806360" y="3245760"/>
                  <a:chExt cx="126720" cy="1170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19125600">
                    <a:off x="4799880" y="3287520"/>
                    <a:ext cx="139680" cy="331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e2e2e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814640" y="3274560"/>
                    <a:ext cx="871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93">
                        <a:moveTo>
                          <a:pt x="105" y="0"/>
                        </a:moveTo>
                        <a:lnTo>
                          <a:pt x="0" y="93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0" name=""/>
              <p:cNvSpPr/>
              <p:nvPr/>
            </p:nvSpPr>
            <p:spPr>
              <a:xfrm rot="19016400">
                <a:off x="4577400" y="3178080"/>
                <a:ext cx="187920" cy="7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4507200" y="3245760"/>
                <a:ext cx="126720" cy="116640"/>
                <a:chOff x="4507200" y="3245760"/>
                <a:chExt cx="126720" cy="116640"/>
              </a:xfrm>
            </p:grpSpPr>
            <p:sp>
              <p:nvSpPr>
                <p:cNvPr id="522" name=""/>
                <p:cNvSpPr/>
                <p:nvPr/>
              </p:nvSpPr>
              <p:spPr>
                <a:xfrm rot="19125600">
                  <a:off x="4500720" y="3287520"/>
                  <a:ext cx="139320" cy="33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14760" y="3275280"/>
                  <a:ext cx="87120" cy="77040"/>
                </a:xfrm>
                <a:custGeom>
                  <a:avLst/>
                  <a:gdLst/>
                  <a:ahLst/>
                  <a:rect l="l" t="t" r="r" b="b"/>
                  <a:pathLst>
                    <a:path w="105" h="93">
                      <a:moveTo>
                        <a:pt x="105" y="0"/>
                      </a:moveTo>
                      <a:lnTo>
                        <a:pt x="0" y="93"/>
                      </a:lnTo>
                    </a:path>
                  </a:pathLst>
                </a:custGeom>
                <a:gradFill rotWithShape="0">
                  <a:gsLst>
                    <a:gs pos="0">
                      <a:srgbClr val="757575"/>
                    </a:gs>
                    <a:gs pos="100000">
                      <a:srgbClr val="ffffff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>
                <a:off x="4749120" y="2932560"/>
                <a:ext cx="1177560" cy="390960"/>
              </a:xfrm>
              <a:custGeom>
                <a:avLst/>
                <a:gdLst/>
                <a:ahLst/>
                <a:rect l="l" t="t" r="r" b="b"/>
                <a:pathLst>
                  <a:path w="1415" h="470">
                    <a:moveTo>
                      <a:pt x="1415" y="138"/>
                    </a:moveTo>
                    <a:cubicBezTo>
                      <a:pt x="1403" y="160"/>
                      <a:pt x="1394" y="228"/>
                      <a:pt x="1340" y="268"/>
                    </a:cubicBezTo>
                    <a:cubicBezTo>
                      <a:pt x="1286" y="308"/>
                      <a:pt x="1175" y="353"/>
                      <a:pt x="1093" y="378"/>
                    </a:cubicBezTo>
                    <a:cubicBezTo>
                      <a:pt x="1011" y="403"/>
                      <a:pt x="928" y="470"/>
                      <a:pt x="848" y="418"/>
                    </a:cubicBezTo>
                    <a:cubicBezTo>
                      <a:pt x="768" y="366"/>
                      <a:pt x="700" y="136"/>
                      <a:pt x="610" y="68"/>
                    </a:cubicBezTo>
                    <a:cubicBezTo>
                      <a:pt x="520" y="0"/>
                      <a:pt x="393" y="4"/>
                      <a:pt x="310" y="8"/>
                    </a:cubicBezTo>
                    <a:cubicBezTo>
                      <a:pt x="227" y="12"/>
                      <a:pt x="162" y="48"/>
                      <a:pt x="110" y="90"/>
                    </a:cubicBezTo>
                    <a:cubicBezTo>
                      <a:pt x="58" y="132"/>
                      <a:pt x="23" y="223"/>
                      <a:pt x="0" y="258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6018480" y="2841480"/>
                <a:ext cx="126720" cy="116640"/>
                <a:chOff x="6018480" y="2841480"/>
                <a:chExt cx="126720" cy="116640"/>
              </a:xfrm>
            </p:grpSpPr>
            <p:sp>
              <p:nvSpPr>
                <p:cNvPr id="526" name=""/>
                <p:cNvSpPr/>
                <p:nvPr/>
              </p:nvSpPr>
              <p:spPr>
                <a:xfrm flipH="1" flipV="1" rot="19125600">
                  <a:off x="6011640" y="2883240"/>
                  <a:ext cx="139680" cy="32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96969"/>
                    </a:gs>
                    <a:gs pos="100000">
                      <a:srgbClr val="c0c0c0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 flipV="1">
                  <a:off x="6049800" y="2851200"/>
                  <a:ext cx="87480" cy="77040"/>
                </a:xfrm>
                <a:custGeom>
                  <a:avLst/>
                  <a:gdLst/>
                  <a:ahLst/>
                  <a:rect l="l" t="t" r="r" b="b"/>
                  <a:pathLst>
                    <a:path w="105" h="93">
                      <a:moveTo>
                        <a:pt x="105" y="0"/>
                      </a:moveTo>
                      <a:lnTo>
                        <a:pt x="0" y="93"/>
                      </a:lnTo>
                    </a:path>
                  </a:pathLst>
                </a:custGeom>
                <a:gradFill rotWithShape="0">
                  <a:gsLst>
                    <a:gs pos="0">
                      <a:srgbClr val="696969"/>
                    </a:gs>
                    <a:gs pos="100000">
                      <a:srgbClr val="c0c0c0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flipH="1" flipV="1" rot="19016400">
                <a:off x="5885640" y="2954880"/>
                <a:ext cx="187560" cy="7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c0000"/>
                  </a:gs>
                  <a:gs pos="100000">
                    <a:srgbClr val="ff0000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5526000" y="2841120"/>
                <a:ext cx="257400" cy="238680"/>
                <a:chOff x="5526000" y="2841120"/>
                <a:chExt cx="257400" cy="23868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5656680" y="2841120"/>
                  <a:ext cx="126720" cy="116640"/>
                  <a:chOff x="5656680" y="2841120"/>
                  <a:chExt cx="126720" cy="1166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flipV="1" rot="19125600">
                    <a:off x="5649840" y="2882880"/>
                    <a:ext cx="139680" cy="327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e2e2e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flipV="1">
                    <a:off x="5688000" y="2851920"/>
                    <a:ext cx="8712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93">
                        <a:moveTo>
                          <a:pt x="105" y="0"/>
                        </a:moveTo>
                        <a:lnTo>
                          <a:pt x="0" y="93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 flipH="1" flipV="1" rot="19016400">
                  <a:off x="5524560" y="2954880"/>
                  <a:ext cx="187560" cy="70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956480" y="2918520"/>
                <a:ext cx="669960" cy="372600"/>
              </a:xfrm>
              <a:custGeom>
                <a:avLst/>
                <a:gdLst/>
                <a:ahLst/>
                <a:rect l="l" t="t" r="r" b="b"/>
                <a:pathLst>
                  <a:path w="805" h="448">
                    <a:moveTo>
                      <a:pt x="728" y="161"/>
                    </a:moveTo>
                    <a:cubicBezTo>
                      <a:pt x="714" y="189"/>
                      <a:pt x="637" y="288"/>
                      <a:pt x="647" y="326"/>
                    </a:cubicBezTo>
                    <a:cubicBezTo>
                      <a:pt x="657" y="364"/>
                      <a:pt x="777" y="375"/>
                      <a:pt x="791" y="392"/>
                    </a:cubicBezTo>
                    <a:cubicBezTo>
                      <a:pt x="805" y="409"/>
                      <a:pt x="763" y="425"/>
                      <a:pt x="734" y="431"/>
                    </a:cubicBezTo>
                    <a:cubicBezTo>
                      <a:pt x="705" y="437"/>
                      <a:pt x="655" y="448"/>
                      <a:pt x="620" y="428"/>
                    </a:cubicBezTo>
                    <a:cubicBezTo>
                      <a:pt x="585" y="408"/>
                      <a:pt x="555" y="359"/>
                      <a:pt x="524" y="311"/>
                    </a:cubicBezTo>
                    <a:cubicBezTo>
                      <a:pt x="493" y="263"/>
                      <a:pt x="459" y="183"/>
                      <a:pt x="434" y="143"/>
                    </a:cubicBezTo>
                    <a:cubicBezTo>
                      <a:pt x="409" y="103"/>
                      <a:pt x="401" y="92"/>
                      <a:pt x="371" y="71"/>
                    </a:cubicBezTo>
                    <a:cubicBezTo>
                      <a:pt x="341" y="50"/>
                      <a:pt x="309" y="25"/>
                      <a:pt x="251" y="17"/>
                    </a:cubicBezTo>
                    <a:cubicBezTo>
                      <a:pt x="193" y="9"/>
                      <a:pt x="40" y="0"/>
                      <a:pt x="20" y="23"/>
                    </a:cubicBezTo>
                    <a:cubicBezTo>
                      <a:pt x="0" y="46"/>
                      <a:pt x="116" y="116"/>
                      <a:pt x="128" y="158"/>
                    </a:cubicBezTo>
                    <a:cubicBezTo>
                      <a:pt x="140" y="200"/>
                      <a:pt x="102" y="251"/>
                      <a:pt x="95" y="27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334120" y="1413000"/>
              <a:ext cx="1385280" cy="1423440"/>
              <a:chOff x="5334120" y="1413000"/>
              <a:chExt cx="1385280" cy="142344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5676840" y="2147760"/>
                <a:ext cx="1042560" cy="688680"/>
                <a:chOff x="5676840" y="2147760"/>
                <a:chExt cx="1042560" cy="68868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5676840" y="2332800"/>
                  <a:ext cx="1042560" cy="503640"/>
                  <a:chOff x="5676840" y="2332800"/>
                  <a:chExt cx="1042560" cy="5036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5984640" y="2339280"/>
                    <a:ext cx="704880" cy="260280"/>
                  </a:xfrm>
                  <a:prstGeom prst="rect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452280" y="2333520"/>
                    <a:ext cx="267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692">
                        <a:moveTo>
                          <a:pt x="372" y="0"/>
                        </a:moveTo>
                        <a:lnTo>
                          <a:pt x="0" y="371"/>
                        </a:lnTo>
                        <a:lnTo>
                          <a:pt x="0" y="692"/>
                        </a:lnTo>
                        <a:lnTo>
                          <a:pt x="42" y="650"/>
                        </a:lnTo>
                        <a:lnTo>
                          <a:pt x="45" y="398"/>
                        </a:lnTo>
                        <a:lnTo>
                          <a:pt x="330" y="113"/>
                        </a:lnTo>
                        <a:lnTo>
                          <a:pt x="330" y="368"/>
                        </a:lnTo>
                        <a:lnTo>
                          <a:pt x="372" y="317"/>
                        </a:lnTo>
                        <a:lnTo>
                          <a:pt x="37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676840" y="2332800"/>
                    <a:ext cx="1041120" cy="50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9" h="699">
                        <a:moveTo>
                          <a:pt x="1449" y="0"/>
                        </a:moveTo>
                        <a:lnTo>
                          <a:pt x="360" y="1"/>
                        </a:lnTo>
                        <a:lnTo>
                          <a:pt x="0" y="361"/>
                        </a:lnTo>
                        <a:lnTo>
                          <a:pt x="0" y="699"/>
                        </a:lnTo>
                        <a:lnTo>
                          <a:pt x="1074" y="696"/>
                        </a:lnTo>
                        <a:lnTo>
                          <a:pt x="1077" y="372"/>
                        </a:lnTo>
                        <a:lnTo>
                          <a:pt x="1449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9c9c9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819040" y="2712960"/>
                    <a:ext cx="500040" cy="108000"/>
                    <a:chOff x="5819040" y="2712960"/>
                    <a:chExt cx="500040" cy="1080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6230880" y="2719440"/>
                      <a:ext cx="88200" cy="88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81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6215040" y="2732760"/>
                      <a:ext cx="87840" cy="882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6231600" y="2750400"/>
                      <a:ext cx="54720" cy="54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0c0c0"/>
                        </a:gs>
                      </a:gsLst>
                      <a:lin ang="81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5819040" y="2712960"/>
                      <a:ext cx="103320" cy="101520"/>
                      <a:chOff x="5819040" y="2712960"/>
                      <a:chExt cx="103320" cy="10152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834880" y="2712960"/>
                        <a:ext cx="87480" cy="885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232323"/>
                          </a:gs>
                          <a:gs pos="50000">
                            <a:srgbClr val="4d4d4d"/>
                          </a:gs>
                          <a:gs pos="100000">
                            <a:srgbClr val="232323"/>
                          </a:gs>
                        </a:gsLst>
                        <a:lin ang="1350000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5819040" y="2726640"/>
                        <a:ext cx="87840" cy="87840"/>
                      </a:xfrm>
                      <a:prstGeom prst="ellipse">
                        <a:avLst/>
                      </a:prstGeom>
                      <a:solidFill>
                        <a:srgbClr val="4d4d4d"/>
                      </a:soli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5835600" y="2743560"/>
                        <a:ext cx="54000" cy="547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c0c0c0"/>
                          </a:gs>
                        </a:gsLst>
                        <a:lin ang="810000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49" name=""/>
                  <p:cNvSpPr/>
                  <p:nvPr/>
                </p:nvSpPr>
                <p:spPr>
                  <a:xfrm>
                    <a:off x="5727600" y="2576160"/>
                    <a:ext cx="664920" cy="16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atform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6095520" y="2147760"/>
                  <a:ext cx="224640" cy="309240"/>
                  <a:chOff x="6095520" y="2147760"/>
                  <a:chExt cx="224640" cy="30924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6143040" y="2403360"/>
                    <a:ext cx="129240" cy="53640"/>
                  </a:xfrm>
                  <a:prstGeom prst="can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b3b3b3"/>
                      </a:gs>
                      <a:gs pos="50000">
                        <a:srgbClr val="ffffff"/>
                      </a:gs>
                      <a:gs pos="100000">
                        <a:srgbClr val="b3b3b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80120" y="2272680"/>
                    <a:ext cx="55080" cy="150120"/>
                  </a:xfrm>
                  <a:prstGeom prst="can">
                    <a:avLst>
                      <a:gd name="adj" fmla="val 16666"/>
                    </a:avLst>
                  </a:prstGeom>
                  <a:gradFill rotWithShape="0">
                    <a:gsLst>
                      <a:gs pos="0">
                        <a:srgbClr val="878787"/>
                      </a:gs>
                      <a:gs pos="50000">
                        <a:srgbClr val="c0c0c0"/>
                      </a:gs>
                      <a:gs pos="100000">
                        <a:srgbClr val="878787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095520" y="2147760"/>
                    <a:ext cx="224640" cy="248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b3b3b3"/>
                      </a:gs>
                      <a:gs pos="50000">
                        <a:srgbClr val="ffffff"/>
                      </a:gs>
                      <a:gs pos="100000">
                        <a:srgbClr val="b3b3b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5334120" y="1413000"/>
                <a:ext cx="1341360" cy="888840"/>
                <a:chOff x="5334120" y="1413000"/>
                <a:chExt cx="1341360" cy="8888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334120" y="1413000"/>
                  <a:ext cx="13413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Potentiome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816520" y="1743120"/>
                  <a:ext cx="101520" cy="558720"/>
                </a:xfrm>
                <a:custGeom>
                  <a:avLst/>
                  <a:gdLst/>
                  <a:ahLst/>
                  <a:rect l="l" t="t" r="r" b="b"/>
                  <a:pathLst>
                    <a:path w="64" h="352">
                      <a:moveTo>
                        <a:pt x="0" y="0"/>
                      </a:moveTo>
                      <a:lnTo>
                        <a:pt x="64" y="352"/>
                      </a:ln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7" name=""/>
          <p:cNvGrpSpPr/>
          <p:nvPr/>
        </p:nvGrpSpPr>
        <p:grpSpPr>
          <a:xfrm>
            <a:off x="6353280" y="838080"/>
            <a:ext cx="2181240" cy="1479960"/>
            <a:chOff x="6353280" y="838080"/>
            <a:chExt cx="2181240" cy="1479960"/>
          </a:xfrm>
        </p:grpSpPr>
        <p:grpSp>
          <p:nvGrpSpPr>
            <p:cNvPr id="558" name=""/>
            <p:cNvGrpSpPr/>
            <p:nvPr/>
          </p:nvGrpSpPr>
          <p:grpSpPr>
            <a:xfrm>
              <a:off x="6353280" y="1440000"/>
              <a:ext cx="1554120" cy="878040"/>
              <a:chOff x="6353280" y="1440000"/>
              <a:chExt cx="1554120" cy="878040"/>
            </a:xfrm>
          </p:grpSpPr>
          <p:sp>
            <p:nvSpPr>
              <p:cNvPr id="559" name=""/>
              <p:cNvSpPr/>
              <p:nvPr/>
            </p:nvSpPr>
            <p:spPr>
              <a:xfrm>
                <a:off x="7195320" y="1440000"/>
                <a:ext cx="712080" cy="815040"/>
              </a:xfrm>
              <a:prstGeom prst="cube">
                <a:avLst>
                  <a:gd name="adj" fmla="val 45000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5360" y="1639800"/>
                <a:ext cx="120240" cy="90360"/>
              </a:xfrm>
              <a:prstGeom prst="cube">
                <a:avLst>
                  <a:gd name="adj" fmla="val 57143"/>
                </a:avLst>
              </a:prstGeom>
              <a:solidFill>
                <a:srgbClr val="5f5f5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92320" y="1639800"/>
                <a:ext cx="120240" cy="90360"/>
              </a:xfrm>
              <a:prstGeom prst="cube">
                <a:avLst>
                  <a:gd name="adj" fmla="val 57143"/>
                </a:avLst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7453080" y="1789560"/>
                <a:ext cx="108000" cy="108360"/>
                <a:chOff x="7453080" y="1789560"/>
                <a:chExt cx="108000" cy="1083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7507080" y="1789560"/>
                  <a:ext cx="0" cy="108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7453080" y="1843560"/>
                  <a:ext cx="10800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H="1">
                <a:off x="7228440" y="1839600"/>
                <a:ext cx="108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6353280" y="2079000"/>
                <a:ext cx="257040" cy="239040"/>
                <a:chOff x="6353280" y="2079000"/>
                <a:chExt cx="257040" cy="239040"/>
              </a:xfrm>
            </p:grpSpPr>
            <p:sp>
              <p:nvSpPr>
                <p:cNvPr id="567" name=""/>
                <p:cNvSpPr/>
                <p:nvPr/>
              </p:nvSpPr>
              <p:spPr>
                <a:xfrm rot="19016400">
                  <a:off x="6423480" y="2133360"/>
                  <a:ext cx="187920" cy="70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8" name=""/>
                <p:cNvGrpSpPr/>
                <p:nvPr/>
              </p:nvGrpSpPr>
              <p:grpSpPr>
                <a:xfrm>
                  <a:off x="6353280" y="2201040"/>
                  <a:ext cx="126720" cy="117000"/>
                  <a:chOff x="6353280" y="2201040"/>
                  <a:chExt cx="126720" cy="11700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rot="19125600">
                    <a:off x="6346800" y="2242800"/>
                    <a:ext cx="139680" cy="331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e2e2e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361560" y="2229840"/>
                    <a:ext cx="871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93">
                        <a:moveTo>
                          <a:pt x="105" y="0"/>
                        </a:moveTo>
                        <a:lnTo>
                          <a:pt x="0" y="93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1" name=""/>
              <p:cNvSpPr/>
              <p:nvPr/>
            </p:nvSpPr>
            <p:spPr>
              <a:xfrm rot="19016400">
                <a:off x="6728040" y="2133360"/>
                <a:ext cx="187920" cy="7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c0000"/>
                  </a:gs>
                  <a:gs pos="100000">
                    <a:srgbClr val="ff0000"/>
                  </a:gs>
                </a:gsLst>
                <a:lin ang="135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6657480" y="2201040"/>
                <a:ext cx="126720" cy="117000"/>
                <a:chOff x="6657480" y="2201040"/>
                <a:chExt cx="126720" cy="117000"/>
              </a:xfrm>
            </p:grpSpPr>
            <p:sp>
              <p:nvSpPr>
                <p:cNvPr id="573" name=""/>
                <p:cNvSpPr/>
                <p:nvPr/>
              </p:nvSpPr>
              <p:spPr>
                <a:xfrm rot="19125600">
                  <a:off x="6651000" y="2242800"/>
                  <a:ext cx="139680" cy="33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c8c8c"/>
                    </a:gs>
                    <a:gs pos="100000">
                      <a:srgbClr val="ffffff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665040" y="2230920"/>
                  <a:ext cx="87480" cy="77400"/>
                </a:xfrm>
                <a:custGeom>
                  <a:avLst/>
                  <a:gdLst/>
                  <a:ahLst/>
                  <a:rect l="l" t="t" r="r" b="b"/>
                  <a:pathLst>
                    <a:path w="105" h="93">
                      <a:moveTo>
                        <a:pt x="105" y="0"/>
                      </a:moveTo>
                      <a:lnTo>
                        <a:pt x="0" y="93"/>
                      </a:lnTo>
                    </a:path>
                  </a:pathLst>
                </a:custGeom>
                <a:gradFill rotWithShape="0">
                  <a:gsLst>
                    <a:gs pos="0">
                      <a:srgbClr val="8c8c8c"/>
                    </a:gs>
                    <a:gs pos="100000">
                      <a:srgbClr val="ffffff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6836760" y="1530720"/>
                <a:ext cx="934920" cy="687600"/>
              </a:xfrm>
              <a:custGeom>
                <a:avLst/>
                <a:gdLst/>
                <a:ahLst/>
                <a:rect l="l" t="t" r="r" b="b"/>
                <a:pathLst>
                  <a:path w="1124" h="826">
                    <a:moveTo>
                      <a:pt x="892" y="124"/>
                    </a:moveTo>
                    <a:cubicBezTo>
                      <a:pt x="906" y="111"/>
                      <a:pt x="948" y="44"/>
                      <a:pt x="979" y="43"/>
                    </a:cubicBezTo>
                    <a:cubicBezTo>
                      <a:pt x="1010" y="42"/>
                      <a:pt x="1124" y="0"/>
                      <a:pt x="1078" y="121"/>
                    </a:cubicBezTo>
                    <a:cubicBezTo>
                      <a:pt x="1032" y="242"/>
                      <a:pt x="866" y="708"/>
                      <a:pt x="704" y="767"/>
                    </a:cubicBezTo>
                    <a:cubicBezTo>
                      <a:pt x="542" y="826"/>
                      <a:pt x="214" y="490"/>
                      <a:pt x="107" y="477"/>
                    </a:cubicBezTo>
                    <a:cubicBezTo>
                      <a:pt x="0" y="464"/>
                      <a:pt x="73" y="644"/>
                      <a:pt x="64" y="688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82960" y="1517400"/>
                <a:ext cx="1033920" cy="644400"/>
              </a:xfrm>
              <a:custGeom>
                <a:avLst/>
                <a:gdLst/>
                <a:ahLst/>
                <a:rect l="l" t="t" r="r" b="b"/>
                <a:pathLst>
                  <a:path w="1243" h="774">
                    <a:moveTo>
                      <a:pt x="915" y="143"/>
                    </a:moveTo>
                    <a:cubicBezTo>
                      <a:pt x="922" y="127"/>
                      <a:pt x="906" y="0"/>
                      <a:pt x="957" y="44"/>
                    </a:cubicBezTo>
                    <a:cubicBezTo>
                      <a:pt x="1008" y="88"/>
                      <a:pt x="1201" y="302"/>
                      <a:pt x="1222" y="410"/>
                    </a:cubicBezTo>
                    <a:cubicBezTo>
                      <a:pt x="1243" y="518"/>
                      <a:pt x="1127" y="635"/>
                      <a:pt x="1084" y="695"/>
                    </a:cubicBezTo>
                    <a:cubicBezTo>
                      <a:pt x="1041" y="755"/>
                      <a:pt x="1011" y="766"/>
                      <a:pt x="967" y="770"/>
                    </a:cubicBezTo>
                    <a:cubicBezTo>
                      <a:pt x="923" y="774"/>
                      <a:pt x="869" y="743"/>
                      <a:pt x="817" y="718"/>
                    </a:cubicBezTo>
                    <a:cubicBezTo>
                      <a:pt x="765" y="693"/>
                      <a:pt x="712" y="658"/>
                      <a:pt x="652" y="620"/>
                    </a:cubicBezTo>
                    <a:cubicBezTo>
                      <a:pt x="592" y="582"/>
                      <a:pt x="509" y="509"/>
                      <a:pt x="457" y="488"/>
                    </a:cubicBezTo>
                    <a:cubicBezTo>
                      <a:pt x="405" y="467"/>
                      <a:pt x="413" y="459"/>
                      <a:pt x="337" y="494"/>
                    </a:cubicBezTo>
                    <a:cubicBezTo>
                      <a:pt x="261" y="529"/>
                      <a:pt x="70" y="656"/>
                      <a:pt x="0" y="69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7848720" y="838080"/>
              <a:ext cx="685800" cy="887400"/>
              <a:chOff x="7848720" y="838080"/>
              <a:chExt cx="685800" cy="887400"/>
            </a:xfrm>
          </p:grpSpPr>
          <p:sp>
            <p:nvSpPr>
              <p:cNvPr id="578" name=""/>
              <p:cNvSpPr/>
              <p:nvPr/>
            </p:nvSpPr>
            <p:spPr>
              <a:xfrm>
                <a:off x="7848720" y="838080"/>
                <a:ext cx="685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Batte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48720" y="1219320"/>
                <a:ext cx="433440" cy="506160"/>
              </a:xfrm>
              <a:custGeom>
                <a:avLst/>
                <a:gdLst/>
                <a:ahLst/>
                <a:rect l="l" t="t" r="r" b="b"/>
                <a:pathLst>
                  <a:path w="273" h="319">
                    <a:moveTo>
                      <a:pt x="273" y="0"/>
                    </a:moveTo>
                    <a:lnTo>
                      <a:pt x="0" y="319"/>
                    </a:lnTo>
                  </a:path>
                </a:pathLst>
              </a:custGeom>
              <a:noFill/>
              <a:ln w="19080">
                <a:solidFill>
                  <a:srgbClr val="ff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1835280" y="981000"/>
            <a:ext cx="3701880" cy="3322440"/>
            <a:chOff x="1835280" y="981000"/>
            <a:chExt cx="3701880" cy="3322440"/>
          </a:xfrm>
        </p:grpSpPr>
        <p:grpSp>
          <p:nvGrpSpPr>
            <p:cNvPr id="581" name=""/>
            <p:cNvGrpSpPr/>
            <p:nvPr/>
          </p:nvGrpSpPr>
          <p:grpSpPr>
            <a:xfrm>
              <a:off x="4057560" y="2276280"/>
              <a:ext cx="1479600" cy="812880"/>
              <a:chOff x="4057560" y="2276280"/>
              <a:chExt cx="1479600" cy="812880"/>
            </a:xfrm>
          </p:grpSpPr>
          <p:sp>
            <p:nvSpPr>
              <p:cNvPr id="582" name=""/>
              <p:cNvSpPr/>
              <p:nvPr/>
            </p:nvSpPr>
            <p:spPr>
              <a:xfrm>
                <a:off x="4692600" y="2276280"/>
                <a:ext cx="844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L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57560" y="2543040"/>
                <a:ext cx="901800" cy="546120"/>
              </a:xfrm>
              <a:custGeom>
                <a:avLst/>
                <a:gdLst/>
                <a:ahLst/>
                <a:rect l="l" t="t" r="r" b="b"/>
                <a:pathLst>
                  <a:path w="568" h="344">
                    <a:moveTo>
                      <a:pt x="568" y="0"/>
                    </a:moveTo>
                    <a:lnTo>
                      <a:pt x="0" y="344"/>
                    </a:lnTo>
                  </a:path>
                </a:pathLst>
              </a:custGeom>
              <a:noFill/>
              <a:ln w="19080">
                <a:solidFill>
                  <a:srgbClr val="ff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835280" y="981000"/>
              <a:ext cx="3233160" cy="3322440"/>
              <a:chOff x="1835280" y="981000"/>
              <a:chExt cx="3233160" cy="33224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681280" y="2896920"/>
                <a:ext cx="2387160" cy="1406520"/>
                <a:chOff x="2681280" y="2896920"/>
                <a:chExt cx="2387160" cy="14065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072240" y="3571200"/>
                  <a:ext cx="1971360" cy="348120"/>
                </a:xfrm>
                <a:prstGeom prst="rect">
                  <a:avLst/>
                </a:prstGeom>
                <a:solidFill>
                  <a:srgbClr val="dddddd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659120" y="3542760"/>
                  <a:ext cx="409320" cy="760320"/>
                </a:xfrm>
                <a:custGeom>
                  <a:avLst/>
                  <a:gdLst/>
                  <a:ahLst/>
                  <a:rect l="l" t="t" r="r" b="b"/>
                  <a:pathLst>
                    <a:path w="897" h="1669">
                      <a:moveTo>
                        <a:pt x="897" y="0"/>
                      </a:moveTo>
                      <a:lnTo>
                        <a:pt x="0" y="895"/>
                      </a:lnTo>
                      <a:lnTo>
                        <a:pt x="0" y="1669"/>
                      </a:lnTo>
                      <a:lnTo>
                        <a:pt x="66" y="1597"/>
                      </a:lnTo>
                      <a:lnTo>
                        <a:pt x="66" y="919"/>
                      </a:lnTo>
                      <a:lnTo>
                        <a:pt x="843" y="142"/>
                      </a:lnTo>
                      <a:lnTo>
                        <a:pt x="843" y="823"/>
                      </a:lnTo>
                      <a:lnTo>
                        <a:pt x="897" y="769"/>
                      </a:lnTo>
                      <a:lnTo>
                        <a:pt x="897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681280" y="3547800"/>
                  <a:ext cx="2379240" cy="755640"/>
                </a:xfrm>
                <a:custGeom>
                  <a:avLst/>
                  <a:gdLst/>
                  <a:ahLst/>
                  <a:rect l="l" t="t" r="r" b="b"/>
                  <a:pathLst>
                    <a:path w="2859" h="909">
                      <a:moveTo>
                        <a:pt x="495" y="0"/>
                      </a:moveTo>
                      <a:lnTo>
                        <a:pt x="0" y="495"/>
                      </a:lnTo>
                      <a:lnTo>
                        <a:pt x="0" y="909"/>
                      </a:lnTo>
                      <a:lnTo>
                        <a:pt x="2376" y="909"/>
                      </a:lnTo>
                      <a:lnTo>
                        <a:pt x="2373" y="486"/>
                      </a:lnTo>
                      <a:lnTo>
                        <a:pt x="2859" y="0"/>
                      </a:lnTo>
                      <a:lnTo>
                        <a:pt x="49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6d6d6"/>
                    </a:gs>
                    <a:gs pos="100000">
                      <a:srgbClr val="eaeaea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166920" y="3383280"/>
                  <a:ext cx="1410480" cy="51516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cacac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3778200" y="2896920"/>
                  <a:ext cx="162720" cy="71280"/>
                  <a:chOff x="3778200" y="2896920"/>
                  <a:chExt cx="162720" cy="712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3778200" y="2896920"/>
                    <a:ext cx="162720" cy="71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791160" y="2906280"/>
                    <a:ext cx="13824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7575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3363480" y="2934360"/>
                  <a:ext cx="921600" cy="639000"/>
                  <a:chOff x="3363480" y="2934360"/>
                  <a:chExt cx="921600" cy="63900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3948480" y="3110760"/>
                    <a:ext cx="281520" cy="86400"/>
                    <a:chOff x="3948480" y="3110760"/>
                    <a:chExt cx="281520" cy="86400"/>
                  </a:xfrm>
                </p:grpSpPr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3948480" y="3111840"/>
                      <a:ext cx="138960" cy="85320"/>
                      <a:chOff x="3948480" y="3111840"/>
                      <a:chExt cx="138960" cy="85320"/>
                    </a:xfrm>
                  </p:grpSpPr>
                  <p:sp>
                    <p:nvSpPr>
                      <p:cNvPr id="596" name=""/>
                      <p:cNvSpPr/>
                      <p:nvPr/>
                    </p:nvSpPr>
                    <p:spPr>
                      <a:xfrm rot="16200000">
                        <a:off x="3975120" y="3084840"/>
                        <a:ext cx="85320" cy="138960"/>
                      </a:xfrm>
                      <a:custGeom>
                        <a:avLst/>
                        <a:gdLst>
                          <a:gd name="textAreaLeft" fmla="*/ 7920 w 85320"/>
                          <a:gd name="textAreaRight" fmla="*/ 77400 w 85320"/>
                          <a:gd name="textAreaTop" fmla="*/ 7920 h 138960"/>
                          <a:gd name="textAreaBottom" fmla="*/ 131040 h 138960"/>
                        </a:gdLst>
                        <a:ahLst/>
                        <a:rect l="textAreaLeft" t="textAreaTop" r="textAreaRight" b="textAreaBottom"/>
                        <a:pathLst>
                          <a:path w="21600" h="35123">
                            <a:moveTo>
                              <a:pt x="7056" y="0"/>
                            </a:moveTo>
                            <a:arcTo wR="7056" hR="7056" stAng="16200000" swAng="-5400000"/>
                            <a:lnTo>
                              <a:pt x="0" y="28067"/>
                            </a:lnTo>
                            <a:arcTo wR="7056" hR="7056" stAng="10800000" swAng="-5400000"/>
                            <a:lnTo>
                              <a:pt x="14544" y="35123"/>
                            </a:lnTo>
                            <a:arcTo wR="7056" hR="7056" stAng="5400000" swAng="-5400000"/>
                            <a:lnTo>
                              <a:pt x="21600" y="7056"/>
                            </a:lnTo>
                            <a:arcTo wR="7056" hR="7056" stAng="0" swAng="-5400000"/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 rot="16200000">
                        <a:off x="4048560" y="3141000"/>
                        <a:ext cx="27360" cy="27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 rot="16200000">
                        <a:off x="4049280" y="3132720"/>
                        <a:ext cx="1080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222">
                            <a:moveTo>
                              <a:pt x="39" y="222"/>
                            </a:moveTo>
                            <a:lnTo>
                              <a:pt x="39" y="8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17640" bIns="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 flipH="1" rot="16200000">
                        <a:off x="4048200" y="3113280"/>
                        <a:ext cx="1080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222">
                            <a:moveTo>
                              <a:pt x="39" y="222"/>
                            </a:moveTo>
                            <a:lnTo>
                              <a:pt x="39" y="8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17640" bIns="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 flipH="1" rot="5400000">
                      <a:off x="4062240" y="3124440"/>
                      <a:ext cx="74160" cy="57960"/>
                    </a:xfrm>
                    <a:prstGeom prst="can">
                      <a:avLst>
                        <a:gd name="adj" fmla="val 46078"/>
                      </a:avLst>
                    </a:prstGeom>
                    <a:gradFill rotWithShape="0">
                      <a:gsLst>
                        <a:gs pos="0">
                          <a:srgbClr val="757575"/>
                        </a:gs>
                        <a:gs pos="50000">
                          <a:srgbClr val="ffffff"/>
                        </a:gs>
                        <a:gs pos="100000">
                          <a:srgbClr val="757575"/>
                        </a:gs>
                      </a:gsLst>
                      <a:lin ang="108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1" name=""/>
                    <p:cNvGrpSpPr/>
                    <p:nvPr/>
                  </p:nvGrpSpPr>
                  <p:grpSpPr>
                    <a:xfrm>
                      <a:off x="4091760" y="3110760"/>
                      <a:ext cx="138240" cy="83880"/>
                      <a:chOff x="4091760" y="3110760"/>
                      <a:chExt cx="138240" cy="83880"/>
                    </a:xfrm>
                  </p:grpSpPr>
                  <p:sp>
                    <p:nvSpPr>
                      <p:cNvPr id="602" name=""/>
                      <p:cNvSpPr/>
                      <p:nvPr/>
                    </p:nvSpPr>
                    <p:spPr>
                      <a:xfrm flipH="1" rot="5400000">
                        <a:off x="4118760" y="3083400"/>
                        <a:ext cx="83880" cy="138240"/>
                      </a:xfrm>
                      <a:prstGeom prst="can">
                        <a:avLst>
                          <a:gd name="adj" fmla="val 25555"/>
                        </a:avLst>
                      </a:prstGeom>
                      <a:gradFill rotWithShape="0">
                        <a:gsLst>
                          <a:gs pos="0">
                            <a:srgbClr val="757575"/>
                          </a:gs>
                          <a:gs pos="50000">
                            <a:srgbClr val="ffffff"/>
                          </a:gs>
                          <a:gs pos="100000">
                            <a:srgbClr val="757575"/>
                          </a:gs>
                        </a:gsLst>
                        <a:lin ang="10800000"/>
                      </a:gra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520" bIns="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4100760" y="3110760"/>
                        <a:ext cx="101880" cy="83880"/>
                        <a:chOff x="4100760" y="3110760"/>
                        <a:chExt cx="101880" cy="8388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 rot="5400000">
                          <a:off x="415368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 rot="5400000">
                          <a:off x="414252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 rot="5400000">
                          <a:off x="412812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 rot="5400000">
                          <a:off x="411372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 rot="5400000">
                          <a:off x="410256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 rot="5400000">
                          <a:off x="4088160" y="3146040"/>
                          <a:ext cx="8388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400" bIns="-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H="1" rot="5400000">
                          <a:off x="407664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 rot="5400000">
                          <a:off x="4065480" y="3145680"/>
                          <a:ext cx="8388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48">
                              <a:moveTo>
                                <a:pt x="0" y="0"/>
                              </a:moveTo>
                              <a:cubicBezTo>
                                <a:pt x="9" y="6"/>
                                <a:pt x="26" y="25"/>
                                <a:pt x="51" y="33"/>
                              </a:cubicBezTo>
                              <a:cubicBezTo>
                                <a:pt x="76" y="41"/>
                                <a:pt x="118" y="48"/>
                                <a:pt x="150" y="48"/>
                              </a:cubicBezTo>
                              <a:cubicBezTo>
                                <a:pt x="182" y="48"/>
                                <a:pt x="222" y="37"/>
                                <a:pt x="246" y="30"/>
                              </a:cubicBezTo>
                              <a:cubicBezTo>
                                <a:pt x="270" y="23"/>
                                <a:pt x="284" y="9"/>
                                <a:pt x="294" y="3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12" name=""/>
                  <p:cNvSpPr/>
                  <p:nvPr/>
                </p:nvSpPr>
                <p:spPr>
                  <a:xfrm rot="5400000">
                    <a:off x="3480480" y="3105360"/>
                    <a:ext cx="66240" cy="108000"/>
                  </a:xfrm>
                  <a:prstGeom prst="can">
                    <a:avLst>
                      <a:gd name="adj" fmla="val 27347"/>
                    </a:avLst>
                  </a:prstGeom>
                  <a:gradFill rotWithShape="0">
                    <a:gsLst>
                      <a:gs pos="0">
                        <a:srgbClr val="848484"/>
                      </a:gs>
                      <a:gs pos="50000">
                        <a:srgbClr val="ffffff"/>
                      </a:gs>
                      <a:gs pos="100000">
                        <a:srgbClr val="848484"/>
                      </a:gs>
                    </a:gsLst>
                    <a:lin ang="54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381480" y="3169440"/>
                    <a:ext cx="1486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80">
                        <a:moveTo>
                          <a:pt x="125" y="7"/>
                        </a:moveTo>
                        <a:cubicBezTo>
                          <a:pt x="112" y="9"/>
                          <a:pt x="64" y="0"/>
                          <a:pt x="44" y="20"/>
                        </a:cubicBezTo>
                        <a:cubicBezTo>
                          <a:pt x="24" y="41"/>
                          <a:pt x="0" y="101"/>
                          <a:pt x="7" y="130"/>
                        </a:cubicBezTo>
                        <a:cubicBezTo>
                          <a:pt x="14" y="159"/>
                          <a:pt x="49" y="177"/>
                          <a:pt x="84" y="194"/>
                        </a:cubicBezTo>
                        <a:cubicBezTo>
                          <a:pt x="119" y="211"/>
                          <a:pt x="197" y="217"/>
                          <a:pt x="217" y="231"/>
                        </a:cubicBezTo>
                        <a:cubicBezTo>
                          <a:pt x="237" y="245"/>
                          <a:pt x="206" y="270"/>
                          <a:pt x="203" y="28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363480" y="3145320"/>
                    <a:ext cx="147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00">
                        <a:moveTo>
                          <a:pt x="157" y="4"/>
                        </a:moveTo>
                        <a:cubicBezTo>
                          <a:pt x="147" y="5"/>
                          <a:pt x="113" y="0"/>
                          <a:pt x="92" y="7"/>
                        </a:cubicBezTo>
                        <a:cubicBezTo>
                          <a:pt x="72" y="15"/>
                          <a:pt x="49" y="23"/>
                          <a:pt x="35" y="48"/>
                        </a:cubicBezTo>
                        <a:cubicBezTo>
                          <a:pt x="20" y="74"/>
                          <a:pt x="0" y="129"/>
                          <a:pt x="7" y="161"/>
                        </a:cubicBezTo>
                        <a:cubicBezTo>
                          <a:pt x="15" y="194"/>
                          <a:pt x="49" y="222"/>
                          <a:pt x="79" y="243"/>
                        </a:cubicBezTo>
                        <a:cubicBezTo>
                          <a:pt x="109" y="265"/>
                          <a:pt x="162" y="265"/>
                          <a:pt x="188" y="291"/>
                        </a:cubicBezTo>
                        <a:cubicBezTo>
                          <a:pt x="214" y="317"/>
                          <a:pt x="226" y="377"/>
                          <a:pt x="236" y="40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114800" y="3049560"/>
                    <a:ext cx="170280" cy="505080"/>
                  </a:xfrm>
                  <a:prstGeom prst="cube">
                    <a:avLst>
                      <a:gd name="adj" fmla="val 5220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3756960" y="3352320"/>
                    <a:ext cx="203040" cy="221040"/>
                  </a:xfrm>
                  <a:prstGeom prst="can">
                    <a:avLst>
                      <a:gd name="adj" fmla="val 47157"/>
                    </a:avLst>
                  </a:prstGeom>
                  <a:gradFill rotWithShape="0">
                    <a:gsLst>
                      <a:gs pos="0">
                        <a:srgbClr val="b3b3b3"/>
                      </a:gs>
                      <a:gs pos="50000">
                        <a:srgbClr val="ffffff"/>
                      </a:gs>
                      <a:gs pos="100000">
                        <a:srgbClr val="b3b3b3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776760" y="2934360"/>
                    <a:ext cx="16380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1758">
                        <a:moveTo>
                          <a:pt x="3" y="0"/>
                        </a:moveTo>
                        <a:lnTo>
                          <a:pt x="570" y="0"/>
                        </a:lnTo>
                        <a:lnTo>
                          <a:pt x="570" y="1635"/>
                        </a:lnTo>
                        <a:lnTo>
                          <a:pt x="552" y="1674"/>
                        </a:lnTo>
                        <a:lnTo>
                          <a:pt x="519" y="1701"/>
                        </a:lnTo>
                        <a:lnTo>
                          <a:pt x="456" y="1728"/>
                        </a:lnTo>
                        <a:lnTo>
                          <a:pt x="399" y="1746"/>
                        </a:lnTo>
                        <a:lnTo>
                          <a:pt x="306" y="1758"/>
                        </a:lnTo>
                        <a:lnTo>
                          <a:pt x="201" y="1749"/>
                        </a:lnTo>
                        <a:lnTo>
                          <a:pt x="120" y="1737"/>
                        </a:lnTo>
                        <a:lnTo>
                          <a:pt x="51" y="1704"/>
                        </a:lnTo>
                        <a:lnTo>
                          <a:pt x="0" y="1653"/>
                        </a:lnTo>
                        <a:lnTo>
                          <a:pt x="0" y="903"/>
                        </a:lnTo>
                        <a:lnTo>
                          <a:pt x="24" y="873"/>
                        </a:lnTo>
                        <a:lnTo>
                          <a:pt x="39" y="837"/>
                        </a:lnTo>
                        <a:lnTo>
                          <a:pt x="48" y="795"/>
                        </a:lnTo>
                        <a:lnTo>
                          <a:pt x="51" y="765"/>
                        </a:lnTo>
                        <a:lnTo>
                          <a:pt x="48" y="723"/>
                        </a:lnTo>
                        <a:lnTo>
                          <a:pt x="39" y="684"/>
                        </a:lnTo>
                        <a:lnTo>
                          <a:pt x="24" y="651"/>
                        </a:lnTo>
                        <a:lnTo>
                          <a:pt x="3" y="62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bcbcb"/>
                      </a:gs>
                      <a:gs pos="50000">
                        <a:srgbClr val="ffffff"/>
                      </a:gs>
                      <a:gs pos="100000">
                        <a:srgbClr val="cbcbcb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895200" y="3113640"/>
                    <a:ext cx="41400" cy="8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e3e3e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96320" y="3043800"/>
                    <a:ext cx="170640" cy="504360"/>
                  </a:xfrm>
                  <a:prstGeom prst="cube">
                    <a:avLst>
                      <a:gd name="adj" fmla="val 5220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629880" y="3126240"/>
                    <a:ext cx="109080" cy="66240"/>
                    <a:chOff x="3629880" y="3126240"/>
                    <a:chExt cx="109080" cy="662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5400000">
                      <a:off x="3651120" y="3104640"/>
                      <a:ext cx="66240" cy="109080"/>
                    </a:xfrm>
                    <a:prstGeom prst="can">
                      <a:avLst>
                        <a:gd name="adj" fmla="val 27347"/>
                      </a:avLst>
                    </a:prstGeom>
                    <a:gradFill rotWithShape="0">
                      <a:gsLst>
                        <a:gs pos="0">
                          <a:srgbClr val="848484"/>
                        </a:gs>
                        <a:gs pos="50000">
                          <a:srgbClr val="ffffff"/>
                        </a:gs>
                        <a:gs pos="100000">
                          <a:srgbClr val="848484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3714480" y="3133440"/>
                      <a:ext cx="21240" cy="51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57575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4108320" y="4003200"/>
                  <a:ext cx="493200" cy="271800"/>
                  <a:chOff x="4108320" y="4003200"/>
                  <a:chExt cx="493200" cy="2718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4108320" y="4003200"/>
                    <a:ext cx="493200" cy="271800"/>
                  </a:xfrm>
                  <a:prstGeom prst="rect">
                    <a:avLst/>
                  </a:prstGeom>
                  <a:solidFill>
                    <a:srgbClr val="99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282200" y="4047120"/>
                    <a:ext cx="163800" cy="19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174920" y="4108680"/>
                    <a:ext cx="71280" cy="70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162320" y="4119480"/>
                    <a:ext cx="71280" cy="70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175640" y="4133520"/>
                    <a:ext cx="43920" cy="4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63280" y="4109400"/>
                    <a:ext cx="83520" cy="81000"/>
                    <a:chOff x="4463280" y="4109400"/>
                    <a:chExt cx="83520" cy="8100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4475520" y="4109400"/>
                      <a:ext cx="71280" cy="70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4d4d4d"/>
                        </a:gs>
                        <a:gs pos="100000">
                          <a:srgbClr val="232323"/>
                        </a:gs>
                      </a:gsLst>
                      <a:lin ang="135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4463280" y="4119840"/>
                      <a:ext cx="71280" cy="70560"/>
                    </a:xfrm>
                    <a:prstGeom prst="ellipse">
                      <a:avLst/>
                    </a:prstGeom>
                    <a:solidFill>
                      <a:srgbClr val="4d4d4d"/>
                    </a:soli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4476600" y="4134240"/>
                      <a:ext cx="43920" cy="43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0c0c0"/>
                        </a:gs>
                      </a:gsLst>
                      <a:lin ang="81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3444120" y="4003200"/>
                  <a:ext cx="493200" cy="271800"/>
                  <a:chOff x="3444120" y="4003200"/>
                  <a:chExt cx="493200" cy="27180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3444120" y="4003200"/>
                    <a:ext cx="493200" cy="271800"/>
                  </a:xfrm>
                  <a:prstGeom prst="rect">
                    <a:avLst/>
                  </a:prstGeom>
                  <a:solidFill>
                    <a:srgbClr val="99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607920" y="4066920"/>
                    <a:ext cx="16380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519000" y="4101840"/>
                    <a:ext cx="71280" cy="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506400" y="4112640"/>
                    <a:ext cx="71280" cy="70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519720" y="4127040"/>
                    <a:ext cx="43920" cy="4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3807360" y="4102920"/>
                    <a:ext cx="83520" cy="81000"/>
                    <a:chOff x="3807360" y="4102920"/>
                    <a:chExt cx="83520" cy="810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819600" y="4102920"/>
                      <a:ext cx="71280" cy="70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4d4d4d"/>
                        </a:gs>
                        <a:gs pos="100000">
                          <a:srgbClr val="232323"/>
                        </a:gs>
                      </a:gsLst>
                      <a:lin ang="135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807360" y="4113360"/>
                      <a:ext cx="71280" cy="70560"/>
                    </a:xfrm>
                    <a:prstGeom prst="ellipse">
                      <a:avLst/>
                    </a:prstGeom>
                    <a:solidFill>
                      <a:srgbClr val="4d4d4d"/>
                    </a:soli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820680" y="4127760"/>
                      <a:ext cx="43920" cy="43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0c0c0"/>
                        </a:gs>
                      </a:gsLst>
                      <a:lin ang="81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2785680" y="4000680"/>
                  <a:ext cx="493200" cy="271800"/>
                  <a:chOff x="2785680" y="4000680"/>
                  <a:chExt cx="493200" cy="271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2785680" y="4000680"/>
                    <a:ext cx="493200" cy="271800"/>
                  </a:xfrm>
                  <a:prstGeom prst="rect">
                    <a:avLst/>
                  </a:prstGeom>
                  <a:solidFill>
                    <a:srgbClr val="99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973600" y="4023720"/>
                    <a:ext cx="163440" cy="19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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849760" y="4105440"/>
                    <a:ext cx="71280" cy="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837160" y="4116240"/>
                    <a:ext cx="71280" cy="70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850480" y="4130280"/>
                    <a:ext cx="439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0c0c0"/>
                      </a:gs>
                    </a:gsLst>
                    <a:lin ang="8100000"/>
                  </a:gra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138480" y="4106160"/>
                    <a:ext cx="83520" cy="81000"/>
                    <a:chOff x="3138480" y="4106160"/>
                    <a:chExt cx="83520" cy="810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150720" y="4106160"/>
                      <a:ext cx="71280" cy="70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32323"/>
                        </a:gs>
                        <a:gs pos="50000">
                          <a:srgbClr val="4d4d4d"/>
                        </a:gs>
                        <a:gs pos="100000">
                          <a:srgbClr val="232323"/>
                        </a:gs>
                      </a:gsLst>
                      <a:lin ang="135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3138480" y="4116600"/>
                      <a:ext cx="71280" cy="70560"/>
                    </a:xfrm>
                    <a:prstGeom prst="ellipse">
                      <a:avLst/>
                    </a:prstGeom>
                    <a:solidFill>
                      <a:srgbClr val="4d4d4d"/>
                    </a:soli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151800" y="4131000"/>
                      <a:ext cx="43920" cy="43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0c0c0"/>
                        </a:gs>
                      </a:gsLst>
                      <a:lin ang="8100000"/>
                    </a:gradFill>
                    <a:ln w="32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53" name=""/>
              <p:cNvSpPr/>
              <p:nvPr/>
            </p:nvSpPr>
            <p:spPr>
              <a:xfrm>
                <a:off x="3149640" y="981000"/>
                <a:ext cx="1455840" cy="1796760"/>
              </a:xfrm>
              <a:prstGeom prst="can">
                <a:avLst>
                  <a:gd name="adj" fmla="val 16662"/>
                </a:avLst>
              </a:prstGeom>
              <a:gradFill rotWithShape="0">
                <a:gsLst>
                  <a:gs pos="0">
                    <a:srgbClr val="b3b3b3"/>
                  </a:gs>
                  <a:gs pos="100000">
                    <a:srgbClr val="eaeaea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2559240" y="2124000"/>
                <a:ext cx="1117440" cy="1003320"/>
                <a:chOff x="2559240" y="2124000"/>
                <a:chExt cx="1117440" cy="10033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2835360" y="2462040"/>
                  <a:ext cx="841320" cy="665280"/>
                </a:xfrm>
                <a:custGeom>
                  <a:avLst/>
                  <a:gdLst/>
                  <a:ahLst/>
                  <a:rect l="l" t="t" r="r" b="b"/>
                  <a:pathLst>
                    <a:path w="530" h="419">
                      <a:moveTo>
                        <a:pt x="530" y="419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559240" y="2124000"/>
                  <a:ext cx="438120" cy="25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LD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1835280" y="1285560"/>
                <a:ext cx="1294920" cy="559080"/>
                <a:chOff x="1835280" y="1285560"/>
                <a:chExt cx="1294920" cy="55908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2495520" y="1552320"/>
                  <a:ext cx="634680" cy="292320"/>
                </a:xfrm>
                <a:custGeom>
                  <a:avLst/>
                  <a:gdLst/>
                  <a:ahLst/>
                  <a:rect l="l" t="t" r="r" b="b"/>
                  <a:pathLst>
                    <a:path w="400" h="184">
                      <a:moveTo>
                        <a:pt x="0" y="0"/>
                      </a:moveTo>
                      <a:lnTo>
                        <a:pt x="400" y="184"/>
                      </a:lnTo>
                    </a:path>
                  </a:pathLst>
                </a:custGeom>
                <a:noFill/>
                <a:ln w="19080">
                  <a:solidFill>
                    <a:srgbClr val="ffff66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835280" y="1285560"/>
                  <a:ext cx="844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Co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"/>
          <p:cNvGrpSpPr/>
          <p:nvPr/>
        </p:nvGrpSpPr>
        <p:grpSpPr>
          <a:xfrm>
            <a:off x="5580000" y="3213000"/>
            <a:ext cx="3184560" cy="2900520"/>
            <a:chOff x="5580000" y="3213000"/>
            <a:chExt cx="3184560" cy="2900520"/>
          </a:xfrm>
        </p:grpSpPr>
        <p:grpSp>
          <p:nvGrpSpPr>
            <p:cNvPr id="661" name=""/>
            <p:cNvGrpSpPr/>
            <p:nvPr/>
          </p:nvGrpSpPr>
          <p:grpSpPr>
            <a:xfrm>
              <a:off x="7468920" y="4660920"/>
              <a:ext cx="1295640" cy="635040"/>
              <a:chOff x="7468920" y="4660920"/>
              <a:chExt cx="1295640" cy="635040"/>
            </a:xfrm>
          </p:grpSpPr>
          <p:sp>
            <p:nvSpPr>
              <p:cNvPr id="662" name=""/>
              <p:cNvSpPr/>
              <p:nvPr/>
            </p:nvSpPr>
            <p:spPr>
              <a:xfrm>
                <a:off x="7773840" y="4660920"/>
                <a:ext cx="9907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Ru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468920" y="4965480"/>
                <a:ext cx="762120" cy="330480"/>
              </a:xfrm>
              <a:custGeom>
                <a:avLst/>
                <a:gdLst/>
                <a:ahLst/>
                <a:rect l="l" t="t" r="r" b="b"/>
                <a:pathLst>
                  <a:path w="480" h="208">
                    <a:moveTo>
                      <a:pt x="480" y="0"/>
                    </a:move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ff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5580000" y="3213000"/>
              <a:ext cx="2727360" cy="2900520"/>
              <a:chOff x="5580000" y="3213000"/>
              <a:chExt cx="2727360" cy="290052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7240320" y="4660920"/>
                <a:ext cx="171720" cy="1452600"/>
                <a:chOff x="7240320" y="4660920"/>
                <a:chExt cx="171720" cy="14526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7240320" y="4660920"/>
                  <a:ext cx="171720" cy="14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4a4a4"/>
                    </a:gs>
                    <a:gs pos="50000">
                      <a:srgbClr val="ffffff"/>
                    </a:gs>
                    <a:gs pos="100000">
                      <a:srgbClr val="a4a4a4"/>
                    </a:gs>
                  </a:gsLst>
                  <a:lin ang="135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369200" y="4660920"/>
                  <a:ext cx="0" cy="1452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283160" y="5992560"/>
                  <a:ext cx="5688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4a4a4"/>
                    </a:gs>
                    <a:gs pos="50000">
                      <a:srgbClr val="ffffff"/>
                    </a:gs>
                    <a:gs pos="100000">
                      <a:srgbClr val="a4a4a4"/>
                    </a:gs>
                  </a:gsLst>
                  <a:lin ang="135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6540480" y="4386240"/>
                <a:ext cx="249120" cy="579240"/>
                <a:chOff x="6540480" y="4386240"/>
                <a:chExt cx="249120" cy="57924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6540480" y="4707720"/>
                  <a:ext cx="249120" cy="257760"/>
                  <a:chOff x="6540480" y="4707720"/>
                  <a:chExt cx="249120" cy="2577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6540480" y="4707720"/>
                    <a:ext cx="86400" cy="257760"/>
                  </a:xfrm>
                  <a:prstGeom prst="cube">
                    <a:avLst>
                      <a:gd name="adj" fmla="val 83888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554160" y="4879440"/>
                    <a:ext cx="235440" cy="84960"/>
                  </a:xfrm>
                  <a:prstGeom prst="cube">
                    <a:avLst>
                      <a:gd name="adj" fmla="val 84851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3" name=""/>
                <p:cNvSpPr/>
                <p:nvPr/>
              </p:nvSpPr>
              <p:spPr>
                <a:xfrm>
                  <a:off x="6553800" y="4386240"/>
                  <a:ext cx="72360" cy="563400"/>
                </a:xfrm>
                <a:custGeom>
                  <a:avLst/>
                  <a:gdLst/>
                  <a:ahLst/>
                  <a:rect l="l" t="t" r="r" b="b"/>
                  <a:pathLst>
                    <a:path w="604" h="4718">
                      <a:moveTo>
                        <a:pt x="604" y="4127"/>
                      </a:moveTo>
                      <a:lnTo>
                        <a:pt x="0" y="4718"/>
                      </a:lnTo>
                      <a:lnTo>
                        <a:pt x="0" y="578"/>
                      </a:lnTo>
                      <a:lnTo>
                        <a:pt x="591" y="0"/>
                      </a:lnTo>
                      <a:lnTo>
                        <a:pt x="591" y="4114"/>
                      </a:lnTo>
                    </a:path>
                  </a:pathLst>
                </a:custGeom>
                <a:solidFill>
                  <a:srgbClr val="dddddd">
                    <a:alpha val="5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684760" y="4149720"/>
                <a:ext cx="570960" cy="869400"/>
                <a:chOff x="5684760" y="4149720"/>
                <a:chExt cx="570960" cy="86940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5684760" y="4794120"/>
                  <a:ext cx="570960" cy="225000"/>
                  <a:chOff x="5684760" y="4794120"/>
                  <a:chExt cx="570960" cy="22500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5684760" y="4829040"/>
                    <a:ext cx="570240" cy="19008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684760" y="4794120"/>
                    <a:ext cx="570240" cy="19008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684760" y="4926600"/>
                    <a:ext cx="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684760" y="4894560"/>
                    <a:ext cx="7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8">
                        <a:moveTo>
                          <a:pt x="3" y="0"/>
                        </a:move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255000" y="4894920"/>
                    <a:ext cx="7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8">
                        <a:moveTo>
                          <a:pt x="3" y="0"/>
                        </a:moveTo>
                        <a:lnTo>
                          <a:pt x="0" y="108"/>
                        </a:lnTo>
                      </a:path>
                    </a:pathLst>
                  </a:cu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"/>
                <p:cNvSpPr/>
                <p:nvPr/>
              </p:nvSpPr>
              <p:spPr>
                <a:xfrm>
                  <a:off x="5870520" y="4149720"/>
                  <a:ext cx="189000" cy="755640"/>
                </a:xfrm>
                <a:prstGeom prst="can">
                  <a:avLst>
                    <a:gd name="adj" fmla="val 11615"/>
                  </a:avLst>
                </a:prstGeom>
                <a:gradFill rotWithShape="0">
                  <a:gsLst>
                    <a:gs pos="0">
                      <a:srgbClr val="bbbbbb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889600" y="4162320"/>
                  <a:ext cx="153720" cy="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5742000" y="3213000"/>
                <a:ext cx="1879560" cy="762120"/>
                <a:chOff x="5742000" y="3213000"/>
                <a:chExt cx="1879560" cy="7621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868720" y="3213000"/>
                  <a:ext cx="175284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Solution fil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742000" y="3619440"/>
                  <a:ext cx="622080" cy="355680"/>
                </a:xfrm>
                <a:custGeom>
                  <a:avLst/>
                  <a:gdLst/>
                  <a:ahLst/>
                  <a:rect l="l" t="t" r="r" b="b"/>
                  <a:pathLst>
                    <a:path w="392" h="224">
                      <a:moveTo>
                        <a:pt x="392" y="0"/>
                      </a:moveTo>
                      <a:lnTo>
                        <a:pt x="0" y="224"/>
                      </a:ln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6110280" y="3746520"/>
                <a:ext cx="1511280" cy="558720"/>
                <a:chOff x="6110280" y="3746520"/>
                <a:chExt cx="1511280" cy="5587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6783120" y="3746520"/>
                  <a:ext cx="8384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Hol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110280" y="3975120"/>
                  <a:ext cx="761760" cy="330120"/>
                </a:xfrm>
                <a:custGeom>
                  <a:avLst/>
                  <a:gdLst/>
                  <a:ahLst/>
                  <a:rect l="l" t="t" r="r" b="b"/>
                  <a:pathLst>
                    <a:path w="480" h="208">
                      <a:moveTo>
                        <a:pt x="480" y="0"/>
                      </a:moveTo>
                      <a:lnTo>
                        <a:pt x="0" y="208"/>
                      </a:ln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6554520" y="4127400"/>
                <a:ext cx="1752840" cy="558720"/>
                <a:chOff x="6554520" y="4127400"/>
                <a:chExt cx="1752840" cy="5587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088040" y="4127400"/>
                  <a:ext cx="1219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400" spc="-1" strike="noStrike">
                      <a:solidFill>
                        <a:srgbClr val="ffff00"/>
                      </a:solidFill>
                      <a:latin typeface="Times New Roman"/>
                    </a:rPr>
                    <a:t>Grey fil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554520" y="4356000"/>
                  <a:ext cx="762120" cy="330120"/>
                </a:xfrm>
                <a:custGeom>
                  <a:avLst/>
                  <a:gdLst/>
                  <a:ahLst/>
                  <a:rect l="l" t="t" r="r" b="b"/>
                  <a:pathLst>
                    <a:path w="480" h="208">
                      <a:moveTo>
                        <a:pt x="480" y="0"/>
                      </a:moveTo>
                      <a:lnTo>
                        <a:pt x="0" y="208"/>
                      </a:ln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580000" y="3746520"/>
                <a:ext cx="122040" cy="871560"/>
                <a:chOff x="5580000" y="3746520"/>
                <a:chExt cx="122040" cy="8715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584680" y="4014720"/>
                  <a:ext cx="109080" cy="567000"/>
                </a:xfrm>
                <a:prstGeom prst="can">
                  <a:avLst>
                    <a:gd name="adj" fmla="val 7500"/>
                  </a:avLst>
                </a:prstGeom>
                <a:solidFill>
                  <a:srgbClr val="99cc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590800" y="4524480"/>
                  <a:ext cx="99720" cy="777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5580000" y="3789360"/>
                  <a:ext cx="122040" cy="828720"/>
                  <a:chOff x="5580000" y="3789360"/>
                  <a:chExt cx="122040" cy="82872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5580000" y="3817800"/>
                    <a:ext cx="121680" cy="80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2808">
                        <a:moveTo>
                          <a:pt x="0" y="0"/>
                        </a:moveTo>
                        <a:lnTo>
                          <a:pt x="423" y="3"/>
                        </a:lnTo>
                        <a:lnTo>
                          <a:pt x="423" y="2613"/>
                        </a:lnTo>
                        <a:lnTo>
                          <a:pt x="399" y="2691"/>
                        </a:lnTo>
                        <a:lnTo>
                          <a:pt x="351" y="2757"/>
                        </a:lnTo>
                        <a:lnTo>
                          <a:pt x="297" y="2793"/>
                        </a:lnTo>
                        <a:lnTo>
                          <a:pt x="204" y="2808"/>
                        </a:lnTo>
                        <a:lnTo>
                          <a:pt x="135" y="2793"/>
                        </a:lnTo>
                        <a:lnTo>
                          <a:pt x="72" y="2754"/>
                        </a:lnTo>
                        <a:lnTo>
                          <a:pt x="24" y="2694"/>
                        </a:lnTo>
                        <a:lnTo>
                          <a:pt x="0" y="26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580000" y="3789360"/>
                    <a:ext cx="122040" cy="61200"/>
                  </a:xfrm>
                  <a:prstGeom prst="ellipse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580000" y="3746520"/>
                  <a:ext cx="122040" cy="171360"/>
                  <a:chOff x="5580000" y="3746520"/>
                  <a:chExt cx="122040" cy="17136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5592600" y="3814920"/>
                    <a:ext cx="96120" cy="102960"/>
                  </a:xfrm>
                  <a:prstGeom prst="can">
                    <a:avLst>
                      <a:gd name="adj" fmla="val 34722"/>
                    </a:avLst>
                  </a:prstGeom>
                  <a:gradFill rotWithShape="0">
                    <a:gsLst>
                      <a:gs pos="0">
                        <a:srgbClr val="007038"/>
                      </a:gs>
                      <a:gs pos="50000">
                        <a:srgbClr val="00cc66"/>
                      </a:gs>
                      <a:gs pos="100000">
                        <a:srgbClr val="007038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5580000" y="3746520"/>
                    <a:ext cx="122040" cy="102960"/>
                  </a:xfrm>
                  <a:prstGeom prst="can">
                    <a:avLst>
                      <a:gd name="adj" fmla="val 38888"/>
                    </a:avLst>
                  </a:prstGeom>
                  <a:gradFill rotWithShape="0">
                    <a:gsLst>
                      <a:gs pos="0">
                        <a:srgbClr val="007038"/>
                      </a:gs>
                      <a:gs pos="50000">
                        <a:srgbClr val="00cc66"/>
                      </a:gs>
                      <a:gs pos="100000">
                        <a:srgbClr val="007038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595840" y="3752640"/>
                    <a:ext cx="90000" cy="27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cc66"/>
                      </a:gs>
                      <a:gs pos="50000">
                        <a:srgbClr val="005e2f"/>
                      </a:gs>
                      <a:gs pos="100000">
                        <a:srgbClr val="00cc66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02" name=""/>
          <p:cNvGrpSpPr/>
          <p:nvPr/>
        </p:nvGrpSpPr>
        <p:grpSpPr>
          <a:xfrm>
            <a:off x="838080" y="4205880"/>
            <a:ext cx="4127400" cy="1771200"/>
            <a:chOff x="838080" y="4205880"/>
            <a:chExt cx="4127400" cy="1771200"/>
          </a:xfrm>
        </p:grpSpPr>
        <p:grpSp>
          <p:nvGrpSpPr>
            <p:cNvPr id="703" name=""/>
            <p:cNvGrpSpPr/>
            <p:nvPr/>
          </p:nvGrpSpPr>
          <p:grpSpPr>
            <a:xfrm>
              <a:off x="3292560" y="4205880"/>
              <a:ext cx="1672920" cy="1421280"/>
              <a:chOff x="3292560" y="4205880"/>
              <a:chExt cx="1672920" cy="1421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3585240" y="4205880"/>
                <a:ext cx="884520" cy="454320"/>
                <a:chOff x="3585240" y="4205880"/>
                <a:chExt cx="884520" cy="45432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3879000" y="4205880"/>
                  <a:ext cx="590760" cy="454320"/>
                  <a:chOff x="3879000" y="4205880"/>
                  <a:chExt cx="590760" cy="4543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rot="8596800">
                    <a:off x="4367160" y="4235040"/>
                    <a:ext cx="10584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rot="8596800">
                    <a:off x="4197240" y="4308840"/>
                    <a:ext cx="201960" cy="51840"/>
                  </a:xfrm>
                  <a:prstGeom prst="roundRect">
                    <a:avLst>
                      <a:gd name="adj" fmla="val 25273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rot="8596800">
                    <a:off x="4193280" y="4339800"/>
                    <a:ext cx="5004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969696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 rot="8596800">
                    <a:off x="3947760" y="4446720"/>
                    <a:ext cx="304560" cy="7668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rot="8596800">
                    <a:off x="3883680" y="4565160"/>
                    <a:ext cx="133560" cy="6084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3585240" y="4205880"/>
                  <a:ext cx="590760" cy="454320"/>
                  <a:chOff x="3585240" y="4205880"/>
                  <a:chExt cx="590760" cy="4543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flipH="1" rot="8596800">
                    <a:off x="4072680" y="4234680"/>
                    <a:ext cx="105840" cy="24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56565"/>
                      </a:gs>
                      <a:gs pos="100000">
                        <a:srgbClr val="dddddd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rot="8596800">
                    <a:off x="3903480" y="4308120"/>
                    <a:ext cx="201960" cy="52560"/>
                  </a:xfrm>
                  <a:prstGeom prst="roundRect">
                    <a:avLst>
                      <a:gd name="adj" fmla="val 25273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rot="8596800">
                    <a:off x="3900600" y="4340880"/>
                    <a:ext cx="50400" cy="10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 rot="8596800">
                    <a:off x="3655080" y="4446000"/>
                    <a:ext cx="304200" cy="7740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rot="8596800">
                    <a:off x="3589200" y="4565880"/>
                    <a:ext cx="133560" cy="6012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7" name=""/>
              <p:cNvGrpSpPr/>
              <p:nvPr/>
            </p:nvGrpSpPr>
            <p:grpSpPr>
              <a:xfrm>
                <a:off x="3813480" y="4851360"/>
                <a:ext cx="1152000" cy="753840"/>
                <a:chOff x="3813480" y="4851360"/>
                <a:chExt cx="1152000" cy="7538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3825720" y="4851360"/>
                  <a:ext cx="1117080" cy="611640"/>
                </a:xfrm>
                <a:custGeom>
                  <a:avLst/>
                  <a:gdLst/>
                  <a:ahLst/>
                  <a:rect l="l" t="t" r="r" b="b"/>
                  <a:pathLst>
                    <a:path w="2628" h="1440">
                      <a:moveTo>
                        <a:pt x="1554" y="0"/>
                      </a:moveTo>
                      <a:lnTo>
                        <a:pt x="2535" y="0"/>
                      </a:lnTo>
                      <a:lnTo>
                        <a:pt x="2592" y="6"/>
                      </a:lnTo>
                      <a:lnTo>
                        <a:pt x="2628" y="24"/>
                      </a:lnTo>
                      <a:lnTo>
                        <a:pt x="2628" y="54"/>
                      </a:lnTo>
                      <a:lnTo>
                        <a:pt x="2607" y="93"/>
                      </a:lnTo>
                      <a:lnTo>
                        <a:pt x="1452" y="1245"/>
                      </a:lnTo>
                      <a:lnTo>
                        <a:pt x="1332" y="1359"/>
                      </a:lnTo>
                      <a:lnTo>
                        <a:pt x="1272" y="1398"/>
                      </a:lnTo>
                      <a:lnTo>
                        <a:pt x="1206" y="1419"/>
                      </a:lnTo>
                      <a:lnTo>
                        <a:pt x="1074" y="1440"/>
                      </a:lnTo>
                      <a:lnTo>
                        <a:pt x="60" y="1438"/>
                      </a:lnTo>
                      <a:lnTo>
                        <a:pt x="21" y="1413"/>
                      </a:lnTo>
                      <a:lnTo>
                        <a:pt x="0" y="1371"/>
                      </a:lnTo>
                      <a:lnTo>
                        <a:pt x="6" y="1335"/>
                      </a:lnTo>
                      <a:lnTo>
                        <a:pt x="27" y="1296"/>
                      </a:lnTo>
                      <a:lnTo>
                        <a:pt x="1275" y="120"/>
                      </a:lnTo>
                      <a:lnTo>
                        <a:pt x="1404" y="21"/>
                      </a:lnTo>
                      <a:lnTo>
                        <a:pt x="1476" y="0"/>
                      </a:lnTo>
                      <a:lnTo>
                        <a:pt x="1554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813480" y="4863600"/>
                  <a:ext cx="1152000" cy="741600"/>
                </a:xfrm>
                <a:custGeom>
                  <a:avLst/>
                  <a:gdLst/>
                  <a:ahLst/>
                  <a:rect l="l" t="t" r="r" b="b"/>
                  <a:pathLst>
                    <a:path w="2712" h="1746">
                      <a:moveTo>
                        <a:pt x="27" y="1335"/>
                      </a:moveTo>
                      <a:lnTo>
                        <a:pt x="0" y="1443"/>
                      </a:lnTo>
                      <a:lnTo>
                        <a:pt x="0" y="1536"/>
                      </a:lnTo>
                      <a:lnTo>
                        <a:pt x="6" y="1608"/>
                      </a:lnTo>
                      <a:lnTo>
                        <a:pt x="30" y="1677"/>
                      </a:lnTo>
                      <a:lnTo>
                        <a:pt x="54" y="1713"/>
                      </a:lnTo>
                      <a:lnTo>
                        <a:pt x="90" y="1746"/>
                      </a:lnTo>
                      <a:lnTo>
                        <a:pt x="870" y="1740"/>
                      </a:lnTo>
                      <a:lnTo>
                        <a:pt x="1131" y="1743"/>
                      </a:lnTo>
                      <a:lnTo>
                        <a:pt x="1242" y="1737"/>
                      </a:lnTo>
                      <a:lnTo>
                        <a:pt x="1299" y="1725"/>
                      </a:lnTo>
                      <a:lnTo>
                        <a:pt x="1359" y="1695"/>
                      </a:lnTo>
                      <a:lnTo>
                        <a:pt x="1452" y="1626"/>
                      </a:lnTo>
                      <a:lnTo>
                        <a:pt x="1563" y="1521"/>
                      </a:lnTo>
                      <a:lnTo>
                        <a:pt x="2634" y="450"/>
                      </a:lnTo>
                      <a:lnTo>
                        <a:pt x="2685" y="345"/>
                      </a:lnTo>
                      <a:lnTo>
                        <a:pt x="2712" y="249"/>
                      </a:lnTo>
                      <a:lnTo>
                        <a:pt x="2706" y="132"/>
                      </a:lnTo>
                      <a:lnTo>
                        <a:pt x="2655" y="0"/>
                      </a:lnTo>
                      <a:lnTo>
                        <a:pt x="2652" y="42"/>
                      </a:lnTo>
                      <a:lnTo>
                        <a:pt x="2610" y="96"/>
                      </a:lnTo>
                      <a:lnTo>
                        <a:pt x="2265" y="438"/>
                      </a:lnTo>
                      <a:lnTo>
                        <a:pt x="1428" y="1269"/>
                      </a:lnTo>
                      <a:lnTo>
                        <a:pt x="1290" y="1374"/>
                      </a:lnTo>
                      <a:lnTo>
                        <a:pt x="1224" y="1398"/>
                      </a:lnTo>
                      <a:lnTo>
                        <a:pt x="1143" y="1410"/>
                      </a:lnTo>
                      <a:lnTo>
                        <a:pt x="72" y="1404"/>
                      </a:lnTo>
                      <a:lnTo>
                        <a:pt x="27" y="13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272120" y="4880520"/>
                  <a:ext cx="642600" cy="145440"/>
                </a:xfrm>
                <a:prstGeom prst="parallelogram">
                  <a:avLst>
                    <a:gd name="adj" fmla="val 105876"/>
                  </a:avLst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148280" y="5119200"/>
                  <a:ext cx="383040" cy="153000"/>
                </a:xfrm>
                <a:prstGeom prst="ellipse">
                  <a:avLst/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66480" y="5361480"/>
                  <a:ext cx="72000" cy="3564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067640" y="5361480"/>
                  <a:ext cx="72000" cy="3564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170600" y="5361480"/>
                  <a:ext cx="72360" cy="3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17171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272120" y="5361480"/>
                  <a:ext cx="72360" cy="3564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251240" y="5041800"/>
                  <a:ext cx="76320" cy="29880"/>
                </a:xfrm>
                <a:prstGeom prst="roundRect">
                  <a:avLst>
                    <a:gd name="adj" fmla="val 26375"/>
                  </a:avLst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 rot="19887600">
                  <a:off x="4216320" y="5173560"/>
                  <a:ext cx="2574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4037040" y="5275800"/>
                  <a:ext cx="94680" cy="106560"/>
                  <a:chOff x="4037040" y="5275800"/>
                  <a:chExt cx="94680" cy="10656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4082400" y="5321520"/>
                    <a:ext cx="40680" cy="608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037040" y="5275800"/>
                    <a:ext cx="94680" cy="9504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4141800" y="5275800"/>
                  <a:ext cx="95400" cy="106560"/>
                  <a:chOff x="4141800" y="5275800"/>
                  <a:chExt cx="95400" cy="10656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187520" y="5321520"/>
                    <a:ext cx="41040" cy="608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141800" y="5275800"/>
                    <a:ext cx="95400" cy="9504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4" name=""/>
              <p:cNvSpPr/>
              <p:nvPr/>
            </p:nvSpPr>
            <p:spPr>
              <a:xfrm>
                <a:off x="3292560" y="4635720"/>
                <a:ext cx="762840" cy="991440"/>
              </a:xfrm>
              <a:custGeom>
                <a:avLst/>
                <a:gdLst/>
                <a:ahLst/>
                <a:rect l="l" t="t" r="r" b="b"/>
                <a:pathLst>
                  <a:path w="918" h="1191">
                    <a:moveTo>
                      <a:pt x="385" y="0"/>
                    </a:moveTo>
                    <a:cubicBezTo>
                      <a:pt x="377" y="18"/>
                      <a:pt x="272" y="49"/>
                      <a:pt x="340" y="105"/>
                    </a:cubicBezTo>
                    <a:cubicBezTo>
                      <a:pt x="408" y="161"/>
                      <a:pt x="819" y="220"/>
                      <a:pt x="790" y="337"/>
                    </a:cubicBezTo>
                    <a:cubicBezTo>
                      <a:pt x="761" y="454"/>
                      <a:pt x="298" y="683"/>
                      <a:pt x="168" y="810"/>
                    </a:cubicBezTo>
                    <a:cubicBezTo>
                      <a:pt x="38" y="937"/>
                      <a:pt x="20" y="1042"/>
                      <a:pt x="10" y="1102"/>
                    </a:cubicBezTo>
                    <a:cubicBezTo>
                      <a:pt x="0" y="1162"/>
                      <a:pt x="66" y="1161"/>
                      <a:pt x="108" y="1170"/>
                    </a:cubicBezTo>
                    <a:cubicBezTo>
                      <a:pt x="150" y="1179"/>
                      <a:pt x="153" y="1191"/>
                      <a:pt x="265" y="1155"/>
                    </a:cubicBezTo>
                    <a:cubicBezTo>
                      <a:pt x="377" y="1119"/>
                      <a:pt x="674" y="1003"/>
                      <a:pt x="783" y="952"/>
                    </a:cubicBezTo>
                    <a:cubicBezTo>
                      <a:pt x="892" y="901"/>
                      <a:pt x="890" y="869"/>
                      <a:pt x="918" y="847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490920" y="4638240"/>
                <a:ext cx="682560" cy="983160"/>
              </a:xfrm>
              <a:custGeom>
                <a:avLst/>
                <a:gdLst/>
                <a:ahLst/>
                <a:rect l="l" t="t" r="r" b="b"/>
                <a:pathLst>
                  <a:path w="821" h="1181">
                    <a:moveTo>
                      <a:pt x="498" y="0"/>
                    </a:moveTo>
                    <a:cubicBezTo>
                      <a:pt x="489" y="16"/>
                      <a:pt x="403" y="54"/>
                      <a:pt x="446" y="94"/>
                    </a:cubicBezTo>
                    <a:cubicBezTo>
                      <a:pt x="489" y="134"/>
                      <a:pt x="720" y="175"/>
                      <a:pt x="754" y="237"/>
                    </a:cubicBezTo>
                    <a:cubicBezTo>
                      <a:pt x="788" y="299"/>
                      <a:pt x="750" y="369"/>
                      <a:pt x="649" y="469"/>
                    </a:cubicBezTo>
                    <a:cubicBezTo>
                      <a:pt x="548" y="569"/>
                      <a:pt x="253" y="746"/>
                      <a:pt x="146" y="837"/>
                    </a:cubicBezTo>
                    <a:cubicBezTo>
                      <a:pt x="39" y="928"/>
                      <a:pt x="8" y="979"/>
                      <a:pt x="4" y="1017"/>
                    </a:cubicBezTo>
                    <a:cubicBezTo>
                      <a:pt x="0" y="1055"/>
                      <a:pt x="85" y="1059"/>
                      <a:pt x="122" y="1063"/>
                    </a:cubicBezTo>
                    <a:cubicBezTo>
                      <a:pt x="159" y="1067"/>
                      <a:pt x="206" y="1032"/>
                      <a:pt x="227" y="1042"/>
                    </a:cubicBezTo>
                    <a:cubicBezTo>
                      <a:pt x="248" y="1052"/>
                      <a:pt x="235" y="1107"/>
                      <a:pt x="251" y="1123"/>
                    </a:cubicBezTo>
                    <a:cubicBezTo>
                      <a:pt x="267" y="1139"/>
                      <a:pt x="231" y="1181"/>
                      <a:pt x="326" y="1137"/>
                    </a:cubicBezTo>
                    <a:cubicBezTo>
                      <a:pt x="421" y="1093"/>
                      <a:pt x="718" y="917"/>
                      <a:pt x="821" y="85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2033640" y="4205880"/>
              <a:ext cx="1740600" cy="1540440"/>
              <a:chOff x="2033640" y="4205880"/>
              <a:chExt cx="1740600" cy="154044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889720" y="4205880"/>
                <a:ext cx="884520" cy="454320"/>
                <a:chOff x="2889720" y="4205880"/>
                <a:chExt cx="884520" cy="454320"/>
              </a:xfrm>
            </p:grpSpPr>
            <p:sp>
              <p:nvSpPr>
                <p:cNvPr id="738" name=""/>
                <p:cNvSpPr/>
                <p:nvPr/>
              </p:nvSpPr>
              <p:spPr>
                <a:xfrm flipH="1" rot="8596800">
                  <a:off x="3377520" y="4234680"/>
                  <a:ext cx="1058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lin ang="135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9" name=""/>
                <p:cNvGrpSpPr/>
                <p:nvPr/>
              </p:nvGrpSpPr>
              <p:grpSpPr>
                <a:xfrm>
                  <a:off x="3183480" y="4205880"/>
                  <a:ext cx="590760" cy="454320"/>
                  <a:chOff x="3183480" y="4205880"/>
                  <a:chExt cx="590760" cy="45432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rot="8596800">
                    <a:off x="3671640" y="4235040"/>
                    <a:ext cx="10584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 rot="8596800">
                    <a:off x="3501720" y="4308840"/>
                    <a:ext cx="201960" cy="51840"/>
                  </a:xfrm>
                  <a:prstGeom prst="roundRect">
                    <a:avLst>
                      <a:gd name="adj" fmla="val 25273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 rot="8596800">
                    <a:off x="3497760" y="4339800"/>
                    <a:ext cx="5004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969696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 rot="8596800">
                    <a:off x="3252240" y="4446720"/>
                    <a:ext cx="304560" cy="7668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 rot="8596800">
                    <a:off x="3188160" y="4565160"/>
                    <a:ext cx="133560" cy="6084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2889720" y="4253400"/>
                  <a:ext cx="516600" cy="406440"/>
                  <a:chOff x="2889720" y="4253400"/>
                  <a:chExt cx="516600" cy="40644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2966400" y="4253400"/>
                    <a:ext cx="439920" cy="353160"/>
                    <a:chOff x="2966400" y="4253400"/>
                    <a:chExt cx="439920" cy="35316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flipH="1" rot="8596800">
                      <a:off x="3208320" y="4308120"/>
                      <a:ext cx="201960" cy="52560"/>
                    </a:xfrm>
                    <a:prstGeom prst="roundRect">
                      <a:avLst>
                        <a:gd name="adj" fmla="val 25273"/>
                      </a:avLst>
                    </a:prstGeom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flipH="1" rot="8596800">
                      <a:off x="3205080" y="4340880"/>
                      <a:ext cx="50400" cy="102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8596800">
                      <a:off x="2958480" y="4446000"/>
                      <a:ext cx="304200" cy="77040"/>
                    </a:xfrm>
                    <a:prstGeom prst="roundRect">
                      <a:avLst>
                        <a:gd name="adj" fmla="val 41667"/>
                      </a:avLst>
                    </a:prstGeom>
                    <a:gradFill rotWithShape="0">
                      <a:gsLst>
                        <a:gs pos="0">
                          <a:srgbClr val="750000"/>
                        </a:gs>
                        <a:gs pos="100000">
                          <a:srgbClr val="ff0000"/>
                        </a:gs>
                      </a:gsLst>
                      <a:lin ang="13500000"/>
                    </a:gra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0" name=""/>
                  <p:cNvSpPr/>
                  <p:nvPr/>
                </p:nvSpPr>
                <p:spPr>
                  <a:xfrm flipH="1" rot="8596800">
                    <a:off x="2893680" y="4565520"/>
                    <a:ext cx="133560" cy="6012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1" name=""/>
              <p:cNvGrpSpPr/>
              <p:nvPr/>
            </p:nvGrpSpPr>
            <p:grpSpPr>
              <a:xfrm>
                <a:off x="2462760" y="4848120"/>
                <a:ext cx="1151640" cy="754560"/>
                <a:chOff x="2462760" y="4848120"/>
                <a:chExt cx="1151640" cy="7545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474280" y="4848120"/>
                  <a:ext cx="1117440" cy="612720"/>
                </a:xfrm>
                <a:custGeom>
                  <a:avLst/>
                  <a:gdLst/>
                  <a:ahLst/>
                  <a:rect l="l" t="t" r="r" b="b"/>
                  <a:pathLst>
                    <a:path w="2628" h="1440">
                      <a:moveTo>
                        <a:pt x="1554" y="0"/>
                      </a:moveTo>
                      <a:lnTo>
                        <a:pt x="2535" y="0"/>
                      </a:lnTo>
                      <a:lnTo>
                        <a:pt x="2592" y="6"/>
                      </a:lnTo>
                      <a:lnTo>
                        <a:pt x="2628" y="24"/>
                      </a:lnTo>
                      <a:lnTo>
                        <a:pt x="2628" y="54"/>
                      </a:lnTo>
                      <a:lnTo>
                        <a:pt x="2607" y="93"/>
                      </a:lnTo>
                      <a:lnTo>
                        <a:pt x="1452" y="1245"/>
                      </a:lnTo>
                      <a:lnTo>
                        <a:pt x="1332" y="1359"/>
                      </a:lnTo>
                      <a:lnTo>
                        <a:pt x="1272" y="1398"/>
                      </a:lnTo>
                      <a:lnTo>
                        <a:pt x="1206" y="1419"/>
                      </a:lnTo>
                      <a:lnTo>
                        <a:pt x="1074" y="1440"/>
                      </a:lnTo>
                      <a:lnTo>
                        <a:pt x="60" y="1438"/>
                      </a:lnTo>
                      <a:lnTo>
                        <a:pt x="21" y="1413"/>
                      </a:lnTo>
                      <a:lnTo>
                        <a:pt x="0" y="1371"/>
                      </a:lnTo>
                      <a:lnTo>
                        <a:pt x="6" y="1335"/>
                      </a:lnTo>
                      <a:lnTo>
                        <a:pt x="27" y="1296"/>
                      </a:lnTo>
                      <a:lnTo>
                        <a:pt x="1275" y="120"/>
                      </a:lnTo>
                      <a:lnTo>
                        <a:pt x="1404" y="21"/>
                      </a:lnTo>
                      <a:lnTo>
                        <a:pt x="1476" y="0"/>
                      </a:lnTo>
                      <a:lnTo>
                        <a:pt x="1554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462760" y="4860360"/>
                  <a:ext cx="1151640" cy="742320"/>
                </a:xfrm>
                <a:custGeom>
                  <a:avLst/>
                  <a:gdLst/>
                  <a:ahLst/>
                  <a:rect l="l" t="t" r="r" b="b"/>
                  <a:pathLst>
                    <a:path w="2712" h="1746">
                      <a:moveTo>
                        <a:pt x="27" y="1335"/>
                      </a:moveTo>
                      <a:lnTo>
                        <a:pt x="0" y="1443"/>
                      </a:lnTo>
                      <a:lnTo>
                        <a:pt x="0" y="1536"/>
                      </a:lnTo>
                      <a:lnTo>
                        <a:pt x="6" y="1608"/>
                      </a:lnTo>
                      <a:lnTo>
                        <a:pt x="30" y="1677"/>
                      </a:lnTo>
                      <a:lnTo>
                        <a:pt x="54" y="1713"/>
                      </a:lnTo>
                      <a:lnTo>
                        <a:pt x="90" y="1746"/>
                      </a:lnTo>
                      <a:lnTo>
                        <a:pt x="870" y="1740"/>
                      </a:lnTo>
                      <a:lnTo>
                        <a:pt x="1131" y="1743"/>
                      </a:lnTo>
                      <a:lnTo>
                        <a:pt x="1242" y="1737"/>
                      </a:lnTo>
                      <a:lnTo>
                        <a:pt x="1299" y="1725"/>
                      </a:lnTo>
                      <a:lnTo>
                        <a:pt x="1359" y="1695"/>
                      </a:lnTo>
                      <a:lnTo>
                        <a:pt x="1452" y="1626"/>
                      </a:lnTo>
                      <a:lnTo>
                        <a:pt x="1563" y="1521"/>
                      </a:lnTo>
                      <a:lnTo>
                        <a:pt x="2634" y="450"/>
                      </a:lnTo>
                      <a:lnTo>
                        <a:pt x="2685" y="345"/>
                      </a:lnTo>
                      <a:lnTo>
                        <a:pt x="2712" y="249"/>
                      </a:lnTo>
                      <a:lnTo>
                        <a:pt x="2706" y="132"/>
                      </a:lnTo>
                      <a:lnTo>
                        <a:pt x="2655" y="0"/>
                      </a:lnTo>
                      <a:lnTo>
                        <a:pt x="2652" y="42"/>
                      </a:lnTo>
                      <a:lnTo>
                        <a:pt x="2610" y="96"/>
                      </a:lnTo>
                      <a:lnTo>
                        <a:pt x="2265" y="438"/>
                      </a:lnTo>
                      <a:lnTo>
                        <a:pt x="1428" y="1269"/>
                      </a:lnTo>
                      <a:lnTo>
                        <a:pt x="1290" y="1374"/>
                      </a:lnTo>
                      <a:lnTo>
                        <a:pt x="1224" y="1398"/>
                      </a:lnTo>
                      <a:lnTo>
                        <a:pt x="1143" y="1410"/>
                      </a:lnTo>
                      <a:lnTo>
                        <a:pt x="72" y="1404"/>
                      </a:lnTo>
                      <a:lnTo>
                        <a:pt x="27" y="13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2921040" y="4877640"/>
                  <a:ext cx="642600" cy="144720"/>
                </a:xfrm>
                <a:prstGeom prst="parallelogram">
                  <a:avLst>
                    <a:gd name="adj" fmla="val 106403"/>
                  </a:avLst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97560" y="5115960"/>
                  <a:ext cx="382320" cy="153000"/>
                </a:xfrm>
                <a:prstGeom prst="ellipse">
                  <a:avLst/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614680" y="5358240"/>
                  <a:ext cx="7200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716920" y="5358240"/>
                  <a:ext cx="7128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819520" y="5358240"/>
                  <a:ext cx="7200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17171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921040" y="5358240"/>
                  <a:ext cx="7200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899800" y="5039280"/>
                  <a:ext cx="77040" cy="28800"/>
                </a:xfrm>
                <a:prstGeom prst="roundRect">
                  <a:avLst>
                    <a:gd name="adj" fmla="val 26375"/>
                  </a:avLst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3400">
                  <a:off x="2798280" y="5172120"/>
                  <a:ext cx="382320" cy="37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2" name=""/>
                <p:cNvGrpSpPr/>
                <p:nvPr/>
              </p:nvGrpSpPr>
              <p:grpSpPr>
                <a:xfrm>
                  <a:off x="2896920" y="5273280"/>
                  <a:ext cx="94320" cy="105840"/>
                  <a:chOff x="2896920" y="5273280"/>
                  <a:chExt cx="94320" cy="10584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2941920" y="5318640"/>
                    <a:ext cx="40680" cy="604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896920" y="5273280"/>
                    <a:ext cx="94320" cy="9468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2791080" y="5275800"/>
                  <a:ext cx="94320" cy="106560"/>
                  <a:chOff x="2791080" y="5275800"/>
                  <a:chExt cx="94320" cy="10656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2836080" y="5321520"/>
                    <a:ext cx="40680" cy="6084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791080" y="5275800"/>
                    <a:ext cx="94320" cy="9504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8" name=""/>
              <p:cNvSpPr/>
              <p:nvPr/>
            </p:nvSpPr>
            <p:spPr>
              <a:xfrm>
                <a:off x="2267280" y="4624920"/>
                <a:ext cx="952560" cy="946800"/>
              </a:xfrm>
              <a:custGeom>
                <a:avLst/>
                <a:gdLst/>
                <a:ahLst/>
                <a:rect l="l" t="t" r="r" b="b"/>
                <a:pathLst>
                  <a:path w="1146" h="1137">
                    <a:moveTo>
                      <a:pt x="1146" y="0"/>
                    </a:moveTo>
                    <a:cubicBezTo>
                      <a:pt x="1108" y="30"/>
                      <a:pt x="1029" y="108"/>
                      <a:pt x="920" y="178"/>
                    </a:cubicBezTo>
                    <a:cubicBezTo>
                      <a:pt x="811" y="248"/>
                      <a:pt x="637" y="295"/>
                      <a:pt x="492" y="418"/>
                    </a:cubicBezTo>
                    <a:cubicBezTo>
                      <a:pt x="347" y="541"/>
                      <a:pt x="100" y="796"/>
                      <a:pt x="50" y="913"/>
                    </a:cubicBezTo>
                    <a:cubicBezTo>
                      <a:pt x="0" y="1030"/>
                      <a:pt x="115" y="1109"/>
                      <a:pt x="192" y="1123"/>
                    </a:cubicBezTo>
                    <a:cubicBezTo>
                      <a:pt x="269" y="1137"/>
                      <a:pt x="440" y="1035"/>
                      <a:pt x="515" y="995"/>
                    </a:cubicBezTo>
                    <a:cubicBezTo>
                      <a:pt x="590" y="955"/>
                      <a:pt x="616" y="906"/>
                      <a:pt x="642" y="88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033640" y="4622400"/>
                <a:ext cx="893880" cy="1123920"/>
              </a:xfrm>
              <a:custGeom>
                <a:avLst/>
                <a:gdLst/>
                <a:ahLst/>
                <a:rect l="l" t="t" r="r" b="b"/>
                <a:pathLst>
                  <a:path w="1075" h="1350">
                    <a:moveTo>
                      <a:pt x="1068" y="0"/>
                    </a:moveTo>
                    <a:cubicBezTo>
                      <a:pt x="1030" y="23"/>
                      <a:pt x="942" y="78"/>
                      <a:pt x="850" y="135"/>
                    </a:cubicBezTo>
                    <a:cubicBezTo>
                      <a:pt x="758" y="192"/>
                      <a:pt x="626" y="237"/>
                      <a:pt x="513" y="345"/>
                    </a:cubicBezTo>
                    <a:cubicBezTo>
                      <a:pt x="400" y="453"/>
                      <a:pt x="259" y="658"/>
                      <a:pt x="175" y="780"/>
                    </a:cubicBezTo>
                    <a:cubicBezTo>
                      <a:pt x="91" y="902"/>
                      <a:pt x="0" y="991"/>
                      <a:pt x="10" y="1080"/>
                    </a:cubicBezTo>
                    <a:cubicBezTo>
                      <a:pt x="20" y="1169"/>
                      <a:pt x="103" y="1280"/>
                      <a:pt x="235" y="1313"/>
                    </a:cubicBezTo>
                    <a:cubicBezTo>
                      <a:pt x="367" y="1346"/>
                      <a:pt x="665" y="1350"/>
                      <a:pt x="805" y="1275"/>
                    </a:cubicBezTo>
                    <a:cubicBezTo>
                      <a:pt x="945" y="1200"/>
                      <a:pt x="1019" y="949"/>
                      <a:pt x="1075" y="86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914400" y="4205880"/>
              <a:ext cx="2234160" cy="1602720"/>
              <a:chOff x="914400" y="4205880"/>
              <a:chExt cx="2234160" cy="160272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263320" y="4205880"/>
                <a:ext cx="885240" cy="454320"/>
                <a:chOff x="2263320" y="4205880"/>
                <a:chExt cx="885240" cy="4543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2263320" y="4205880"/>
                  <a:ext cx="591120" cy="454320"/>
                  <a:chOff x="2263320" y="4205880"/>
                  <a:chExt cx="591120" cy="45432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flipH="1" rot="8596800">
                    <a:off x="2751120" y="4234680"/>
                    <a:ext cx="105840" cy="24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56565"/>
                      </a:gs>
                      <a:gs pos="100000">
                        <a:srgbClr val="dddddd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rot="8596800">
                    <a:off x="2581920" y="4308120"/>
                    <a:ext cx="201960" cy="52560"/>
                  </a:xfrm>
                  <a:prstGeom prst="roundRect">
                    <a:avLst>
                      <a:gd name="adj" fmla="val 25273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rot="8596800">
                    <a:off x="2577240" y="4340520"/>
                    <a:ext cx="50760" cy="10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rot="8596800">
                    <a:off x="2332800" y="4446720"/>
                    <a:ext cx="304560" cy="7704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rot="8596800">
                    <a:off x="2267640" y="4565520"/>
                    <a:ext cx="133920" cy="6048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2557080" y="4205880"/>
                  <a:ext cx="591480" cy="454320"/>
                  <a:chOff x="2557080" y="4205880"/>
                  <a:chExt cx="591480" cy="45432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H="1" rot="8596800">
                    <a:off x="3045960" y="4235040"/>
                    <a:ext cx="10584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rot="8596800">
                    <a:off x="2876400" y="4309200"/>
                    <a:ext cx="202320" cy="51840"/>
                  </a:xfrm>
                  <a:prstGeom prst="roundRect">
                    <a:avLst>
                      <a:gd name="adj" fmla="val 25273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8596800">
                    <a:off x="2872800" y="4340520"/>
                    <a:ext cx="50400" cy="10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969696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rot="8596800">
                    <a:off x="2625840" y="4445640"/>
                    <a:ext cx="305280" cy="7704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rot="8596800">
                    <a:off x="2561400" y="4565160"/>
                    <a:ext cx="133920" cy="60840"/>
                  </a:xfrm>
                  <a:prstGeom prst="roundRect">
                    <a:avLst>
                      <a:gd name="adj" fmla="val 41667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135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4" name=""/>
              <p:cNvGrpSpPr/>
              <p:nvPr/>
            </p:nvGrpSpPr>
            <p:grpSpPr>
              <a:xfrm>
                <a:off x="1162440" y="4851360"/>
                <a:ext cx="1153440" cy="754560"/>
                <a:chOff x="1162440" y="4851360"/>
                <a:chExt cx="1153440" cy="7545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1174680" y="4851360"/>
                  <a:ext cx="1118520" cy="611640"/>
                </a:xfrm>
                <a:custGeom>
                  <a:avLst/>
                  <a:gdLst/>
                  <a:ahLst/>
                  <a:rect l="l" t="t" r="r" b="b"/>
                  <a:pathLst>
                    <a:path w="2628" h="1440">
                      <a:moveTo>
                        <a:pt x="1554" y="0"/>
                      </a:moveTo>
                      <a:lnTo>
                        <a:pt x="2535" y="0"/>
                      </a:lnTo>
                      <a:lnTo>
                        <a:pt x="2592" y="6"/>
                      </a:lnTo>
                      <a:lnTo>
                        <a:pt x="2628" y="24"/>
                      </a:lnTo>
                      <a:lnTo>
                        <a:pt x="2628" y="54"/>
                      </a:lnTo>
                      <a:lnTo>
                        <a:pt x="2607" y="93"/>
                      </a:lnTo>
                      <a:lnTo>
                        <a:pt x="1452" y="1245"/>
                      </a:lnTo>
                      <a:lnTo>
                        <a:pt x="1332" y="1359"/>
                      </a:lnTo>
                      <a:lnTo>
                        <a:pt x="1272" y="1398"/>
                      </a:lnTo>
                      <a:lnTo>
                        <a:pt x="1206" y="1419"/>
                      </a:lnTo>
                      <a:lnTo>
                        <a:pt x="1074" y="1440"/>
                      </a:lnTo>
                      <a:lnTo>
                        <a:pt x="60" y="1438"/>
                      </a:lnTo>
                      <a:lnTo>
                        <a:pt x="21" y="1413"/>
                      </a:lnTo>
                      <a:lnTo>
                        <a:pt x="0" y="1371"/>
                      </a:lnTo>
                      <a:lnTo>
                        <a:pt x="6" y="1335"/>
                      </a:lnTo>
                      <a:lnTo>
                        <a:pt x="27" y="1296"/>
                      </a:lnTo>
                      <a:lnTo>
                        <a:pt x="1275" y="120"/>
                      </a:lnTo>
                      <a:lnTo>
                        <a:pt x="1404" y="21"/>
                      </a:lnTo>
                      <a:lnTo>
                        <a:pt x="1476" y="0"/>
                      </a:lnTo>
                      <a:lnTo>
                        <a:pt x="1554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162440" y="4863600"/>
                  <a:ext cx="1153440" cy="742320"/>
                </a:xfrm>
                <a:custGeom>
                  <a:avLst/>
                  <a:gdLst/>
                  <a:ahLst/>
                  <a:rect l="l" t="t" r="r" b="b"/>
                  <a:pathLst>
                    <a:path w="2712" h="1746">
                      <a:moveTo>
                        <a:pt x="27" y="1335"/>
                      </a:moveTo>
                      <a:lnTo>
                        <a:pt x="0" y="1443"/>
                      </a:lnTo>
                      <a:lnTo>
                        <a:pt x="0" y="1536"/>
                      </a:lnTo>
                      <a:lnTo>
                        <a:pt x="6" y="1608"/>
                      </a:lnTo>
                      <a:lnTo>
                        <a:pt x="30" y="1677"/>
                      </a:lnTo>
                      <a:lnTo>
                        <a:pt x="54" y="1713"/>
                      </a:lnTo>
                      <a:lnTo>
                        <a:pt x="90" y="1746"/>
                      </a:lnTo>
                      <a:lnTo>
                        <a:pt x="870" y="1740"/>
                      </a:lnTo>
                      <a:lnTo>
                        <a:pt x="1131" y="1743"/>
                      </a:lnTo>
                      <a:lnTo>
                        <a:pt x="1242" y="1737"/>
                      </a:lnTo>
                      <a:lnTo>
                        <a:pt x="1299" y="1725"/>
                      </a:lnTo>
                      <a:lnTo>
                        <a:pt x="1359" y="1695"/>
                      </a:lnTo>
                      <a:lnTo>
                        <a:pt x="1452" y="1626"/>
                      </a:lnTo>
                      <a:lnTo>
                        <a:pt x="1563" y="1521"/>
                      </a:lnTo>
                      <a:lnTo>
                        <a:pt x="2634" y="450"/>
                      </a:lnTo>
                      <a:lnTo>
                        <a:pt x="2685" y="345"/>
                      </a:lnTo>
                      <a:lnTo>
                        <a:pt x="2712" y="249"/>
                      </a:lnTo>
                      <a:lnTo>
                        <a:pt x="2706" y="132"/>
                      </a:lnTo>
                      <a:lnTo>
                        <a:pt x="2655" y="0"/>
                      </a:lnTo>
                      <a:lnTo>
                        <a:pt x="2652" y="42"/>
                      </a:lnTo>
                      <a:lnTo>
                        <a:pt x="2610" y="96"/>
                      </a:lnTo>
                      <a:lnTo>
                        <a:pt x="2265" y="438"/>
                      </a:lnTo>
                      <a:lnTo>
                        <a:pt x="1428" y="1269"/>
                      </a:lnTo>
                      <a:lnTo>
                        <a:pt x="1290" y="1374"/>
                      </a:lnTo>
                      <a:lnTo>
                        <a:pt x="1224" y="1398"/>
                      </a:lnTo>
                      <a:lnTo>
                        <a:pt x="1143" y="1410"/>
                      </a:lnTo>
                      <a:lnTo>
                        <a:pt x="72" y="1404"/>
                      </a:lnTo>
                      <a:lnTo>
                        <a:pt x="27" y="13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621080" y="4880520"/>
                  <a:ext cx="643680" cy="145440"/>
                </a:xfrm>
                <a:prstGeom prst="parallelogram">
                  <a:avLst>
                    <a:gd name="adj" fmla="val 106054"/>
                  </a:avLst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497960" y="5119200"/>
                  <a:ext cx="383040" cy="153000"/>
                </a:xfrm>
                <a:prstGeom prst="ellipse">
                  <a:avLst/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15440" y="5361480"/>
                  <a:ext cx="7128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416960" y="5361480"/>
                  <a:ext cx="7236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19560" y="5361480"/>
                  <a:ext cx="7236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171717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621080" y="5361480"/>
                  <a:ext cx="72360" cy="36360"/>
                </a:xfrm>
                <a:prstGeom prst="ellipse">
                  <a:avLst/>
                </a:prstGeom>
                <a:solidFill>
                  <a:srgbClr val="96969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600200" y="5042520"/>
                  <a:ext cx="77400" cy="29160"/>
                </a:xfrm>
                <a:prstGeom prst="roundRect">
                  <a:avLst>
                    <a:gd name="adj" fmla="val 26375"/>
                  </a:avLst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4" name=""/>
                <p:cNvGrpSpPr/>
                <p:nvPr/>
              </p:nvGrpSpPr>
              <p:grpSpPr>
                <a:xfrm>
                  <a:off x="1596960" y="5276520"/>
                  <a:ext cx="94680" cy="105120"/>
                  <a:chOff x="1596960" y="5276520"/>
                  <a:chExt cx="94680" cy="10512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1642320" y="5321520"/>
                    <a:ext cx="40680" cy="601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596960" y="5276520"/>
                    <a:ext cx="94680" cy="9432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1491120" y="5279040"/>
                  <a:ext cx="94680" cy="105840"/>
                  <a:chOff x="1491120" y="5279040"/>
                  <a:chExt cx="94680" cy="10584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1536480" y="5324400"/>
                    <a:ext cx="40680" cy="6048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1491120" y="5279040"/>
                    <a:ext cx="94680" cy="94680"/>
                  </a:xfrm>
                  <a:prstGeom prst="cube">
                    <a:avLst>
                      <a:gd name="adj" fmla="val 52037"/>
                    </a:avLst>
                  </a:prstGeom>
                  <a:solidFill>
                    <a:srgbClr val="4d4d4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 rot="1712400">
                  <a:off x="1562400" y="5176800"/>
                  <a:ext cx="258120" cy="36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00000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1072440" y="4641480"/>
                <a:ext cx="1511280" cy="982080"/>
              </a:xfrm>
              <a:custGeom>
                <a:avLst/>
                <a:gdLst/>
                <a:ahLst/>
                <a:rect l="l" t="t" r="r" b="b"/>
                <a:pathLst>
                  <a:path w="1815" h="1180">
                    <a:moveTo>
                      <a:pt x="1815" y="0"/>
                    </a:moveTo>
                    <a:cubicBezTo>
                      <a:pt x="1773" y="19"/>
                      <a:pt x="1711" y="81"/>
                      <a:pt x="1560" y="113"/>
                    </a:cubicBezTo>
                    <a:cubicBezTo>
                      <a:pt x="1409" y="145"/>
                      <a:pt x="1116" y="115"/>
                      <a:pt x="907" y="195"/>
                    </a:cubicBezTo>
                    <a:cubicBezTo>
                      <a:pt x="698" y="275"/>
                      <a:pt x="456" y="444"/>
                      <a:pt x="307" y="593"/>
                    </a:cubicBezTo>
                    <a:cubicBezTo>
                      <a:pt x="158" y="742"/>
                      <a:pt x="30" y="997"/>
                      <a:pt x="15" y="1088"/>
                    </a:cubicBezTo>
                    <a:cubicBezTo>
                      <a:pt x="0" y="1179"/>
                      <a:pt x="131" y="1180"/>
                      <a:pt x="217" y="1140"/>
                    </a:cubicBezTo>
                    <a:cubicBezTo>
                      <a:pt x="303" y="1100"/>
                      <a:pt x="468" y="910"/>
                      <a:pt x="534" y="85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14400" y="4635720"/>
                <a:ext cx="1382400" cy="1172880"/>
              </a:xfrm>
              <a:custGeom>
                <a:avLst/>
                <a:gdLst/>
                <a:ahLst/>
                <a:rect l="l" t="t" r="r" b="b"/>
                <a:pathLst>
                  <a:path w="1660" h="1409">
                    <a:moveTo>
                      <a:pt x="1660" y="0"/>
                    </a:moveTo>
                    <a:cubicBezTo>
                      <a:pt x="1635" y="9"/>
                      <a:pt x="1614" y="32"/>
                      <a:pt x="1510" y="52"/>
                    </a:cubicBezTo>
                    <a:cubicBezTo>
                      <a:pt x="1406" y="72"/>
                      <a:pt x="1246" y="37"/>
                      <a:pt x="1037" y="120"/>
                    </a:cubicBezTo>
                    <a:cubicBezTo>
                      <a:pt x="828" y="203"/>
                      <a:pt x="430" y="385"/>
                      <a:pt x="257" y="547"/>
                    </a:cubicBezTo>
                    <a:cubicBezTo>
                      <a:pt x="84" y="709"/>
                      <a:pt x="4" y="954"/>
                      <a:pt x="2" y="1094"/>
                    </a:cubicBezTo>
                    <a:cubicBezTo>
                      <a:pt x="0" y="1234"/>
                      <a:pt x="147" y="1361"/>
                      <a:pt x="244" y="1385"/>
                    </a:cubicBezTo>
                    <a:cubicBezTo>
                      <a:pt x="341" y="1409"/>
                      <a:pt x="482" y="1329"/>
                      <a:pt x="583" y="1241"/>
                    </a:cubicBezTo>
                    <a:cubicBezTo>
                      <a:pt x="683" y="1153"/>
                      <a:pt x="794" y="935"/>
                      <a:pt x="850" y="854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286000" y="5715000"/>
              <a:ext cx="939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Volt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7600" y="5715000"/>
              <a:ext cx="1200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Am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38080" y="5715000"/>
              <a:ext cx="900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Oh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188160" y="2183400"/>
            <a:ext cx="259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738360" y="762120"/>
            <a:ext cx="669600" cy="669960"/>
          </a:xfrm>
          <a:prstGeom prst="ellipse">
            <a:avLst/>
          </a:prstGeom>
          <a:solidFill>
            <a:srgbClr val="ccff66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819520" y="3276720"/>
            <a:ext cx="2385360" cy="1701000"/>
            <a:chOff x="2819520" y="3276720"/>
            <a:chExt cx="2385360" cy="1701000"/>
          </a:xfrm>
        </p:grpSpPr>
        <p:sp>
          <p:nvSpPr>
            <p:cNvPr id="809" name=""/>
            <p:cNvSpPr/>
            <p:nvPr/>
          </p:nvSpPr>
          <p:spPr>
            <a:xfrm>
              <a:off x="3523680" y="3846240"/>
              <a:ext cx="1612440" cy="59256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3960" y="3832920"/>
              <a:ext cx="610920" cy="1135440"/>
            </a:xfrm>
            <a:custGeom>
              <a:avLst/>
              <a:gdLst/>
              <a:ahLst/>
              <a:rect l="l" t="t" r="r" b="b"/>
              <a:pathLst>
                <a:path w="372" h="692">
                  <a:moveTo>
                    <a:pt x="372" y="0"/>
                  </a:moveTo>
                  <a:lnTo>
                    <a:pt x="0" y="371"/>
                  </a:lnTo>
                  <a:lnTo>
                    <a:pt x="0" y="692"/>
                  </a:lnTo>
                  <a:lnTo>
                    <a:pt x="42" y="650"/>
                  </a:lnTo>
                  <a:lnTo>
                    <a:pt x="45" y="398"/>
                  </a:lnTo>
                  <a:lnTo>
                    <a:pt x="330" y="113"/>
                  </a:lnTo>
                  <a:lnTo>
                    <a:pt x="330" y="368"/>
                  </a:lnTo>
                  <a:lnTo>
                    <a:pt x="372" y="317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19520" y="3831120"/>
              <a:ext cx="2381760" cy="1146600"/>
            </a:xfrm>
            <a:custGeom>
              <a:avLst/>
              <a:gdLst/>
              <a:ahLst/>
              <a:rect l="l" t="t" r="r" b="b"/>
              <a:pathLst>
                <a:path w="1449" h="699">
                  <a:moveTo>
                    <a:pt x="1449" y="0"/>
                  </a:moveTo>
                  <a:lnTo>
                    <a:pt x="360" y="1"/>
                  </a:lnTo>
                  <a:lnTo>
                    <a:pt x="0" y="361"/>
                  </a:lnTo>
                  <a:lnTo>
                    <a:pt x="0" y="699"/>
                  </a:lnTo>
                  <a:lnTo>
                    <a:pt x="1074" y="696"/>
                  </a:lnTo>
                  <a:lnTo>
                    <a:pt x="1077" y="372"/>
                  </a:lnTo>
                  <a:lnTo>
                    <a:pt x="1449" y="0"/>
                  </a:lnTo>
                  <a:close/>
                </a:path>
              </a:pathLst>
            </a:custGeom>
            <a:gradFill rotWithShape="0">
              <a:gsLst>
                <a:gs pos="0">
                  <a:srgbClr val="d0d0d0"/>
                </a:gs>
                <a:gs pos="100000">
                  <a:srgbClr val="eaeaea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777120" y="3409560"/>
              <a:ext cx="513360" cy="704160"/>
              <a:chOff x="3777120" y="3409560"/>
              <a:chExt cx="513360" cy="704160"/>
            </a:xfrm>
          </p:grpSpPr>
          <p:sp>
            <p:nvSpPr>
              <p:cNvPr id="813" name=""/>
              <p:cNvSpPr/>
              <p:nvPr/>
            </p:nvSpPr>
            <p:spPr>
              <a:xfrm>
                <a:off x="3885840" y="3991320"/>
                <a:ext cx="295560" cy="1224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70440" y="3693960"/>
                <a:ext cx="126360" cy="342000"/>
              </a:xfrm>
              <a:prstGeom prst="can">
                <a:avLst>
                  <a:gd name="adj" fmla="val 16666"/>
                </a:avLst>
              </a:prstGeom>
              <a:gradFill rotWithShape="0">
                <a:gsLst>
                  <a:gs pos="0">
                    <a:srgbClr val="464646"/>
                  </a:gs>
                  <a:gs pos="50000">
                    <a:srgbClr val="c0c0c0"/>
                  </a:gs>
                  <a:gs pos="100000">
                    <a:srgbClr val="464646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77120" y="3409560"/>
                <a:ext cx="513360" cy="5666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3080160" y="4704840"/>
              <a:ext cx="1162800" cy="233280"/>
              <a:chOff x="3080160" y="4704840"/>
              <a:chExt cx="1162800" cy="23328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3080160" y="4704840"/>
                <a:ext cx="237240" cy="230760"/>
                <a:chOff x="3080160" y="4704840"/>
                <a:chExt cx="237240" cy="2307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116520" y="4704840"/>
                  <a:ext cx="200880" cy="2012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80160" y="4735800"/>
                  <a:ext cx="200880" cy="19980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18680" y="4774320"/>
                  <a:ext cx="123840" cy="12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c0c0c0"/>
                    </a:gs>
                  </a:gsLst>
                  <a:lin ang="8100000"/>
                </a:gra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4041360" y="4706640"/>
                <a:ext cx="201600" cy="20268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135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05360" y="4736880"/>
                <a:ext cx="201600" cy="2012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43160" y="4776840"/>
                <a:ext cx="125280" cy="124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/>
                  </a:gs>
                </a:gsLst>
                <a:lin ang="8100000"/>
              </a:gra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3571560" y="3276720"/>
              <a:ext cx="506160" cy="495720"/>
            </a:xfrm>
            <a:custGeom>
              <a:avLst/>
              <a:gdLst>
                <a:gd name="textAreaLeft" fmla="*/ 67680 w 506160"/>
                <a:gd name="textAreaRight" fmla="*/ 438480 w 506160"/>
                <a:gd name="textAreaTop" fmla="*/ 86760 h 495720"/>
                <a:gd name="textAreaBottom" fmla="*/ 35964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5486400" y="7621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 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urn the potentiometer knob anticlockwise up to th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733320" y="762120"/>
            <a:ext cx="676440" cy="671400"/>
          </a:xfrm>
          <a:prstGeom prst="ellipse">
            <a:avLst/>
          </a:prstGeom>
          <a:solidFill>
            <a:srgbClr val="ccff66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209680" y="3048120"/>
            <a:ext cx="2710440" cy="2423520"/>
            <a:chOff x="2209680" y="3048120"/>
            <a:chExt cx="2710440" cy="2423520"/>
          </a:xfrm>
        </p:grpSpPr>
        <p:grpSp>
          <p:nvGrpSpPr>
            <p:cNvPr id="828" name=""/>
            <p:cNvGrpSpPr/>
            <p:nvPr/>
          </p:nvGrpSpPr>
          <p:grpSpPr>
            <a:xfrm>
              <a:off x="3144600" y="3048120"/>
              <a:ext cx="1006920" cy="424800"/>
              <a:chOff x="3144600" y="3048120"/>
              <a:chExt cx="1006920" cy="424800"/>
            </a:xfrm>
          </p:grpSpPr>
          <p:sp>
            <p:nvSpPr>
              <p:cNvPr id="829" name=""/>
              <p:cNvSpPr/>
              <p:nvPr/>
            </p:nvSpPr>
            <p:spPr>
              <a:xfrm>
                <a:off x="3144600" y="3048120"/>
                <a:ext cx="431640" cy="424800"/>
              </a:xfrm>
              <a:custGeom>
                <a:avLst/>
                <a:gdLst>
                  <a:gd name="textAreaLeft" fmla="*/ 57600 w 431640"/>
                  <a:gd name="textAreaRight" fmla="*/ 374040 w 431640"/>
                  <a:gd name="textAreaTop" fmla="*/ 74160 h 424800"/>
                  <a:gd name="textAreaBottom" fmla="*/ 308160 h 42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719520" y="3048120"/>
                <a:ext cx="431640" cy="424800"/>
              </a:xfrm>
              <a:custGeom>
                <a:avLst/>
                <a:gdLst>
                  <a:gd name="textAreaLeft" fmla="*/ 57600 w 431640"/>
                  <a:gd name="textAreaRight" fmla="*/ 374040 w 431640"/>
                  <a:gd name="textAreaTop" fmla="*/ 74160 h 424800"/>
                  <a:gd name="textAreaBottom" fmla="*/ 308160 h 42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3927600" y="3981240"/>
              <a:ext cx="992520" cy="1483560"/>
              <a:chOff x="3927600" y="3981240"/>
              <a:chExt cx="992520" cy="148356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3927600" y="4160160"/>
                <a:ext cx="829440" cy="253800"/>
                <a:chOff x="3927600" y="4160160"/>
                <a:chExt cx="829440" cy="253800"/>
              </a:xfrm>
            </p:grpSpPr>
            <p:grpSp>
              <p:nvGrpSpPr>
                <p:cNvPr id="833" name=""/>
                <p:cNvGrpSpPr/>
                <p:nvPr/>
              </p:nvGrpSpPr>
              <p:grpSpPr>
                <a:xfrm>
                  <a:off x="3927600" y="4163760"/>
                  <a:ext cx="409680" cy="250200"/>
                  <a:chOff x="3927600" y="4163760"/>
                  <a:chExt cx="409680" cy="25020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rot="16200000">
                    <a:off x="4007160" y="4083840"/>
                    <a:ext cx="250200" cy="409680"/>
                  </a:xfrm>
                  <a:custGeom>
                    <a:avLst/>
                    <a:gdLst>
                      <a:gd name="textAreaLeft" fmla="*/ 23760 w 250200"/>
                      <a:gd name="textAreaRight" fmla="*/ 226440 w 250200"/>
                      <a:gd name="textAreaTop" fmla="*/ 23760 h 409680"/>
                      <a:gd name="textAreaBottom" fmla="*/ 385920 h 409680"/>
                    </a:gdLst>
                    <a:ahLst/>
                    <a:rect l="textAreaLeft" t="textAreaTop" r="textAreaRight" b="textAreaBottom"/>
                    <a:pathLst>
                      <a:path w="21600" h="35348">
                        <a:moveTo>
                          <a:pt x="7056" y="0"/>
                        </a:moveTo>
                        <a:arcTo wR="7056" hR="7056" stAng="16200000" swAng="-5400000"/>
                        <a:lnTo>
                          <a:pt x="0" y="28292"/>
                        </a:lnTo>
                        <a:arcTo wR="7056" hR="7056" stAng="10800000" swAng="-5400000"/>
                        <a:lnTo>
                          <a:pt x="14544" y="35348"/>
                        </a:lnTo>
                        <a:arcTo wR="7056" hR="7056" stAng="5400000" swAng="-5400000"/>
                        <a:lnTo>
                          <a:pt x="21600" y="7056"/>
                        </a:lnTo>
                        <a:arcTo wR="7056" hR="7056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rot="16200000">
                    <a:off x="4223160" y="4248720"/>
                    <a:ext cx="79920" cy="80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rot="16200000">
                    <a:off x="4224240" y="4223880"/>
                    <a:ext cx="3240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16200000">
                    <a:off x="4221720" y="4167360"/>
                    <a:ext cx="32040" cy="18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8" name=""/>
                <p:cNvSpPr/>
                <p:nvPr/>
              </p:nvSpPr>
              <p:spPr>
                <a:xfrm flipH="1" rot="5400000">
                  <a:off x="4266360" y="4199760"/>
                  <a:ext cx="217440" cy="171360"/>
                </a:xfrm>
                <a:prstGeom prst="can">
                  <a:avLst>
                    <a:gd name="adj" fmla="val 46078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4349880" y="4160160"/>
                  <a:ext cx="407160" cy="246600"/>
                  <a:chOff x="4349880" y="4160160"/>
                  <a:chExt cx="407160" cy="24660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H="1" rot="5400000">
                    <a:off x="4429800" y="4079880"/>
                    <a:ext cx="246600" cy="407160"/>
                  </a:xfrm>
                  <a:prstGeom prst="can">
                    <a:avLst>
                      <a:gd name="adj" fmla="val 25555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4377240" y="4160160"/>
                    <a:ext cx="300600" cy="246600"/>
                    <a:chOff x="4377240" y="4160160"/>
                    <a:chExt cx="300600" cy="24660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5400000">
                      <a:off x="453420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5400000">
                      <a:off x="450072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 rot="5400000">
                      <a:off x="445860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flipH="1" rot="5400000">
                      <a:off x="441684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flipH="1" rot="5400000">
                      <a:off x="438300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flipH="1" rot="5400000">
                      <a:off x="4340880" y="4263480"/>
                      <a:ext cx="246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 flipH="1" rot="5400000">
                      <a:off x="430740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flipH="1" rot="5400000">
                      <a:off x="4273920" y="4263120"/>
                      <a:ext cx="24660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50" name=""/>
              <p:cNvSpPr/>
              <p:nvPr/>
            </p:nvSpPr>
            <p:spPr>
              <a:xfrm>
                <a:off x="4419000" y="3981240"/>
                <a:ext cx="501120" cy="1483560"/>
              </a:xfrm>
              <a:prstGeom prst="cube">
                <a:avLst>
                  <a:gd name="adj" fmla="val 5220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2209680" y="3961080"/>
              <a:ext cx="1103400" cy="1486080"/>
              <a:chOff x="2209680" y="3961080"/>
              <a:chExt cx="1103400" cy="1486080"/>
            </a:xfrm>
          </p:grpSpPr>
          <p:sp>
            <p:nvSpPr>
              <p:cNvPr id="852" name=""/>
              <p:cNvSpPr/>
              <p:nvPr/>
            </p:nvSpPr>
            <p:spPr>
              <a:xfrm rot="5400000">
                <a:off x="2554920" y="4142880"/>
                <a:ext cx="193680" cy="318960"/>
              </a:xfrm>
              <a:prstGeom prst="can">
                <a:avLst>
                  <a:gd name="adj" fmla="val 27347"/>
                </a:avLst>
              </a:prstGeom>
              <a:gradFill rotWithShape="0">
                <a:gsLst>
                  <a:gs pos="0">
                    <a:srgbClr val="848484"/>
                  </a:gs>
                  <a:gs pos="50000">
                    <a:srgbClr val="ffffff"/>
                  </a:gs>
                  <a:gs pos="100000">
                    <a:srgbClr val="84848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62960" y="4331520"/>
                <a:ext cx="438120" cy="517320"/>
              </a:xfrm>
              <a:custGeom>
                <a:avLst/>
                <a:gdLst/>
                <a:ahLst/>
                <a:rect l="l" t="t" r="r" b="b"/>
                <a:pathLst>
                  <a:path w="237" h="280">
                    <a:moveTo>
                      <a:pt x="125" y="7"/>
                    </a:moveTo>
                    <a:cubicBezTo>
                      <a:pt x="112" y="9"/>
                      <a:pt x="64" y="0"/>
                      <a:pt x="44" y="20"/>
                    </a:cubicBezTo>
                    <a:cubicBezTo>
                      <a:pt x="24" y="41"/>
                      <a:pt x="0" y="101"/>
                      <a:pt x="7" y="130"/>
                    </a:cubicBezTo>
                    <a:cubicBezTo>
                      <a:pt x="14" y="159"/>
                      <a:pt x="49" y="177"/>
                      <a:pt x="84" y="194"/>
                    </a:cubicBezTo>
                    <a:cubicBezTo>
                      <a:pt x="119" y="211"/>
                      <a:pt x="197" y="217"/>
                      <a:pt x="217" y="231"/>
                    </a:cubicBezTo>
                    <a:cubicBezTo>
                      <a:pt x="237" y="245"/>
                      <a:pt x="206" y="270"/>
                      <a:pt x="203" y="28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09680" y="4259520"/>
                <a:ext cx="435600" cy="737640"/>
              </a:xfrm>
              <a:custGeom>
                <a:avLst/>
                <a:gdLst/>
                <a:ahLst/>
                <a:rect l="l" t="t" r="r" b="b"/>
                <a:pathLst>
                  <a:path w="236" h="400">
                    <a:moveTo>
                      <a:pt x="157" y="4"/>
                    </a:moveTo>
                    <a:cubicBezTo>
                      <a:pt x="147" y="5"/>
                      <a:pt x="113" y="0"/>
                      <a:pt x="92" y="7"/>
                    </a:cubicBezTo>
                    <a:cubicBezTo>
                      <a:pt x="72" y="15"/>
                      <a:pt x="49" y="23"/>
                      <a:pt x="35" y="48"/>
                    </a:cubicBezTo>
                    <a:cubicBezTo>
                      <a:pt x="20" y="74"/>
                      <a:pt x="0" y="129"/>
                      <a:pt x="7" y="161"/>
                    </a:cubicBezTo>
                    <a:cubicBezTo>
                      <a:pt x="15" y="194"/>
                      <a:pt x="49" y="222"/>
                      <a:pt x="79" y="243"/>
                    </a:cubicBezTo>
                    <a:cubicBezTo>
                      <a:pt x="109" y="265"/>
                      <a:pt x="162" y="265"/>
                      <a:pt x="188" y="291"/>
                    </a:cubicBezTo>
                    <a:cubicBezTo>
                      <a:pt x="214" y="317"/>
                      <a:pt x="226" y="377"/>
                      <a:pt x="236" y="4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600640" y="3961080"/>
                <a:ext cx="500760" cy="1486080"/>
              </a:xfrm>
              <a:prstGeom prst="cube">
                <a:avLst>
                  <a:gd name="adj" fmla="val 5220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2994120" y="4205520"/>
                <a:ext cx="318960" cy="193680"/>
                <a:chOff x="2994120" y="4205520"/>
                <a:chExt cx="318960" cy="193680"/>
              </a:xfrm>
            </p:grpSpPr>
            <p:sp>
              <p:nvSpPr>
                <p:cNvPr id="857" name=""/>
                <p:cNvSpPr/>
                <p:nvPr/>
              </p:nvSpPr>
              <p:spPr>
                <a:xfrm rot="5400000">
                  <a:off x="3056760" y="4142880"/>
                  <a:ext cx="193680" cy="318960"/>
                </a:xfrm>
                <a:prstGeom prst="can">
                  <a:avLst>
                    <a:gd name="adj" fmla="val 27347"/>
                  </a:avLst>
                </a:prstGeom>
                <a:gradFill rotWithShape="0">
                  <a:gsLst>
                    <a:gs pos="0">
                      <a:srgbClr val="848484"/>
                    </a:gs>
                    <a:gs pos="50000">
                      <a:srgbClr val="ffffff"/>
                    </a:gs>
                    <a:gs pos="100000">
                      <a:srgbClr val="848484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240720" y="4227120"/>
                  <a:ext cx="62280" cy="14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3383280" y="3533760"/>
              <a:ext cx="483120" cy="1937880"/>
            </a:xfrm>
            <a:prstGeom prst="can">
              <a:avLst>
                <a:gd name="adj" fmla="val 11615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30080" y="3567960"/>
              <a:ext cx="395640" cy="1659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744720" y="4185720"/>
              <a:ext cx="101520" cy="229680"/>
              <a:chOff x="3744720" y="4185720"/>
              <a:chExt cx="101520" cy="229680"/>
            </a:xfrm>
          </p:grpSpPr>
          <p:sp>
            <p:nvSpPr>
              <p:cNvPr id="862" name=""/>
              <p:cNvSpPr/>
              <p:nvPr/>
            </p:nvSpPr>
            <p:spPr>
              <a:xfrm>
                <a:off x="3744720" y="4185720"/>
                <a:ext cx="101520" cy="22968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805560" y="4188960"/>
                <a:ext cx="39240" cy="22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243" y="2312"/>
                      <a:pt x="12886" y="5080"/>
                      <a:pt x="12886" y="10800"/>
                    </a:cubicBezTo>
                    <a:cubicBezTo>
                      <a:pt x="12886" y="16520"/>
                      <a:pt x="17243" y="1928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4" name=""/>
          <p:cNvSpPr/>
          <p:nvPr/>
        </p:nvSpPr>
        <p:spPr>
          <a:xfrm>
            <a:off x="5943600" y="45720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urn slowly the 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</a:rPr>
              <a:t>tube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lder aligning  the lateral holes between the lamp and the  LD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1294920" y="3276720"/>
            <a:ext cx="3666960" cy="2871360"/>
            <a:chOff x="1294920" y="3276720"/>
            <a:chExt cx="3666960" cy="2871360"/>
          </a:xfrm>
        </p:grpSpPr>
        <p:sp>
          <p:nvSpPr>
            <p:cNvPr id="866" name=""/>
            <p:cNvSpPr/>
            <p:nvPr/>
          </p:nvSpPr>
          <p:spPr>
            <a:xfrm rot="5400000">
              <a:off x="1932120" y="3544560"/>
              <a:ext cx="321120" cy="1595880"/>
            </a:xfrm>
            <a:prstGeom prst="can">
              <a:avLst>
                <a:gd name="adj" fmla="val 11879"/>
              </a:avLst>
            </a:prstGeom>
            <a:gradFill rotWithShape="0">
              <a:gsLst>
                <a:gs pos="0">
                  <a:srgbClr val="cbcbcb"/>
                </a:gs>
                <a:gs pos="5000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2728800" y="4189680"/>
              <a:ext cx="197280" cy="291960"/>
              <a:chOff x="2728800" y="4189680"/>
              <a:chExt cx="197280" cy="291960"/>
            </a:xfrm>
          </p:grpSpPr>
          <p:sp>
            <p:nvSpPr>
              <p:cNvPr id="868" name=""/>
              <p:cNvSpPr/>
              <p:nvPr/>
            </p:nvSpPr>
            <p:spPr>
              <a:xfrm rot="190800">
                <a:off x="2736360" y="4193640"/>
                <a:ext cx="151200" cy="281160"/>
              </a:xfrm>
              <a:custGeom>
                <a:avLst/>
                <a:gdLst/>
                <a:ahLst/>
                <a:rect l="l" t="t" r="r" b="b"/>
                <a:pathLst>
                  <a:path w="699" h="1068">
                    <a:moveTo>
                      <a:pt x="699" y="48"/>
                    </a:moveTo>
                    <a:lnTo>
                      <a:pt x="621" y="12"/>
                    </a:lnTo>
                    <a:lnTo>
                      <a:pt x="417" y="0"/>
                    </a:lnTo>
                    <a:lnTo>
                      <a:pt x="108" y="144"/>
                    </a:lnTo>
                    <a:lnTo>
                      <a:pt x="57" y="260"/>
                    </a:lnTo>
                    <a:lnTo>
                      <a:pt x="0" y="456"/>
                    </a:lnTo>
                    <a:lnTo>
                      <a:pt x="21" y="759"/>
                    </a:lnTo>
                    <a:lnTo>
                      <a:pt x="69" y="888"/>
                    </a:lnTo>
                    <a:lnTo>
                      <a:pt x="183" y="1035"/>
                    </a:lnTo>
                    <a:lnTo>
                      <a:pt x="351" y="1068"/>
                    </a:lnTo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50000">
                    <a:srgbClr val="ffffff"/>
                  </a:gs>
                  <a:gs pos="100000">
                    <a:srgbClr val="9c9c9c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90800">
                <a:off x="2766600" y="4204080"/>
                <a:ext cx="151920" cy="273600"/>
              </a:xfrm>
              <a:custGeom>
                <a:avLst/>
                <a:gdLst/>
                <a:ahLst/>
                <a:rect l="l" t="t" r="r" b="b"/>
                <a:pathLst>
                  <a:path w="705" h="1044">
                    <a:moveTo>
                      <a:pt x="93" y="180"/>
                    </a:moveTo>
                    <a:lnTo>
                      <a:pt x="51" y="276"/>
                    </a:lnTo>
                    <a:lnTo>
                      <a:pt x="12" y="396"/>
                    </a:lnTo>
                    <a:lnTo>
                      <a:pt x="0" y="525"/>
                    </a:lnTo>
                    <a:lnTo>
                      <a:pt x="12" y="669"/>
                    </a:lnTo>
                    <a:lnTo>
                      <a:pt x="63" y="870"/>
                    </a:lnTo>
                    <a:lnTo>
                      <a:pt x="138" y="969"/>
                    </a:lnTo>
                    <a:lnTo>
                      <a:pt x="207" y="1044"/>
                    </a:lnTo>
                    <a:lnTo>
                      <a:pt x="606" y="822"/>
                    </a:lnTo>
                    <a:lnTo>
                      <a:pt x="645" y="732"/>
                    </a:lnTo>
                    <a:lnTo>
                      <a:pt x="687" y="621"/>
                    </a:lnTo>
                    <a:lnTo>
                      <a:pt x="705" y="426"/>
                    </a:lnTo>
                    <a:lnTo>
                      <a:pt x="687" y="240"/>
                    </a:lnTo>
                    <a:lnTo>
                      <a:pt x="642" y="126"/>
                    </a:lnTo>
                    <a:lnTo>
                      <a:pt x="564" y="27"/>
                    </a:lnTo>
                    <a:lnTo>
                      <a:pt x="468" y="0"/>
                    </a:lnTo>
                    <a:lnTo>
                      <a:pt x="93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90800">
                <a:off x="2894760" y="4300200"/>
                <a:ext cx="16560" cy="3744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0800">
                <a:off x="2784960" y="4356000"/>
                <a:ext cx="16560" cy="3744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90800">
                <a:off x="2804040" y="4216680"/>
                <a:ext cx="82800" cy="236520"/>
              </a:xfrm>
              <a:custGeom>
                <a:avLst/>
                <a:gdLst/>
                <a:ahLst/>
                <a:rect l="l" t="t" r="r" b="b"/>
                <a:pathLst>
                  <a:path w="387" h="904">
                    <a:moveTo>
                      <a:pt x="249" y="0"/>
                    </a:moveTo>
                    <a:lnTo>
                      <a:pt x="9" y="121"/>
                    </a:lnTo>
                    <a:lnTo>
                      <a:pt x="0" y="190"/>
                    </a:lnTo>
                    <a:lnTo>
                      <a:pt x="24" y="232"/>
                    </a:lnTo>
                    <a:lnTo>
                      <a:pt x="255" y="112"/>
                    </a:lnTo>
                    <a:lnTo>
                      <a:pt x="303" y="145"/>
                    </a:lnTo>
                    <a:lnTo>
                      <a:pt x="276" y="211"/>
                    </a:lnTo>
                    <a:lnTo>
                      <a:pt x="72" y="310"/>
                    </a:lnTo>
                    <a:lnTo>
                      <a:pt x="45" y="370"/>
                    </a:lnTo>
                    <a:lnTo>
                      <a:pt x="90" y="406"/>
                    </a:lnTo>
                    <a:lnTo>
                      <a:pt x="264" y="322"/>
                    </a:lnTo>
                    <a:lnTo>
                      <a:pt x="306" y="352"/>
                    </a:lnTo>
                    <a:lnTo>
                      <a:pt x="285" y="424"/>
                    </a:lnTo>
                    <a:lnTo>
                      <a:pt x="108" y="508"/>
                    </a:lnTo>
                    <a:lnTo>
                      <a:pt x="93" y="574"/>
                    </a:lnTo>
                    <a:lnTo>
                      <a:pt x="114" y="615"/>
                    </a:lnTo>
                    <a:lnTo>
                      <a:pt x="309" y="517"/>
                    </a:lnTo>
                    <a:lnTo>
                      <a:pt x="348" y="544"/>
                    </a:lnTo>
                    <a:lnTo>
                      <a:pt x="327" y="607"/>
                    </a:lnTo>
                    <a:lnTo>
                      <a:pt x="111" y="715"/>
                    </a:lnTo>
                    <a:lnTo>
                      <a:pt x="78" y="781"/>
                    </a:lnTo>
                    <a:lnTo>
                      <a:pt x="129" y="820"/>
                    </a:lnTo>
                    <a:lnTo>
                      <a:pt x="339" y="703"/>
                    </a:lnTo>
                    <a:lnTo>
                      <a:pt x="387" y="730"/>
                    </a:lnTo>
                    <a:lnTo>
                      <a:pt x="366" y="787"/>
                    </a:lnTo>
                    <a:lnTo>
                      <a:pt x="168" y="90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1585800" y="3820680"/>
              <a:ext cx="1303200" cy="337680"/>
            </a:xfrm>
            <a:prstGeom prst="rightArrow">
              <a:avLst>
                <a:gd name="adj1" fmla="val 51111"/>
                <a:gd name="adj2" fmla="val 114920"/>
              </a:avLst>
            </a:prstGeom>
            <a:solidFill>
              <a:srgbClr val="ffff00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4073760" y="3997440"/>
              <a:ext cx="426600" cy="701640"/>
            </a:xfrm>
            <a:custGeom>
              <a:avLst/>
              <a:gdLst>
                <a:gd name="textAreaLeft" fmla="*/ 54360 w 426600"/>
                <a:gd name="textAreaRight" fmla="*/ 372240 w 426600"/>
                <a:gd name="textAreaTop" fmla="*/ 54360 h 701640"/>
                <a:gd name="textAreaBottom" fmla="*/ 647280 h 701640"/>
              </a:gdLst>
              <a:ahLst/>
              <a:rect l="textAreaLeft" t="textAreaTop" r="textAreaRight" b="textAreaBottom"/>
              <a:pathLst>
                <a:path w="21600" h="35514">
                  <a:moveTo>
                    <a:pt x="9411" y="0"/>
                  </a:moveTo>
                  <a:arcTo wR="9411" hR="9411" stAng="16200000" swAng="-5400000"/>
                  <a:lnTo>
                    <a:pt x="0" y="26103"/>
                  </a:lnTo>
                  <a:arcTo wR="9411" hR="9411" stAng="10800000" swAng="-5400000"/>
                  <a:lnTo>
                    <a:pt x="12189" y="35514"/>
                  </a:lnTo>
                  <a:arcTo wR="9411" hR="9411" stAng="5400000" swAng="-5400000"/>
                  <a:lnTo>
                    <a:pt x="21600" y="9411"/>
                  </a:lnTo>
                  <a:arcTo wR="9411" hR="9411" stAng="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6200000">
              <a:off x="4439520" y="4279320"/>
              <a:ext cx="138240" cy="135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6200000">
              <a:off x="4442040" y="4237200"/>
              <a:ext cx="53640" cy="318600"/>
            </a:xfrm>
            <a:custGeom>
              <a:avLst/>
              <a:gdLst/>
              <a:ahLst/>
              <a:rect l="l" t="t" r="r" b="b"/>
              <a:pathLst>
                <a:path w="39" h="222">
                  <a:moveTo>
                    <a:pt x="39" y="222"/>
                  </a:moveTo>
                  <a:lnTo>
                    <a:pt x="39" y="8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rot="16200000">
              <a:off x="4436640" y="4138560"/>
              <a:ext cx="55800" cy="321480"/>
            </a:xfrm>
            <a:custGeom>
              <a:avLst/>
              <a:gdLst/>
              <a:ahLst/>
              <a:rect l="l" t="t" r="r" b="b"/>
              <a:pathLst>
                <a:path w="39" h="222">
                  <a:moveTo>
                    <a:pt x="39" y="222"/>
                  </a:moveTo>
                  <a:lnTo>
                    <a:pt x="39" y="8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rot="5400000">
              <a:off x="4573800" y="4143960"/>
              <a:ext cx="337680" cy="394200"/>
            </a:xfrm>
            <a:prstGeom prst="can">
              <a:avLst>
                <a:gd name="adj" fmla="val 30745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4581360" y="4170240"/>
              <a:ext cx="253800" cy="339840"/>
              <a:chOff x="4581360" y="4170240"/>
              <a:chExt cx="253800" cy="339840"/>
            </a:xfrm>
          </p:grpSpPr>
          <p:sp>
            <p:nvSpPr>
              <p:cNvPr id="880" name=""/>
              <p:cNvSpPr/>
              <p:nvPr/>
            </p:nvSpPr>
            <p:spPr>
              <a:xfrm flipH="1" rot="5400000">
                <a:off x="4637520" y="4312440"/>
                <a:ext cx="339840" cy="55440"/>
              </a:xfrm>
              <a:custGeom>
                <a:avLst/>
                <a:gdLst/>
                <a:ahLst/>
                <a:rect l="l" t="t" r="r" b="b"/>
                <a:pathLst>
                  <a:path w="294" h="48">
                    <a:moveTo>
                      <a:pt x="0" y="0"/>
                    </a:moveTo>
                    <a:cubicBezTo>
                      <a:pt x="9" y="6"/>
                      <a:pt x="26" y="25"/>
                      <a:pt x="51" y="33"/>
                    </a:cubicBezTo>
                    <a:cubicBezTo>
                      <a:pt x="76" y="41"/>
                      <a:pt x="118" y="48"/>
                      <a:pt x="150" y="48"/>
                    </a:cubicBezTo>
                    <a:cubicBezTo>
                      <a:pt x="182" y="48"/>
                      <a:pt x="222" y="37"/>
                      <a:pt x="246" y="30"/>
                    </a:cubicBezTo>
                    <a:cubicBezTo>
                      <a:pt x="270" y="23"/>
                      <a:pt x="284" y="9"/>
                      <a:pt x="294" y="3"/>
                    </a:cubicBezTo>
                  </a:path>
                </a:pathLst>
              </a:custGeom>
              <a:gradFill rotWithShape="0">
                <a:gsLst>
                  <a:gs pos="0">
                    <a:srgbClr val="bbbbbb"/>
                  </a:gs>
                  <a:gs pos="50000">
                    <a:srgbClr val="ffffff"/>
                  </a:gs>
                  <a:gs pos="100000">
                    <a:srgbClr val="bbbbbb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rot="5400000">
                <a:off x="4587120" y="4312440"/>
                <a:ext cx="339840" cy="55440"/>
              </a:xfrm>
              <a:custGeom>
                <a:avLst/>
                <a:gdLst/>
                <a:ahLst/>
                <a:rect l="l" t="t" r="r" b="b"/>
                <a:pathLst>
                  <a:path w="294" h="48">
                    <a:moveTo>
                      <a:pt x="0" y="0"/>
                    </a:moveTo>
                    <a:cubicBezTo>
                      <a:pt x="9" y="6"/>
                      <a:pt x="26" y="25"/>
                      <a:pt x="51" y="33"/>
                    </a:cubicBezTo>
                    <a:cubicBezTo>
                      <a:pt x="76" y="41"/>
                      <a:pt x="118" y="48"/>
                      <a:pt x="150" y="48"/>
                    </a:cubicBezTo>
                    <a:cubicBezTo>
                      <a:pt x="182" y="48"/>
                      <a:pt x="222" y="37"/>
                      <a:pt x="246" y="30"/>
                    </a:cubicBezTo>
                    <a:cubicBezTo>
                      <a:pt x="270" y="23"/>
                      <a:pt x="284" y="9"/>
                      <a:pt x="294" y="3"/>
                    </a:cubicBezTo>
                  </a:path>
                </a:pathLst>
              </a:custGeom>
              <a:gradFill rotWithShape="0">
                <a:gsLst>
                  <a:gs pos="0">
                    <a:srgbClr val="bbbbbb"/>
                  </a:gs>
                  <a:gs pos="50000">
                    <a:srgbClr val="ffffff"/>
                  </a:gs>
                  <a:gs pos="100000">
                    <a:srgbClr val="bbbbbb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rot="5400000">
                <a:off x="4532760" y="4312440"/>
                <a:ext cx="339840" cy="55440"/>
              </a:xfrm>
              <a:custGeom>
                <a:avLst/>
                <a:gdLst/>
                <a:ahLst/>
                <a:rect l="l" t="t" r="r" b="b"/>
                <a:pathLst>
                  <a:path w="294" h="48">
                    <a:moveTo>
                      <a:pt x="0" y="0"/>
                    </a:moveTo>
                    <a:cubicBezTo>
                      <a:pt x="9" y="6"/>
                      <a:pt x="26" y="25"/>
                      <a:pt x="51" y="33"/>
                    </a:cubicBezTo>
                    <a:cubicBezTo>
                      <a:pt x="76" y="41"/>
                      <a:pt x="118" y="48"/>
                      <a:pt x="150" y="48"/>
                    </a:cubicBezTo>
                    <a:cubicBezTo>
                      <a:pt x="182" y="48"/>
                      <a:pt x="222" y="37"/>
                      <a:pt x="246" y="30"/>
                    </a:cubicBezTo>
                    <a:cubicBezTo>
                      <a:pt x="270" y="23"/>
                      <a:pt x="284" y="9"/>
                      <a:pt x="294" y="3"/>
                    </a:cubicBezTo>
                  </a:path>
                </a:pathLst>
              </a:custGeom>
              <a:gradFill rotWithShape="0">
                <a:gsLst>
                  <a:gs pos="0">
                    <a:srgbClr val="bbbbbb"/>
                  </a:gs>
                  <a:gs pos="50000">
                    <a:srgbClr val="ffffff"/>
                  </a:gs>
                  <a:gs pos="100000">
                    <a:srgbClr val="bbbbbb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rot="5400000">
                <a:off x="4487040" y="4312440"/>
                <a:ext cx="339840" cy="55440"/>
              </a:xfrm>
              <a:custGeom>
                <a:avLst/>
                <a:gdLst/>
                <a:ahLst/>
                <a:rect l="l" t="t" r="r" b="b"/>
                <a:pathLst>
                  <a:path w="294" h="48">
                    <a:moveTo>
                      <a:pt x="0" y="0"/>
                    </a:moveTo>
                    <a:cubicBezTo>
                      <a:pt x="9" y="6"/>
                      <a:pt x="26" y="25"/>
                      <a:pt x="51" y="33"/>
                    </a:cubicBezTo>
                    <a:cubicBezTo>
                      <a:pt x="76" y="41"/>
                      <a:pt x="118" y="48"/>
                      <a:pt x="150" y="48"/>
                    </a:cubicBezTo>
                    <a:cubicBezTo>
                      <a:pt x="182" y="48"/>
                      <a:pt x="222" y="37"/>
                      <a:pt x="246" y="30"/>
                    </a:cubicBezTo>
                    <a:cubicBezTo>
                      <a:pt x="270" y="23"/>
                      <a:pt x="284" y="9"/>
                      <a:pt x="294" y="3"/>
                    </a:cubicBezTo>
                  </a:path>
                </a:pathLst>
              </a:custGeom>
              <a:gradFill rotWithShape="0">
                <a:gsLst>
                  <a:gs pos="0">
                    <a:srgbClr val="bbbbbb"/>
                  </a:gs>
                  <a:gs pos="50000">
                    <a:srgbClr val="ffffff"/>
                  </a:gs>
                  <a:gs pos="100000">
                    <a:srgbClr val="bbbbbb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rot="5400000">
                <a:off x="4439160" y="4311720"/>
                <a:ext cx="339840" cy="56520"/>
              </a:xfrm>
              <a:custGeom>
                <a:avLst/>
                <a:gdLst/>
                <a:ahLst/>
                <a:rect l="l" t="t" r="r" b="b"/>
                <a:pathLst>
                  <a:path w="294" h="48">
                    <a:moveTo>
                      <a:pt x="0" y="0"/>
                    </a:moveTo>
                    <a:cubicBezTo>
                      <a:pt x="9" y="6"/>
                      <a:pt x="26" y="25"/>
                      <a:pt x="51" y="33"/>
                    </a:cubicBezTo>
                    <a:cubicBezTo>
                      <a:pt x="76" y="41"/>
                      <a:pt x="118" y="48"/>
                      <a:pt x="150" y="48"/>
                    </a:cubicBezTo>
                    <a:cubicBezTo>
                      <a:pt x="182" y="48"/>
                      <a:pt x="222" y="37"/>
                      <a:pt x="246" y="30"/>
                    </a:cubicBezTo>
                    <a:cubicBezTo>
                      <a:pt x="270" y="23"/>
                      <a:pt x="284" y="9"/>
                      <a:pt x="294" y="3"/>
                    </a:cubicBezTo>
                  </a:path>
                </a:pathLst>
              </a:custGeom>
              <a:gradFill rotWithShape="0">
                <a:gsLst>
                  <a:gs pos="0">
                    <a:srgbClr val="bbbbbb"/>
                  </a:gs>
                  <a:gs pos="50000">
                    <a:srgbClr val="ffffff"/>
                  </a:gs>
                  <a:gs pos="100000">
                    <a:srgbClr val="bbbbbb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884480" y="4257000"/>
              <a:ext cx="77400" cy="154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931120" y="3276720"/>
              <a:ext cx="943920" cy="2871360"/>
            </a:xfrm>
            <a:prstGeom prst="can">
              <a:avLst>
                <a:gd name="adj" fmla="val 8694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ffffff"/>
                </a:gs>
                <a:gs pos="100000">
                  <a:srgbClr val="dbdbdb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80800" y="3313800"/>
              <a:ext cx="83772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bdbdb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96840" y="4172400"/>
              <a:ext cx="151920" cy="3474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790440" y="4177440"/>
              <a:ext cx="58320" cy="33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43" y="2312"/>
                    <a:pt x="12886" y="5080"/>
                    <a:pt x="12886" y="10800"/>
                  </a:cubicBezTo>
                  <a:cubicBezTo>
                    <a:pt x="12886" y="16520"/>
                    <a:pt x="17243" y="1928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181480" y="45720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ve the LDR  towards  its lateral hole, positioning its surface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s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igure sh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33320" y="762120"/>
            <a:ext cx="676440" cy="671400"/>
          </a:xfrm>
          <a:prstGeom prst="ellipse">
            <a:avLst/>
          </a:prstGeom>
          <a:solidFill>
            <a:srgbClr val="ccff66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048120" y="3895560"/>
            <a:ext cx="2061360" cy="1487160"/>
            <a:chOff x="3048120" y="3895560"/>
            <a:chExt cx="2061360" cy="1487160"/>
          </a:xfrm>
        </p:grpSpPr>
        <p:sp>
          <p:nvSpPr>
            <p:cNvPr id="893" name=""/>
            <p:cNvSpPr/>
            <p:nvPr/>
          </p:nvSpPr>
          <p:spPr>
            <a:xfrm>
              <a:off x="3048120" y="4467240"/>
              <a:ext cx="331560" cy="560520"/>
            </a:xfrm>
            <a:custGeom>
              <a:avLst/>
              <a:gdLst/>
              <a:ahLst/>
              <a:rect l="l" t="t" r="r" b="b"/>
              <a:pathLst>
                <a:path w="236" h="400">
                  <a:moveTo>
                    <a:pt x="157" y="4"/>
                  </a:moveTo>
                  <a:cubicBezTo>
                    <a:pt x="147" y="5"/>
                    <a:pt x="113" y="0"/>
                    <a:pt x="92" y="7"/>
                  </a:cubicBezTo>
                  <a:cubicBezTo>
                    <a:pt x="72" y="15"/>
                    <a:pt x="49" y="23"/>
                    <a:pt x="35" y="48"/>
                  </a:cubicBezTo>
                  <a:cubicBezTo>
                    <a:pt x="20" y="74"/>
                    <a:pt x="0" y="129"/>
                    <a:pt x="7" y="161"/>
                  </a:cubicBezTo>
                  <a:cubicBezTo>
                    <a:pt x="15" y="194"/>
                    <a:pt x="49" y="222"/>
                    <a:pt x="79" y="243"/>
                  </a:cubicBezTo>
                  <a:cubicBezTo>
                    <a:pt x="109" y="265"/>
                    <a:pt x="162" y="265"/>
                    <a:pt x="188" y="291"/>
                  </a:cubicBezTo>
                  <a:cubicBezTo>
                    <a:pt x="214" y="317"/>
                    <a:pt x="226" y="377"/>
                    <a:pt x="236" y="400"/>
                  </a:cubicBez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4354560" y="4255920"/>
              <a:ext cx="754920" cy="1126800"/>
              <a:chOff x="4354560" y="4255920"/>
              <a:chExt cx="754920" cy="1126800"/>
            </a:xfrm>
          </p:grpSpPr>
          <p:grpSp>
            <p:nvGrpSpPr>
              <p:cNvPr id="895" name=""/>
              <p:cNvGrpSpPr/>
              <p:nvPr/>
            </p:nvGrpSpPr>
            <p:grpSpPr>
              <a:xfrm>
                <a:off x="4354560" y="4391640"/>
                <a:ext cx="631080" cy="192960"/>
                <a:chOff x="4354560" y="4391640"/>
                <a:chExt cx="631080" cy="192960"/>
              </a:xfrm>
            </p:grpSpPr>
            <p:grpSp>
              <p:nvGrpSpPr>
                <p:cNvPr id="896" name=""/>
                <p:cNvGrpSpPr/>
                <p:nvPr/>
              </p:nvGrpSpPr>
              <p:grpSpPr>
                <a:xfrm>
                  <a:off x="4354560" y="4394520"/>
                  <a:ext cx="311760" cy="190080"/>
                  <a:chOff x="4354560" y="4394520"/>
                  <a:chExt cx="311760" cy="19008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 rot="16200000">
                    <a:off x="4415400" y="4333680"/>
                    <a:ext cx="190080" cy="311760"/>
                  </a:xfrm>
                  <a:custGeom>
                    <a:avLst/>
                    <a:gdLst>
                      <a:gd name="textAreaLeft" fmla="*/ 18000 w 190080"/>
                      <a:gd name="textAreaRight" fmla="*/ 172080 w 190080"/>
                      <a:gd name="textAreaTop" fmla="*/ 18000 h 311760"/>
                      <a:gd name="textAreaBottom" fmla="*/ 293760 h 311760"/>
                    </a:gdLst>
                    <a:ahLst/>
                    <a:rect l="textAreaLeft" t="textAreaTop" r="textAreaRight" b="textAreaBottom"/>
                    <a:pathLst>
                      <a:path w="21600" h="35401">
                        <a:moveTo>
                          <a:pt x="7056" y="0"/>
                        </a:moveTo>
                        <a:arcTo wR="7056" hR="7056" stAng="16200000" swAng="-5400000"/>
                        <a:lnTo>
                          <a:pt x="0" y="28345"/>
                        </a:lnTo>
                        <a:arcTo wR="7056" hR="7056" stAng="10800000" swAng="-5400000"/>
                        <a:lnTo>
                          <a:pt x="14544" y="35401"/>
                        </a:lnTo>
                        <a:arcTo wR="7056" hR="7056" stAng="5400000" swAng="-5400000"/>
                        <a:lnTo>
                          <a:pt x="21600" y="7056"/>
                        </a:lnTo>
                        <a:arcTo wR="7056" hR="7056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rot="16200000">
                    <a:off x="4579560" y="4458960"/>
                    <a:ext cx="60840" cy="6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rot="16200000">
                    <a:off x="4580280" y="4439880"/>
                    <a:ext cx="2448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 rot="16200000">
                    <a:off x="4578480" y="4397040"/>
                    <a:ext cx="2448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" name=""/>
                <p:cNvSpPr/>
                <p:nvPr/>
              </p:nvSpPr>
              <p:spPr>
                <a:xfrm flipH="1" rot="5400000">
                  <a:off x="4611960" y="4421160"/>
                  <a:ext cx="165240" cy="130320"/>
                </a:xfrm>
                <a:prstGeom prst="can">
                  <a:avLst>
                    <a:gd name="adj" fmla="val 46078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2" name=""/>
                <p:cNvGrpSpPr/>
                <p:nvPr/>
              </p:nvGrpSpPr>
              <p:grpSpPr>
                <a:xfrm>
                  <a:off x="4675680" y="4391640"/>
                  <a:ext cx="309960" cy="187560"/>
                  <a:chOff x="4675680" y="4391640"/>
                  <a:chExt cx="309960" cy="18756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flipH="1" rot="5400000">
                    <a:off x="4736520" y="4330440"/>
                    <a:ext cx="187560" cy="309960"/>
                  </a:xfrm>
                  <a:prstGeom prst="can">
                    <a:avLst>
                      <a:gd name="adj" fmla="val 25555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4696560" y="4391640"/>
                    <a:ext cx="228600" cy="187560"/>
                    <a:chOff x="4696560" y="4391640"/>
                    <a:chExt cx="228600" cy="187560"/>
                  </a:xfrm>
                </p:grpSpPr>
                <p:sp>
                  <p:nvSpPr>
                    <p:cNvPr id="905" name=""/>
                    <p:cNvSpPr/>
                    <p:nvPr/>
                  </p:nvSpPr>
                  <p:spPr>
                    <a:xfrm flipH="1" rot="5400000">
                      <a:off x="481572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flipH="1" rot="5400000">
                      <a:off x="479016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flipH="1" rot="5400000">
                      <a:off x="475848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flipH="1" rot="5400000">
                      <a:off x="472644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flipH="1" rot="5400000">
                      <a:off x="470088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 flipH="1" rot="5400000">
                      <a:off x="4669200" y="4470120"/>
                      <a:ext cx="187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flipH="1" rot="5400000">
                      <a:off x="464328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 flipH="1" rot="5400000">
                      <a:off x="4617720" y="4470120"/>
                      <a:ext cx="18756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13" name=""/>
              <p:cNvSpPr/>
              <p:nvPr/>
            </p:nvSpPr>
            <p:spPr>
              <a:xfrm>
                <a:off x="4728240" y="4255920"/>
                <a:ext cx="381240" cy="1126800"/>
              </a:xfrm>
              <a:prstGeom prst="cube">
                <a:avLst>
                  <a:gd name="adj" fmla="val 5220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 rot="5400000">
              <a:off x="3312000" y="4379040"/>
              <a:ext cx="145800" cy="242640"/>
            </a:xfrm>
            <a:prstGeom prst="can">
              <a:avLst>
                <a:gd name="adj" fmla="val 27347"/>
              </a:avLst>
            </a:prstGeom>
            <a:gradFill rotWithShape="0">
              <a:gsLst>
                <a:gs pos="0">
                  <a:srgbClr val="848484"/>
                </a:gs>
                <a:gs pos="50000">
                  <a:srgbClr val="ffffff"/>
                </a:gs>
                <a:gs pos="100000">
                  <a:srgbClr val="84848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89160" y="4522680"/>
              <a:ext cx="333000" cy="392400"/>
            </a:xfrm>
            <a:custGeom>
              <a:avLst/>
              <a:gdLst/>
              <a:ahLst/>
              <a:rect l="l" t="t" r="r" b="b"/>
              <a:pathLst>
                <a:path w="237" h="280">
                  <a:moveTo>
                    <a:pt x="125" y="7"/>
                  </a:moveTo>
                  <a:cubicBezTo>
                    <a:pt x="112" y="9"/>
                    <a:pt x="64" y="0"/>
                    <a:pt x="44" y="20"/>
                  </a:cubicBezTo>
                  <a:cubicBezTo>
                    <a:pt x="24" y="41"/>
                    <a:pt x="0" y="101"/>
                    <a:pt x="7" y="130"/>
                  </a:cubicBezTo>
                  <a:cubicBezTo>
                    <a:pt x="14" y="159"/>
                    <a:pt x="49" y="177"/>
                    <a:pt x="84" y="194"/>
                  </a:cubicBezTo>
                  <a:cubicBezTo>
                    <a:pt x="119" y="211"/>
                    <a:pt x="197" y="217"/>
                    <a:pt x="217" y="231"/>
                  </a:cubicBezTo>
                  <a:cubicBezTo>
                    <a:pt x="237" y="245"/>
                    <a:pt x="206" y="270"/>
                    <a:pt x="203" y="280"/>
                  </a:cubicBez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44760" y="4240080"/>
              <a:ext cx="382320" cy="1128960"/>
            </a:xfrm>
            <a:prstGeom prst="cube">
              <a:avLst>
                <a:gd name="adj" fmla="val 5220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3627000" y="4429080"/>
              <a:ext cx="337320" cy="144000"/>
              <a:chOff x="3627000" y="4429080"/>
              <a:chExt cx="337320" cy="144000"/>
            </a:xfrm>
          </p:grpSpPr>
          <p:sp>
            <p:nvSpPr>
              <p:cNvPr id="918" name=""/>
              <p:cNvSpPr/>
              <p:nvPr/>
            </p:nvSpPr>
            <p:spPr>
              <a:xfrm rot="5400000">
                <a:off x="3723480" y="4332240"/>
                <a:ext cx="144000" cy="337320"/>
              </a:xfrm>
              <a:prstGeom prst="can">
                <a:avLst>
                  <a:gd name="adj" fmla="val 23314"/>
                </a:avLst>
              </a:prstGeom>
              <a:gradFill rotWithShape="0">
                <a:gsLst>
                  <a:gs pos="0">
                    <a:srgbClr val="848484"/>
                  </a:gs>
                  <a:gs pos="50000">
                    <a:srgbClr val="ffffff"/>
                  </a:gs>
                  <a:gs pos="100000">
                    <a:srgbClr val="84848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901680" y="4447440"/>
                <a:ext cx="47520" cy="11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19320" y="3895560"/>
              <a:ext cx="367920" cy="1471680"/>
            </a:xfrm>
            <a:prstGeom prst="can">
              <a:avLst>
                <a:gd name="adj" fmla="val 11615"/>
              </a:avLst>
            </a:prstGeom>
            <a:gradFill rotWithShape="0">
              <a:gsLst>
                <a:gs pos="0">
                  <a:srgbClr val="d3d3d3"/>
                </a:gs>
                <a:gs pos="50000">
                  <a:srgbClr val="ffffff"/>
                </a:gs>
                <a:gs pos="100000">
                  <a:srgbClr val="d3d3d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56040" y="3921120"/>
              <a:ext cx="301320" cy="127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4195800" y="4390920"/>
              <a:ext cx="75600" cy="174600"/>
              <a:chOff x="4195800" y="4390920"/>
              <a:chExt cx="75600" cy="174600"/>
            </a:xfrm>
          </p:grpSpPr>
          <p:sp>
            <p:nvSpPr>
              <p:cNvPr id="923" name=""/>
              <p:cNvSpPr/>
              <p:nvPr/>
            </p:nvSpPr>
            <p:spPr>
              <a:xfrm>
                <a:off x="4195800" y="4390920"/>
                <a:ext cx="75600" cy="17460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4241160" y="4393440"/>
                <a:ext cx="29160" cy="16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243" y="2312"/>
                      <a:pt x="12886" y="5080"/>
                      <a:pt x="12886" y="10800"/>
                    </a:cubicBezTo>
                    <a:cubicBezTo>
                      <a:pt x="12886" y="16520"/>
                      <a:pt x="17243" y="1928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5" name=""/>
          <p:cNvSpPr/>
          <p:nvPr/>
        </p:nvSpPr>
        <p:spPr>
          <a:xfrm>
            <a:off x="5943600" y="914400"/>
            <a:ext cx="266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ert the solution filter tube in its holder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3960720" y="1523880"/>
            <a:ext cx="312840" cy="2376720"/>
            <a:chOff x="3960720" y="1523880"/>
            <a:chExt cx="312840" cy="2376720"/>
          </a:xfrm>
        </p:grpSpPr>
        <p:sp>
          <p:nvSpPr>
            <p:cNvPr id="927" name=""/>
            <p:cNvSpPr/>
            <p:nvPr/>
          </p:nvSpPr>
          <p:spPr>
            <a:xfrm>
              <a:off x="3960720" y="3587760"/>
              <a:ext cx="312840" cy="312840"/>
            </a:xfrm>
            <a:prstGeom prst="downArrow">
              <a:avLst>
                <a:gd name="adj1" fmla="val 41667"/>
                <a:gd name="adj2" fmla="val 37500"/>
              </a:avLst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3971880" y="1523880"/>
              <a:ext cx="277920" cy="1984320"/>
              <a:chOff x="3971880" y="1523880"/>
              <a:chExt cx="277920" cy="1984320"/>
            </a:xfrm>
          </p:grpSpPr>
          <p:sp>
            <p:nvSpPr>
              <p:cNvPr id="929" name=""/>
              <p:cNvSpPr/>
              <p:nvPr/>
            </p:nvSpPr>
            <p:spPr>
              <a:xfrm>
                <a:off x="3981600" y="2133720"/>
                <a:ext cx="250920" cy="1290600"/>
              </a:xfrm>
              <a:prstGeom prst="can">
                <a:avLst>
                  <a:gd name="adj" fmla="val 7500"/>
                </a:avLst>
              </a:prstGeom>
              <a:solidFill>
                <a:srgbClr val="99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97440" y="3308400"/>
                <a:ext cx="228600" cy="1778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3971880" y="1622520"/>
                <a:ext cx="277920" cy="1885680"/>
                <a:chOff x="3971880" y="1622520"/>
                <a:chExt cx="277920" cy="1885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971880" y="1687320"/>
                  <a:ext cx="276840" cy="182088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971880" y="1622520"/>
                  <a:ext cx="277920" cy="139320"/>
                </a:xfrm>
                <a:prstGeom prst="ellipse">
                  <a:avLst/>
                </a:prstGeom>
                <a:noFill/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3971880" y="1523880"/>
                <a:ext cx="277920" cy="389160"/>
                <a:chOff x="3971880" y="1523880"/>
                <a:chExt cx="277920" cy="38916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4000680" y="1679400"/>
                  <a:ext cx="218880" cy="233640"/>
                </a:xfrm>
                <a:prstGeom prst="can">
                  <a:avLst>
                    <a:gd name="adj" fmla="val 34722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971880" y="1523880"/>
                  <a:ext cx="277920" cy="23364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008600" y="1538280"/>
                  <a:ext cx="2048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5e2f"/>
                    </a:gs>
                    <a:gs pos="100000">
                      <a:srgbClr val="00cc66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8" name=""/>
          <p:cNvSpPr/>
          <p:nvPr/>
        </p:nvSpPr>
        <p:spPr>
          <a:xfrm>
            <a:off x="733320" y="762120"/>
            <a:ext cx="676440" cy="671400"/>
          </a:xfrm>
          <a:prstGeom prst="ellipse">
            <a:avLst/>
          </a:prstGeom>
          <a:solidFill>
            <a:srgbClr val="ccff66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"/>
          <p:cNvGrpSpPr/>
          <p:nvPr/>
        </p:nvGrpSpPr>
        <p:grpSpPr>
          <a:xfrm>
            <a:off x="2362320" y="1066680"/>
            <a:ext cx="2431800" cy="3662640"/>
            <a:chOff x="2362320" y="1066680"/>
            <a:chExt cx="2431800" cy="3662640"/>
          </a:xfrm>
        </p:grpSpPr>
        <p:sp>
          <p:nvSpPr>
            <p:cNvPr id="940" name=""/>
            <p:cNvSpPr/>
            <p:nvPr/>
          </p:nvSpPr>
          <p:spPr>
            <a:xfrm>
              <a:off x="2362320" y="1066680"/>
              <a:ext cx="2431800" cy="3032280"/>
            </a:xfrm>
            <a:prstGeom prst="can">
              <a:avLst>
                <a:gd name="adj" fmla="val 16662"/>
              </a:avLst>
            </a:prstGeom>
            <a:gradFill rotWithShape="0">
              <a:gsLst>
                <a:gs pos="0">
                  <a:srgbClr val="d6d6d6"/>
                </a:gs>
                <a:gs pos="100000">
                  <a:srgbClr val="eaeaea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666160" y="4114800"/>
              <a:ext cx="203400" cy="614520"/>
            </a:xfrm>
            <a:prstGeom prst="downArrow">
              <a:avLst>
                <a:gd name="adj1" fmla="val 50000"/>
                <a:gd name="adj2" fmla="val 75531"/>
              </a:avLst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386080" y="4149720"/>
            <a:ext cx="2379600" cy="2060640"/>
            <a:chOff x="2386080" y="4149720"/>
            <a:chExt cx="2379600" cy="2060640"/>
          </a:xfrm>
        </p:grpSpPr>
        <p:sp>
          <p:nvSpPr>
            <p:cNvPr id="943" name=""/>
            <p:cNvSpPr/>
            <p:nvPr/>
          </p:nvSpPr>
          <p:spPr>
            <a:xfrm>
              <a:off x="2386080" y="5338800"/>
              <a:ext cx="2379600" cy="8715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b3b3b3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3755880" y="4794120"/>
              <a:ext cx="571320" cy="852480"/>
              <a:chOff x="3755880" y="4794120"/>
              <a:chExt cx="571320" cy="85248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755880" y="4897080"/>
                <a:ext cx="478080" cy="146160"/>
                <a:chOff x="3755880" y="4897080"/>
                <a:chExt cx="478080" cy="14616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3755880" y="4899240"/>
                  <a:ext cx="235800" cy="144000"/>
                  <a:chOff x="3755880" y="4899240"/>
                  <a:chExt cx="235800" cy="1440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rot="16200000">
                    <a:off x="3801600" y="4853160"/>
                    <a:ext cx="144000" cy="235800"/>
                  </a:xfrm>
                  <a:custGeom>
                    <a:avLst/>
                    <a:gdLst>
                      <a:gd name="textAreaLeft" fmla="*/ 13680 w 144000"/>
                      <a:gd name="textAreaRight" fmla="*/ 130320 w 144000"/>
                      <a:gd name="textAreaTop" fmla="*/ 13680 h 235800"/>
                      <a:gd name="textAreaBottom" fmla="*/ 222120 h 235800"/>
                    </a:gdLst>
                    <a:ahLst/>
                    <a:rect l="textAreaLeft" t="textAreaTop" r="textAreaRight" b="textAreaBottom"/>
                    <a:pathLst>
                      <a:path w="21600" h="35336">
                        <a:moveTo>
                          <a:pt x="7056" y="0"/>
                        </a:moveTo>
                        <a:arcTo wR="7056" hR="7056" stAng="16200000" swAng="-5400000"/>
                        <a:lnTo>
                          <a:pt x="0" y="28280"/>
                        </a:lnTo>
                        <a:arcTo wR="7056" hR="7056" stAng="10800000" swAng="-5400000"/>
                        <a:lnTo>
                          <a:pt x="14544" y="35336"/>
                        </a:lnTo>
                        <a:arcTo wR="7056" hR="7056" stAng="5400000" swAng="-5400000"/>
                        <a:lnTo>
                          <a:pt x="21600" y="7056"/>
                        </a:lnTo>
                        <a:arcTo wR="7056" hR="7056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rot="16200000">
                    <a:off x="3925800" y="4947840"/>
                    <a:ext cx="46080" cy="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rot="16200000">
                    <a:off x="3926520" y="4933800"/>
                    <a:ext cx="1872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H="1" rot="16200000">
                    <a:off x="3925080" y="4901400"/>
                    <a:ext cx="18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22">
                        <a:moveTo>
                          <a:pt x="39" y="222"/>
                        </a:moveTo>
                        <a:lnTo>
                          <a:pt x="39" y="8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1" name=""/>
                <p:cNvSpPr/>
                <p:nvPr/>
              </p:nvSpPr>
              <p:spPr>
                <a:xfrm flipH="1" rot="5400000">
                  <a:off x="3950640" y="4919760"/>
                  <a:ext cx="125280" cy="98640"/>
                </a:xfrm>
                <a:prstGeom prst="can">
                  <a:avLst>
                    <a:gd name="adj" fmla="val 46078"/>
                  </a:avLst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3999240" y="4897080"/>
                  <a:ext cx="234720" cy="141840"/>
                  <a:chOff x="3999240" y="4897080"/>
                  <a:chExt cx="234720" cy="14184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 flipH="1" rot="5400000">
                    <a:off x="4045680" y="4850640"/>
                    <a:ext cx="141840" cy="234720"/>
                  </a:xfrm>
                  <a:prstGeom prst="can">
                    <a:avLst>
                      <a:gd name="adj" fmla="val 25555"/>
                    </a:avLst>
                  </a:prstGeom>
                  <a:gradFill rotWithShape="0">
                    <a:gsLst>
                      <a:gs pos="0">
                        <a:srgbClr val="757575"/>
                      </a:gs>
                      <a:gs pos="50000">
                        <a:srgbClr val="ffffff"/>
                      </a:gs>
                      <a:gs pos="100000">
                        <a:srgbClr val="757575"/>
                      </a:gs>
                    </a:gsLst>
                    <a:lin ang="10800000"/>
                  </a:gra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4014720" y="4897080"/>
                    <a:ext cx="173160" cy="141840"/>
                    <a:chOff x="4014720" y="4897080"/>
                    <a:chExt cx="173160" cy="1418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flipH="1" rot="5400000">
                      <a:off x="410544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flipH="1" rot="5400000">
                      <a:off x="408636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H="1" rot="5400000">
                      <a:off x="406188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5400000">
                      <a:off x="403776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H="1" rot="5400000">
                      <a:off x="401832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H="1" rot="5400000">
                      <a:off x="399420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5400000">
                      <a:off x="397476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5400000">
                      <a:off x="3955320" y="4956480"/>
                      <a:ext cx="141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48">
                          <a:moveTo>
                            <a:pt x="0" y="0"/>
                          </a:moveTo>
                          <a:cubicBezTo>
                            <a:pt x="9" y="6"/>
                            <a:pt x="26" y="25"/>
                            <a:pt x="51" y="33"/>
                          </a:cubicBezTo>
                          <a:cubicBezTo>
                            <a:pt x="76" y="41"/>
                            <a:pt x="118" y="48"/>
                            <a:pt x="150" y="48"/>
                          </a:cubicBezTo>
                          <a:cubicBezTo>
                            <a:pt x="182" y="48"/>
                            <a:pt x="222" y="37"/>
                            <a:pt x="246" y="30"/>
                          </a:cubicBezTo>
                          <a:cubicBezTo>
                            <a:pt x="270" y="23"/>
                            <a:pt x="284" y="9"/>
                            <a:pt x="294" y="3"/>
                          </a:cubicBez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63" name=""/>
              <p:cNvSpPr/>
              <p:nvPr/>
            </p:nvSpPr>
            <p:spPr>
              <a:xfrm>
                <a:off x="4038840" y="4794120"/>
                <a:ext cx="288360" cy="852480"/>
              </a:xfrm>
              <a:prstGeom prst="cube">
                <a:avLst>
                  <a:gd name="adj" fmla="val 5220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 rot="5400000">
              <a:off x="2968200" y="4886280"/>
              <a:ext cx="110880" cy="183960"/>
            </a:xfrm>
            <a:prstGeom prst="can">
              <a:avLst>
                <a:gd name="adj" fmla="val 27347"/>
              </a:avLst>
            </a:prstGeom>
            <a:gradFill rotWithShape="0">
              <a:gsLst>
                <a:gs pos="0">
                  <a:srgbClr val="848484"/>
                </a:gs>
                <a:gs pos="50000">
                  <a:srgbClr val="ffffff"/>
                </a:gs>
                <a:gs pos="100000">
                  <a:srgbClr val="84848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800440" y="4995720"/>
              <a:ext cx="252360" cy="297000"/>
            </a:xfrm>
            <a:custGeom>
              <a:avLst/>
              <a:gdLst/>
              <a:ahLst/>
              <a:rect l="l" t="t" r="r" b="b"/>
              <a:pathLst>
                <a:path w="237" h="280">
                  <a:moveTo>
                    <a:pt x="125" y="7"/>
                  </a:moveTo>
                  <a:cubicBezTo>
                    <a:pt x="112" y="9"/>
                    <a:pt x="64" y="0"/>
                    <a:pt x="44" y="20"/>
                  </a:cubicBezTo>
                  <a:cubicBezTo>
                    <a:pt x="24" y="41"/>
                    <a:pt x="0" y="101"/>
                    <a:pt x="7" y="130"/>
                  </a:cubicBezTo>
                  <a:cubicBezTo>
                    <a:pt x="14" y="159"/>
                    <a:pt x="49" y="177"/>
                    <a:pt x="84" y="194"/>
                  </a:cubicBezTo>
                  <a:cubicBezTo>
                    <a:pt x="119" y="211"/>
                    <a:pt x="197" y="217"/>
                    <a:pt x="217" y="231"/>
                  </a:cubicBezTo>
                  <a:cubicBezTo>
                    <a:pt x="237" y="245"/>
                    <a:pt x="206" y="270"/>
                    <a:pt x="203" y="28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68760" y="4954680"/>
              <a:ext cx="250560" cy="422280"/>
            </a:xfrm>
            <a:custGeom>
              <a:avLst/>
              <a:gdLst/>
              <a:ahLst/>
              <a:rect l="l" t="t" r="r" b="b"/>
              <a:pathLst>
                <a:path w="236" h="400">
                  <a:moveTo>
                    <a:pt x="157" y="4"/>
                  </a:moveTo>
                  <a:cubicBezTo>
                    <a:pt x="147" y="5"/>
                    <a:pt x="113" y="0"/>
                    <a:pt x="92" y="7"/>
                  </a:cubicBezTo>
                  <a:cubicBezTo>
                    <a:pt x="72" y="15"/>
                    <a:pt x="49" y="23"/>
                    <a:pt x="35" y="48"/>
                  </a:cubicBezTo>
                  <a:cubicBezTo>
                    <a:pt x="20" y="74"/>
                    <a:pt x="0" y="129"/>
                    <a:pt x="7" y="161"/>
                  </a:cubicBezTo>
                  <a:cubicBezTo>
                    <a:pt x="15" y="194"/>
                    <a:pt x="49" y="222"/>
                    <a:pt x="79" y="243"/>
                  </a:cubicBezTo>
                  <a:cubicBezTo>
                    <a:pt x="109" y="265"/>
                    <a:pt x="162" y="265"/>
                    <a:pt x="188" y="291"/>
                  </a:cubicBezTo>
                  <a:cubicBezTo>
                    <a:pt x="214" y="317"/>
                    <a:pt x="226" y="377"/>
                    <a:pt x="236" y="40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994120" y="4782960"/>
              <a:ext cx="288720" cy="852840"/>
            </a:xfrm>
            <a:prstGeom prst="cube">
              <a:avLst>
                <a:gd name="adj" fmla="val 5220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206880" y="4924440"/>
              <a:ext cx="257040" cy="109440"/>
              <a:chOff x="3206880" y="4924440"/>
              <a:chExt cx="257040" cy="109440"/>
            </a:xfrm>
          </p:grpSpPr>
          <p:sp>
            <p:nvSpPr>
              <p:cNvPr id="969" name=""/>
              <p:cNvSpPr/>
              <p:nvPr/>
            </p:nvSpPr>
            <p:spPr>
              <a:xfrm rot="5400000">
                <a:off x="3280680" y="4850640"/>
                <a:ext cx="109440" cy="257040"/>
              </a:xfrm>
              <a:prstGeom prst="can">
                <a:avLst>
                  <a:gd name="adj" fmla="val 23314"/>
                </a:avLst>
              </a:prstGeom>
              <a:gradFill rotWithShape="0">
                <a:gsLst>
                  <a:gs pos="0">
                    <a:srgbClr val="848484"/>
                  </a:gs>
                  <a:gs pos="50000">
                    <a:srgbClr val="ffffff"/>
                  </a:gs>
                  <a:gs pos="100000">
                    <a:srgbClr val="84848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415680" y="4938120"/>
                <a:ext cx="36000" cy="83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432240" y="4535640"/>
              <a:ext cx="277920" cy="1112760"/>
            </a:xfrm>
            <a:prstGeom prst="can">
              <a:avLst>
                <a:gd name="adj" fmla="val 11615"/>
              </a:avLst>
            </a:prstGeom>
            <a:gradFill rotWithShape="0">
              <a:gsLst>
                <a:gs pos="0">
                  <a:srgbClr val="c3c3c3"/>
                </a:gs>
                <a:gs pos="50000">
                  <a:srgbClr val="ffffff"/>
                </a:gs>
                <a:gs pos="100000">
                  <a:srgbClr val="c3c3c3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459240" y="4554360"/>
              <a:ext cx="226800" cy="968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3639960" y="4910040"/>
              <a:ext cx="59040" cy="131760"/>
              <a:chOff x="3639960" y="4910040"/>
              <a:chExt cx="59040" cy="131760"/>
            </a:xfrm>
          </p:grpSpPr>
          <p:sp>
            <p:nvSpPr>
              <p:cNvPr id="974" name=""/>
              <p:cNvSpPr/>
              <p:nvPr/>
            </p:nvSpPr>
            <p:spPr>
              <a:xfrm>
                <a:off x="3639960" y="4910040"/>
                <a:ext cx="59040" cy="13176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3675240" y="4911840"/>
                <a:ext cx="22680" cy="127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243" y="2312"/>
                      <a:pt x="12886" y="5080"/>
                      <a:pt x="12886" y="10800"/>
                    </a:cubicBezTo>
                    <a:cubicBezTo>
                      <a:pt x="12886" y="16520"/>
                      <a:pt x="17243" y="1928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467160" y="4149720"/>
              <a:ext cx="204840" cy="495360"/>
              <a:chOff x="3467160" y="4149720"/>
              <a:chExt cx="204840" cy="495360"/>
            </a:xfrm>
          </p:grpSpPr>
          <p:sp>
            <p:nvSpPr>
              <p:cNvPr id="977" name=""/>
              <p:cNvSpPr/>
              <p:nvPr/>
            </p:nvSpPr>
            <p:spPr>
              <a:xfrm>
                <a:off x="3490200" y="4262040"/>
                <a:ext cx="162000" cy="174600"/>
              </a:xfrm>
              <a:prstGeom prst="can">
                <a:avLst>
                  <a:gd name="adj" fmla="val 34722"/>
                </a:avLst>
              </a:prstGeom>
              <a:gradFill rotWithShape="0">
                <a:gsLst>
                  <a:gs pos="0">
                    <a:srgbClr val="8c8c8c"/>
                  </a:gs>
                  <a:gs pos="50000">
                    <a:srgbClr val="ffffff"/>
                  </a:gs>
                  <a:gs pos="100000">
                    <a:srgbClr val="8c8c8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470760" y="4235040"/>
                <a:ext cx="200880" cy="410040"/>
              </a:xfrm>
              <a:prstGeom prst="can">
                <a:avLst>
                  <a:gd name="adj" fmla="val 22398"/>
                </a:avLst>
              </a:prstGeom>
              <a:solidFill>
                <a:srgbClr val="ffff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3467160" y="4149720"/>
                <a:ext cx="204840" cy="174240"/>
                <a:chOff x="3467160" y="4149720"/>
                <a:chExt cx="204840" cy="17424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3467160" y="4149720"/>
                  <a:ext cx="204840" cy="17424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8c8c8c"/>
                    </a:gs>
                    <a:gs pos="50000">
                      <a:srgbClr val="ffffff"/>
                    </a:gs>
                    <a:gs pos="100000">
                      <a:srgbClr val="8c8c8c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494520" y="4159800"/>
                  <a:ext cx="150480" cy="4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2" name=""/>
          <p:cNvSpPr/>
          <p:nvPr/>
        </p:nvSpPr>
        <p:spPr>
          <a:xfrm>
            <a:off x="5029200" y="457200"/>
            <a:ext cx="35812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ut the cover onto the platform to protect from the outside 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order to ensure the correct initial conditions, LDR should keep in total darkness for at least 10 minutes before the measu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3320" y="762120"/>
            <a:ext cx="676440" cy="671400"/>
          </a:xfrm>
          <a:prstGeom prst="ellipse">
            <a:avLst/>
          </a:prstGeom>
          <a:solidFill>
            <a:srgbClr val="ccff66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1403280" y="47628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66"/>
                </a:solidFill>
                <a:latin typeface="Times New Roman"/>
              </a:rPr>
              <a:t>Procedu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3924360" y="2349360"/>
                <a:ext cx="41148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γ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606600" y="213516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ome previous measurements are needed before using Equation 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778800" y="3201840"/>
            <a:ext cx="609480" cy="2135880"/>
            <a:chOff x="6778800" y="3201840"/>
            <a:chExt cx="609480" cy="2135880"/>
          </a:xfrm>
        </p:grpSpPr>
        <p:sp>
          <p:nvSpPr>
            <p:cNvPr id="988" name=""/>
            <p:cNvSpPr/>
            <p:nvPr/>
          </p:nvSpPr>
          <p:spPr>
            <a:xfrm>
              <a:off x="6931080" y="4878000"/>
              <a:ext cx="45720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6778800" y="3201840"/>
              <a:ext cx="380880" cy="1676160"/>
            </a:xfrm>
            <a:prstGeom prst="line">
              <a:avLst/>
            </a:prstGeom>
            <a:ln w="381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435720" y="3278160"/>
            <a:ext cx="495360" cy="2719800"/>
            <a:chOff x="6435720" y="3278160"/>
            <a:chExt cx="495360" cy="2719800"/>
          </a:xfrm>
        </p:grpSpPr>
        <p:sp>
          <p:nvSpPr>
            <p:cNvPr id="991" name=""/>
            <p:cNvSpPr/>
            <p:nvPr/>
          </p:nvSpPr>
          <p:spPr>
            <a:xfrm>
              <a:off x="6473880" y="5487840"/>
              <a:ext cx="457200" cy="5101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35720" y="3278160"/>
              <a:ext cx="241200" cy="2196720"/>
            </a:xfrm>
            <a:custGeom>
              <a:avLst/>
              <a:gdLst/>
              <a:ahLst/>
              <a:rect l="l" t="t" r="r" b="b"/>
              <a:pathLst>
                <a:path w="152" h="1384">
                  <a:moveTo>
                    <a:pt x="152" y="138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264200" y="3087720"/>
            <a:ext cx="457200" cy="2250360"/>
            <a:chOff x="4264200" y="3087720"/>
            <a:chExt cx="457200" cy="2250360"/>
          </a:xfrm>
        </p:grpSpPr>
        <p:sp>
          <p:nvSpPr>
            <p:cNvPr id="994" name=""/>
            <p:cNvSpPr/>
            <p:nvPr/>
          </p:nvSpPr>
          <p:spPr>
            <a:xfrm>
              <a:off x="4264200" y="4878360"/>
              <a:ext cx="45720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67240" y="3087720"/>
              <a:ext cx="12600" cy="1778040"/>
            </a:xfrm>
            <a:custGeom>
              <a:avLst/>
              <a:gdLst/>
              <a:ahLst/>
              <a:rect l="l" t="t" r="r" b="b"/>
              <a:pathLst>
                <a:path w="8" h="1120">
                  <a:moveTo>
                    <a:pt x="8" y="11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559480" y="3062160"/>
            <a:ext cx="621720" cy="2961360"/>
            <a:chOff x="5559480" y="3062160"/>
            <a:chExt cx="621720" cy="2961360"/>
          </a:xfrm>
        </p:grpSpPr>
        <p:sp>
          <p:nvSpPr>
            <p:cNvPr id="997" name=""/>
            <p:cNvSpPr/>
            <p:nvPr/>
          </p:nvSpPr>
          <p:spPr>
            <a:xfrm>
              <a:off x="5559480" y="5563800"/>
              <a:ext cx="45684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75120" y="3062160"/>
              <a:ext cx="406080" cy="2489040"/>
            </a:xfrm>
            <a:custGeom>
              <a:avLst/>
              <a:gdLst/>
              <a:ahLst/>
              <a:rect l="l" t="t" r="r" b="b"/>
              <a:pathLst>
                <a:path w="256" h="1568">
                  <a:moveTo>
                    <a:pt x="0" y="1568"/>
                  </a:moveTo>
                  <a:lnTo>
                    <a:pt x="256" y="0"/>
                  </a:lnTo>
                </a:path>
              </a:pathLst>
            </a:custGeom>
            <a:noFill/>
            <a:ln w="381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203640" y="5516640"/>
            <a:ext cx="1973160" cy="110088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ES" sz="1600" spc="-1" strike="noStrike" baseline="-25000">
                <a:solidFill>
                  <a:srgbClr val="000000"/>
                </a:solidFill>
                <a:latin typeface="Times New Roman"/>
              </a:rPr>
              <a:t>B0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apolated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= 0 from  measurements of 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187280" y="2852640"/>
                <a:ext cx="1914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1" name=""/>
          <p:cNvGrpSpPr/>
          <p:nvPr/>
        </p:nvGrpSpPr>
        <p:grpSpPr>
          <a:xfrm>
            <a:off x="5562720" y="4114800"/>
            <a:ext cx="2819160" cy="2133720"/>
            <a:chOff x="5562720" y="4114800"/>
            <a:chExt cx="2819160" cy="2133720"/>
          </a:xfrm>
        </p:grpSpPr>
        <p:sp>
          <p:nvSpPr>
            <p:cNvPr id="1002" name=""/>
            <p:cNvSpPr/>
            <p:nvPr/>
          </p:nvSpPr>
          <p:spPr>
            <a:xfrm>
              <a:off x="5562720" y="4114800"/>
              <a:ext cx="2819160" cy="21337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867280" y="4572000"/>
              <a:ext cx="2195640" cy="1471320"/>
              <a:chOff x="5867280" y="4572000"/>
              <a:chExt cx="2195640" cy="1471320"/>
            </a:xfrm>
          </p:grpSpPr>
          <p:sp>
            <p:nvSpPr>
              <p:cNvPr id="1004" name=""/>
              <p:cNvSpPr/>
              <p:nvPr/>
            </p:nvSpPr>
            <p:spPr>
              <a:xfrm>
                <a:off x="6199200" y="4797360"/>
                <a:ext cx="1339560" cy="612720"/>
              </a:xfrm>
              <a:custGeom>
                <a:avLst/>
                <a:gdLst/>
                <a:ahLst/>
                <a:rect l="l" t="t" r="r" b="b"/>
                <a:pathLst>
                  <a:path w="850" h="388">
                    <a:moveTo>
                      <a:pt x="2" y="388"/>
                    </a:moveTo>
                    <a:lnTo>
                      <a:pt x="0" y="202"/>
                    </a:lnTo>
                    <a:lnTo>
                      <a:pt x="620" y="202"/>
                    </a:lnTo>
                    <a:lnTo>
                      <a:pt x="850" y="0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199200" y="5249880"/>
                <a:ext cx="419040" cy="644400"/>
              </a:xfrm>
              <a:custGeom>
                <a:avLst/>
                <a:gdLst/>
                <a:ahLst/>
                <a:rect l="l" t="t" r="r" b="b"/>
                <a:pathLst>
                  <a:path w="266" h="409">
                    <a:moveTo>
                      <a:pt x="0" y="0"/>
                    </a:moveTo>
                    <a:lnTo>
                      <a:pt x="265" y="0"/>
                    </a:lnTo>
                    <a:lnTo>
                      <a:pt x="266" y="405"/>
                    </a:lnTo>
                    <a:lnTo>
                      <a:pt x="6" y="409"/>
                    </a:lnTo>
                    <a:lnTo>
                      <a:pt x="6" y="285"/>
                    </a:lnTo>
                    <a:lnTo>
                      <a:pt x="74" y="285"/>
                    </a:lnTo>
                    <a:lnTo>
                      <a:pt x="74" y="157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453000" y="5348160"/>
                <a:ext cx="308160" cy="3081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7296120" y="4721040"/>
                <a:ext cx="108000" cy="62064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351560" y="4572000"/>
                <a:ext cx="596880" cy="360360"/>
              </a:xfrm>
              <a:custGeom>
                <a:avLst/>
                <a:gdLst/>
                <a:ahLst/>
                <a:rect l="l" t="t" r="r" b="b"/>
                <a:pathLst>
                  <a:path w="1305" h="405">
                    <a:moveTo>
                      <a:pt x="1305" y="165"/>
                    </a:moveTo>
                    <a:lnTo>
                      <a:pt x="1305" y="1"/>
                    </a:lnTo>
                    <a:lnTo>
                      <a:pt x="0" y="0"/>
                    </a:lnTo>
                    <a:lnTo>
                      <a:pt x="0" y="405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7815240" y="4940280"/>
                <a:ext cx="247680" cy="557280"/>
                <a:chOff x="7815240" y="4940280"/>
                <a:chExt cx="247680" cy="55728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7815240" y="5422680"/>
                  <a:ext cx="247680" cy="74880"/>
                  <a:chOff x="7815240" y="5422680"/>
                  <a:chExt cx="247680" cy="748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>
                    <a:off x="7815240" y="5497560"/>
                    <a:ext cx="24768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7883280" y="542268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7815240" y="5262120"/>
                  <a:ext cx="247680" cy="74880"/>
                  <a:chOff x="7815240" y="5262120"/>
                  <a:chExt cx="247680" cy="748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flipH="1">
                    <a:off x="7815240" y="5337000"/>
                    <a:ext cx="24768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7883280" y="526212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7815240" y="5101200"/>
                  <a:ext cx="247680" cy="74880"/>
                  <a:chOff x="7815240" y="5101200"/>
                  <a:chExt cx="247680" cy="748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 flipH="1">
                    <a:off x="7815240" y="5176080"/>
                    <a:ext cx="24768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>
                    <a:off x="7883280" y="510120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815240" y="4940280"/>
                  <a:ext cx="247680" cy="74880"/>
                  <a:chOff x="7815240" y="4940280"/>
                  <a:chExt cx="247680" cy="7488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flipH="1">
                    <a:off x="7815240" y="5015160"/>
                    <a:ext cx="24768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>
                    <a:off x="7883280" y="4940280"/>
                    <a:ext cx="123840" cy="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2" name=""/>
              <p:cNvSpPr/>
              <p:nvPr/>
            </p:nvSpPr>
            <p:spPr>
              <a:xfrm flipH="1">
                <a:off x="7349400" y="5340240"/>
                <a:ext cx="360" cy="541440"/>
              </a:xfrm>
              <a:custGeom>
                <a:avLst/>
                <a:gdLst/>
                <a:ahLst/>
                <a:rect l="l" t="t" r="r" b="b"/>
                <a:pathLst>
                  <a:path w="1" h="608">
                    <a:moveTo>
                      <a:pt x="0" y="0"/>
                    </a:moveTo>
                    <a:lnTo>
                      <a:pt x="0" y="608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618240" y="5505480"/>
                <a:ext cx="1332000" cy="384120"/>
              </a:xfrm>
              <a:custGeom>
                <a:avLst/>
                <a:gdLst/>
                <a:ahLst/>
                <a:rect l="l" t="t" r="r" b="b"/>
                <a:pathLst>
                  <a:path w="839" h="242">
                    <a:moveTo>
                      <a:pt x="839" y="0"/>
                    </a:moveTo>
                    <a:lnTo>
                      <a:pt x="839" y="240"/>
                    </a:lnTo>
                    <a:lnTo>
                      <a:pt x="0" y="242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855480" y="5735520"/>
                <a:ext cx="306360" cy="30780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5867280" y="5397120"/>
                <a:ext cx="452160" cy="174600"/>
                <a:chOff x="5867280" y="5397120"/>
                <a:chExt cx="452160" cy="174600"/>
              </a:xfrm>
            </p:grpSpPr>
            <p:sp>
              <p:nvSpPr>
                <p:cNvPr id="1026" name=""/>
                <p:cNvSpPr/>
                <p:nvPr/>
              </p:nvSpPr>
              <p:spPr>
                <a:xfrm rot="16200000">
                  <a:off x="5911200" y="5353200"/>
                  <a:ext cx="174600" cy="262440"/>
                </a:xfrm>
                <a:custGeom>
                  <a:avLst/>
                  <a:gdLst>
                    <a:gd name="textAreaLeft" fmla="*/ 21240 w 174600"/>
                    <a:gd name="textAreaRight" fmla="*/ 153360 w 174600"/>
                    <a:gd name="textAreaTop" fmla="*/ 21240 h 262440"/>
                    <a:gd name="textAreaBottom" fmla="*/ 241200 h 262440"/>
                  </a:gdLst>
                  <a:ahLst/>
                  <a:rect l="textAreaLeft" t="textAreaTop" r="textAreaRight" b="textAreaBottom"/>
                  <a:pathLst>
                    <a:path w="21600" h="32444">
                      <a:moveTo>
                        <a:pt x="8960" y="0"/>
                      </a:moveTo>
                      <a:arcTo wR="8960" hR="8960" stAng="16200000" swAng="-5400000"/>
                      <a:lnTo>
                        <a:pt x="0" y="23484"/>
                      </a:lnTo>
                      <a:arcTo wR="8960" hR="8960" stAng="10800000" swAng="-5400000"/>
                      <a:lnTo>
                        <a:pt x="12640" y="32444"/>
                      </a:lnTo>
                      <a:arcTo wR="8960" hR="8960" stAng="5400000" swAng="-5400000"/>
                      <a:lnTo>
                        <a:pt x="21600" y="8960"/>
                      </a:lnTo>
                      <a:arcTo wR="8960" hR="8960" stAng="0" swAng="-5400000"/>
                      <a:close/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7" name=""/>
                <p:cNvGrpSpPr/>
                <p:nvPr/>
              </p:nvGrpSpPr>
              <p:grpSpPr>
                <a:xfrm>
                  <a:off x="5978520" y="5450760"/>
                  <a:ext cx="117360" cy="69840"/>
                  <a:chOff x="5978520" y="5450760"/>
                  <a:chExt cx="117360" cy="698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5978520" y="5450760"/>
                    <a:ext cx="11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180">
                        <a:moveTo>
                          <a:pt x="900" y="180"/>
                        </a:moveTo>
                        <a:lnTo>
                          <a:pt x="540" y="18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V="1">
                    <a:off x="5978520" y="5496840"/>
                    <a:ext cx="11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180">
                        <a:moveTo>
                          <a:pt x="900" y="180"/>
                        </a:moveTo>
                        <a:lnTo>
                          <a:pt x="540" y="18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6028200" y="5463000"/>
                  <a:ext cx="43560" cy="4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c9c9c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89240" y="5452560"/>
                  <a:ext cx="92520" cy="67320"/>
                </a:xfrm>
                <a:custGeom>
                  <a:avLst/>
                  <a:gdLst/>
                  <a:ahLst/>
                  <a:rect l="l" t="t" r="r" b="b"/>
                  <a:pathLst>
                    <a:path w="300" h="219">
                      <a:moveTo>
                        <a:pt x="300" y="0"/>
                      </a:moveTo>
                      <a:lnTo>
                        <a:pt x="0" y="84"/>
                      </a:lnTo>
                      <a:lnTo>
                        <a:pt x="300" y="219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6100200" y="5403240"/>
                  <a:ext cx="219240" cy="167760"/>
                  <a:chOff x="6100200" y="5403240"/>
                  <a:chExt cx="219240" cy="16776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H="1">
                    <a:off x="6294240" y="5465520"/>
                    <a:ext cx="24840" cy="374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H="1">
                    <a:off x="6099840" y="5412240"/>
                    <a:ext cx="168120" cy="150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acaca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6102000" y="5404680"/>
                    <a:ext cx="167400" cy="11520"/>
                    <a:chOff x="6102000" y="5404680"/>
                    <a:chExt cx="167400" cy="1152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flipH="1" rot="5400000">
                      <a:off x="6253560" y="5400360"/>
                      <a:ext cx="11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 flipV="1" rot="16200000">
                      <a:off x="6231960" y="5400360"/>
                      <a:ext cx="11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flipH="1" rot="5400000">
                      <a:off x="6211800" y="5400360"/>
                      <a:ext cx="11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flipH="1" flipV="1" rot="16200000">
                      <a:off x="6190200" y="5400360"/>
                      <a:ext cx="11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40" name=""/>
                    <p:cNvGrpSpPr/>
                    <p:nvPr/>
                  </p:nvGrpSpPr>
                  <p:grpSpPr>
                    <a:xfrm>
                      <a:off x="6143760" y="5404680"/>
                      <a:ext cx="41760" cy="11520"/>
                      <a:chOff x="6143760" y="5404680"/>
                      <a:chExt cx="41760" cy="11520"/>
                    </a:xfrm>
                  </p:grpSpPr>
                  <p:sp>
                    <p:nvSpPr>
                      <p:cNvPr id="1041" name=""/>
                      <p:cNvSpPr/>
                      <p:nvPr/>
                    </p:nvSpPr>
                    <p:spPr>
                      <a:xfrm flipH="1" rot="5400000">
                        <a:off x="6169680" y="5400360"/>
                        <a:ext cx="11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10266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1026653"/>
                          </a:path>
                        </a:pathLst>
                      </a:custGeom>
                      <a:noFill/>
                      <a:ln w="648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2" name=""/>
                      <p:cNvSpPr/>
                      <p:nvPr/>
                    </p:nvSpPr>
                    <p:spPr>
                      <a:xfrm flipH="1" flipV="1" rot="16200000">
                        <a:off x="6148080" y="5400360"/>
                        <a:ext cx="11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10266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1026653"/>
                          </a:path>
                        </a:pathLst>
                      </a:custGeom>
                      <a:noFill/>
                      <a:ln w="648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3" name=""/>
                    <p:cNvGrpSpPr/>
                    <p:nvPr/>
                  </p:nvGrpSpPr>
                  <p:grpSpPr>
                    <a:xfrm>
                      <a:off x="6102000" y="5404680"/>
                      <a:ext cx="41760" cy="11520"/>
                      <a:chOff x="6102000" y="5404680"/>
                      <a:chExt cx="41760" cy="11520"/>
                    </a:xfrm>
                  </p:grpSpPr>
                  <p:sp>
                    <p:nvSpPr>
                      <p:cNvPr id="1044" name=""/>
                      <p:cNvSpPr/>
                      <p:nvPr/>
                    </p:nvSpPr>
                    <p:spPr>
                      <a:xfrm flipH="1" rot="5400000">
                        <a:off x="6127920" y="5400360"/>
                        <a:ext cx="11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10266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1026653"/>
                          </a:path>
                        </a:pathLst>
                      </a:custGeom>
                      <a:noFill/>
                      <a:ln w="648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" name=""/>
                      <p:cNvSpPr/>
                      <p:nvPr/>
                    </p:nvSpPr>
                    <p:spPr>
                      <a:xfrm flipH="1" flipV="1" rot="16200000">
                        <a:off x="6106320" y="5400360"/>
                        <a:ext cx="11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1102665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11026653"/>
                          </a:path>
                        </a:pathLst>
                      </a:custGeom>
                      <a:noFill/>
                      <a:ln w="648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46" name=""/>
                  <p:cNvSpPr/>
                  <p:nvPr/>
                </p:nvSpPr>
                <p:spPr>
                  <a:xfrm flipH="1" rot="5400000">
                    <a:off x="6252480" y="555408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flipV="1" rot="16200000">
                    <a:off x="6231240" y="555444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 rot="5400000">
                    <a:off x="6210720" y="555408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H="1" flipV="1" rot="16200000">
                    <a:off x="6189120" y="555444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6144480" y="5557680"/>
                    <a:ext cx="41040" cy="13320"/>
                    <a:chOff x="6144480" y="5557680"/>
                    <a:chExt cx="41040" cy="1332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 flipH="1" rot="5400000">
                      <a:off x="6168960" y="555408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H="1" flipV="1" rot="16200000">
                      <a:off x="6148080" y="5554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 flipH="1" rot="5400000">
                    <a:off x="6127200" y="555408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H="1" flipV="1" rot="16200000">
                    <a:off x="6105600" y="555444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6100920" y="5411520"/>
                    <a:ext cx="3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33">
                        <a:moveTo>
                          <a:pt x="1" y="0"/>
                        </a:moveTo>
                        <a:lnTo>
                          <a:pt x="0" y="2233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>
                    <a:off x="6268680" y="5408640"/>
                    <a:ext cx="3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210">
                        <a:moveTo>
                          <a:pt x="0" y="0"/>
                        </a:moveTo>
                        <a:lnTo>
                          <a:pt x="0" y="2210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6114240" y="5416560"/>
                    <a:ext cx="187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30">
                        <a:moveTo>
                          <a:pt x="270" y="0"/>
                        </a:moveTo>
                        <a:lnTo>
                          <a:pt x="0" y="2030"/>
                        </a:lnTo>
                      </a:path>
                    </a:pathLst>
                  </a:cu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6154560" y="5416200"/>
                    <a:ext cx="187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30">
                        <a:moveTo>
                          <a:pt x="270" y="0"/>
                        </a:moveTo>
                        <a:lnTo>
                          <a:pt x="0" y="2030"/>
                        </a:lnTo>
                      </a:path>
                    </a:pathLst>
                  </a:cu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>
                    <a:off x="6196320" y="5416920"/>
                    <a:ext cx="1872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30">
                        <a:moveTo>
                          <a:pt x="270" y="0"/>
                        </a:moveTo>
                        <a:lnTo>
                          <a:pt x="0" y="2030"/>
                        </a:lnTo>
                      </a:path>
                    </a:pathLst>
                  </a:cu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6238800" y="5416200"/>
                    <a:ext cx="187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30">
                        <a:moveTo>
                          <a:pt x="270" y="0"/>
                        </a:moveTo>
                        <a:lnTo>
                          <a:pt x="0" y="2030"/>
                        </a:lnTo>
                      </a:path>
                    </a:pathLst>
                  </a:cu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6173280" y="5403960"/>
                    <a:ext cx="226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400">
                        <a:moveTo>
                          <a:pt x="330" y="0"/>
                        </a:moveTo>
                        <a:lnTo>
                          <a:pt x="0" y="2400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>
                    <a:off x="6131520" y="5403240"/>
                    <a:ext cx="226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400">
                        <a:moveTo>
                          <a:pt x="330" y="0"/>
                        </a:moveTo>
                        <a:lnTo>
                          <a:pt x="0" y="2400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 flipH="1">
                    <a:off x="6216480" y="5404320"/>
                    <a:ext cx="226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400">
                        <a:moveTo>
                          <a:pt x="330" y="0"/>
                        </a:moveTo>
                        <a:lnTo>
                          <a:pt x="0" y="2400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flipH="1">
                    <a:off x="6257160" y="5403960"/>
                    <a:ext cx="1188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03">
                        <a:moveTo>
                          <a:pt x="171" y="0"/>
                        </a:moveTo>
                        <a:lnTo>
                          <a:pt x="0" y="1203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>
                    <a:off x="6102000" y="5486040"/>
                    <a:ext cx="1152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227">
                        <a:moveTo>
                          <a:pt x="169" y="0"/>
                        </a:moveTo>
                        <a:lnTo>
                          <a:pt x="0" y="1227"/>
                        </a:lnTo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H="1" rot="16200000">
                    <a:off x="6213600" y="5464080"/>
                    <a:ext cx="149760" cy="37440"/>
                  </a:xfrm>
                  <a:custGeom>
                    <a:avLst/>
                    <a:gdLst>
                      <a:gd name="textAreaLeft" fmla="*/ 42840 w 149760"/>
                      <a:gd name="textAreaRight" fmla="*/ 106920 w 149760"/>
                      <a:gd name="textAreaTop" fmla="*/ 10800 h 37440"/>
                      <a:gd name="textAreaBottom" fmla="*/ 26640 h 37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611" y="21600"/>
                        </a:lnTo>
                        <a:lnTo>
                          <a:pt x="7989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848484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67" name=""/>
          <p:cNvSpPr/>
          <p:nvPr/>
        </p:nvSpPr>
        <p:spPr>
          <a:xfrm>
            <a:off x="539640" y="1125360"/>
            <a:ext cx="2952720" cy="9543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lation between the resistance of the filament 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 and its temperature 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24000" y="3789360"/>
            <a:ext cx="4248000" cy="6800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can be derived from  the filament resistance (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at room temperature (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1332000" y="4997520"/>
                <a:ext cx="1198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0" name=""/>
          <p:cNvSpPr/>
          <p:nvPr/>
        </p:nvSpPr>
        <p:spPr>
          <a:xfrm>
            <a:off x="3203640" y="4797360"/>
            <a:ext cx="2016000" cy="58068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sing the multimeter as a thermom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56000" y="5084640"/>
            <a:ext cx="645840" cy="1800"/>
          </a:xfrm>
          <a:custGeom>
            <a:avLst/>
            <a:gdLst/>
            <a:ahLst/>
            <a:rect l="l" t="t" r="r" b="b"/>
            <a:pathLst>
              <a:path w="407" h="1">
                <a:moveTo>
                  <a:pt x="0" y="1"/>
                </a:moveTo>
                <a:lnTo>
                  <a:pt x="407" y="0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56000" y="5445000"/>
            <a:ext cx="761760" cy="304920"/>
          </a:xfrm>
          <a:custGeom>
            <a:avLst/>
            <a:gdLst/>
            <a:ahLst/>
            <a:rect l="l" t="t" r="r" b="b"/>
            <a:pathLst>
              <a:path w="610" h="344">
                <a:moveTo>
                  <a:pt x="610" y="344"/>
                </a:moveTo>
                <a:lnTo>
                  <a:pt x="140" y="344"/>
                </a:lnTo>
                <a:lnTo>
                  <a:pt x="138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219640" y="5876280"/>
            <a:ext cx="830160" cy="73080"/>
          </a:xfrm>
          <a:custGeom>
            <a:avLst/>
            <a:gdLst/>
            <a:ahLst/>
            <a:rect l="l" t="t" r="r" b="b"/>
            <a:pathLst>
              <a:path w="795" h="1">
                <a:moveTo>
                  <a:pt x="795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50920" y="4581360"/>
            <a:ext cx="1800" cy="486000"/>
          </a:xfrm>
          <a:custGeom>
            <a:avLst/>
            <a:gdLst/>
            <a:ahLst/>
            <a:rect l="l" t="t" r="r" b="b"/>
            <a:pathLst>
              <a:path w="1" h="306">
                <a:moveTo>
                  <a:pt x="0" y="0"/>
                </a:moveTo>
                <a:lnTo>
                  <a:pt x="1" y="306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5410080" y="1676520"/>
            <a:ext cx="2971800" cy="1981080"/>
            <a:chOff x="5410080" y="1676520"/>
            <a:chExt cx="2971800" cy="1981080"/>
          </a:xfrm>
        </p:grpSpPr>
        <p:sp>
          <p:nvSpPr>
            <p:cNvPr id="1076" name=""/>
            <p:cNvSpPr/>
            <p:nvPr/>
          </p:nvSpPr>
          <p:spPr>
            <a:xfrm>
              <a:off x="5410080" y="1676520"/>
              <a:ext cx="2971800" cy="198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5714640" y="1933560"/>
              <a:ext cx="2514600" cy="1661400"/>
              <a:chOff x="5714640" y="1933560"/>
              <a:chExt cx="2514600" cy="166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6400440" y="2086200"/>
                <a:ext cx="1828800" cy="1295280"/>
              </a:xfrm>
              <a:custGeom>
                <a:avLst/>
                <a:gdLst/>
                <a:ahLst/>
                <a:rect l="l" t="t" r="r" b="b"/>
                <a:pathLst>
                  <a:path w="1152" h="864">
                    <a:moveTo>
                      <a:pt x="0" y="0"/>
                    </a:moveTo>
                    <a:lnTo>
                      <a:pt x="0" y="864"/>
                    </a:lnTo>
                    <a:lnTo>
                      <a:pt x="1152" y="864"/>
                    </a:ln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6403680" y="2238480"/>
                <a:ext cx="1749240" cy="660240"/>
                <a:chOff x="6403680" y="2238480"/>
                <a:chExt cx="1749240" cy="66024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>
                  <a:off x="7012800" y="2238480"/>
                  <a:ext cx="1140120" cy="430200"/>
                </a:xfrm>
                <a:prstGeom prst="line">
                  <a:avLst/>
                </a:prstGeom>
                <a:ln w="38160">
                  <a:solidFill>
                    <a:srgbClr val="66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403680" y="2691000"/>
                  <a:ext cx="573120" cy="207720"/>
                </a:xfrm>
                <a:custGeom>
                  <a:avLst/>
                  <a:gdLst/>
                  <a:ahLst/>
                  <a:rect l="l" t="t" r="r" b="b"/>
                  <a:pathLst>
                    <a:path w="314" h="116">
                      <a:moveTo>
                        <a:pt x="314" y="0"/>
                      </a:moveTo>
                      <a:lnTo>
                        <a:pt x="0" y="116"/>
                      </a:lnTo>
                    </a:path>
                  </a:pathLst>
                </a:custGeom>
                <a:noFill/>
                <a:ln w="19080">
                  <a:solidFill>
                    <a:srgbClr val="66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>
                <a:off x="7924680" y="3381480"/>
                <a:ext cx="304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095880" y="1933560"/>
                <a:ext cx="304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6057360" y="2895840"/>
                <a:ext cx="304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714640" y="2772000"/>
                <a:ext cx="304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r>
                  <a:rPr b="1" i="1" lang="es-ES" sz="1400" spc="-1" strike="noStrike" baseline="-25000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6" name=""/>
          <p:cNvSpPr/>
          <p:nvPr/>
        </p:nvSpPr>
        <p:spPr>
          <a:xfrm>
            <a:off x="1619280" y="1989000"/>
            <a:ext cx="1440" cy="863640"/>
          </a:xfrm>
          <a:custGeom>
            <a:avLst/>
            <a:gdLst/>
            <a:ahLst/>
            <a:rect l="l" t="t" r="r" b="b"/>
            <a:pathLst>
              <a:path w="1" h="544">
                <a:moveTo>
                  <a:pt x="1" y="0"/>
                </a:moveTo>
                <a:lnTo>
                  <a:pt x="0" y="544"/>
                </a:lnTo>
              </a:path>
            </a:pathLst>
          </a:custGeom>
          <a:noFill/>
          <a:ln w="3816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6934320" y="3504600"/>
            <a:ext cx="1440" cy="863640"/>
          </a:xfrm>
          <a:custGeom>
            <a:avLst/>
            <a:gdLst/>
            <a:ahLst/>
            <a:rect l="l" t="t" r="r" b="b"/>
            <a:pathLst>
              <a:path w="1" h="544">
                <a:moveTo>
                  <a:pt x="1" y="0"/>
                </a:moveTo>
                <a:lnTo>
                  <a:pt x="0" y="544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71640" y="260280"/>
            <a:ext cx="76327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T</a:t>
            </a:r>
            <a:r>
              <a:rPr b="1" lang="es-ES" sz="2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Temperature of the emmitting fil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012000" y="1773360"/>
            <a:ext cx="431640" cy="370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i="1" lang="es-ES" sz="16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80000" y="2781360"/>
            <a:ext cx="504720" cy="370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i="1" lang="es-ES" sz="1600" spc="-1" strike="noStrike" baseline="-25000">
                <a:solidFill>
                  <a:srgbClr val="ffff00"/>
                </a:solidFill>
                <a:latin typeface="Times New Roma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187280" y="2133720"/>
            <a:ext cx="2592720" cy="609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perimental data f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500"/>
                            </p:stCondLst>
                            <p:childTnLst>
                              <p:par>
                                <p:cTn id="41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692360" y="260280"/>
            <a:ext cx="60800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Symbol"/>
                <a:ea typeface="Symbol"/>
              </a:rPr>
              <a:t>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transmission of the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914400" y="838080"/>
            <a:ext cx="340920" cy="2435040"/>
            <a:chOff x="914400" y="838080"/>
            <a:chExt cx="340920" cy="2435040"/>
          </a:xfrm>
        </p:grpSpPr>
        <p:grpSp>
          <p:nvGrpSpPr>
            <p:cNvPr id="1094" name=""/>
            <p:cNvGrpSpPr/>
            <p:nvPr/>
          </p:nvGrpSpPr>
          <p:grpSpPr>
            <a:xfrm>
              <a:off x="914400" y="958680"/>
              <a:ext cx="340920" cy="2314440"/>
              <a:chOff x="914400" y="958680"/>
              <a:chExt cx="340920" cy="2314440"/>
            </a:xfrm>
          </p:grpSpPr>
          <p:sp>
            <p:nvSpPr>
              <p:cNvPr id="1095" name=""/>
              <p:cNvSpPr/>
              <p:nvPr/>
            </p:nvSpPr>
            <p:spPr>
              <a:xfrm>
                <a:off x="914400" y="1038240"/>
                <a:ext cx="339480" cy="223488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914400" y="958680"/>
                <a:ext cx="340920" cy="17100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914400" y="838080"/>
              <a:ext cx="340560" cy="476640"/>
              <a:chOff x="914400" y="838080"/>
              <a:chExt cx="340560" cy="476640"/>
            </a:xfrm>
          </p:grpSpPr>
          <p:sp>
            <p:nvSpPr>
              <p:cNvPr id="1098" name=""/>
              <p:cNvSpPr/>
              <p:nvPr/>
            </p:nvSpPr>
            <p:spPr>
              <a:xfrm>
                <a:off x="949680" y="1028520"/>
                <a:ext cx="268200" cy="286200"/>
              </a:xfrm>
              <a:prstGeom prst="can">
                <a:avLst>
                  <a:gd name="adj" fmla="val 34722"/>
                </a:avLst>
              </a:prstGeom>
              <a:gradFill rotWithShape="0">
                <a:gsLst>
                  <a:gs pos="0">
                    <a:srgbClr val="007038"/>
                  </a:gs>
                  <a:gs pos="50000">
                    <a:srgbClr val="00cc66"/>
                  </a:gs>
                  <a:gs pos="100000">
                    <a:srgbClr val="007038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914400" y="838080"/>
                <a:ext cx="340560" cy="286200"/>
              </a:xfrm>
              <a:prstGeom prst="can">
                <a:avLst>
                  <a:gd name="adj" fmla="val 38888"/>
                </a:avLst>
              </a:prstGeom>
              <a:gradFill rotWithShape="0">
                <a:gsLst>
                  <a:gs pos="0">
                    <a:srgbClr val="007038"/>
                  </a:gs>
                  <a:gs pos="50000">
                    <a:srgbClr val="00cc66"/>
                  </a:gs>
                  <a:gs pos="100000">
                    <a:srgbClr val="007038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959400" y="855720"/>
                <a:ext cx="250920" cy="7560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005e2f"/>
                  </a:gs>
                  <a:gs pos="100000">
                    <a:srgbClr val="00cc6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925560" y="1630440"/>
              <a:ext cx="316080" cy="1509840"/>
            </a:xfrm>
            <a:prstGeom prst="can">
              <a:avLst>
                <a:gd name="adj" fmla="val 10092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19800" y="1636560"/>
              <a:ext cx="317880" cy="142200"/>
            </a:xfrm>
            <a:prstGeom prst="ellipse">
              <a:avLst/>
            </a:prstGeom>
            <a:solidFill>
              <a:srgbClr val="99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2819520" y="1219320"/>
            <a:ext cx="3429000" cy="163368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olution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range I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uSO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(it absorbs the infrared ligh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1905120"/>
            <a:ext cx="1657440" cy="9360"/>
          </a:xfrm>
          <a:custGeom>
            <a:avLst/>
            <a:gdLst/>
            <a:ahLst/>
            <a:rect l="l" t="t" r="r" b="b"/>
            <a:pathLst>
              <a:path w="1044" h="6">
                <a:moveTo>
                  <a:pt x="0" y="0"/>
                </a:moveTo>
                <a:lnTo>
                  <a:pt x="1044" y="6"/>
                </a:lnTo>
              </a:path>
            </a:pathLst>
          </a:custGeom>
          <a:noFill/>
          <a:ln w="57240">
            <a:solidFill>
              <a:srgbClr val="cc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2286000" y="2971800"/>
            <a:ext cx="5181480" cy="3610080"/>
            <a:chOff x="2286000" y="2971800"/>
            <a:chExt cx="5181480" cy="3610080"/>
          </a:xfrm>
        </p:grpSpPr>
        <p:graphicFrame>
          <p:nvGraphicFramePr>
            <p:cNvPr id="1106" name=""/>
            <p:cNvGraphicFramePr/>
            <p:nvPr/>
          </p:nvGraphicFramePr>
          <p:xfrm>
            <a:off x="2286000" y="2971800"/>
            <a:ext cx="5181480" cy="361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971800"/>
                      <a:ext cx="5181480" cy="36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8" name=""/>
            <p:cNvSpPr/>
            <p:nvPr/>
          </p:nvSpPr>
          <p:spPr>
            <a:xfrm>
              <a:off x="4190760" y="3073320"/>
              <a:ext cx="1142640" cy="336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 = 590 n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00240" y="3327480"/>
              <a:ext cx="1440" cy="485640"/>
            </a:xfrm>
            <a:custGeom>
              <a:avLst/>
              <a:gdLst/>
              <a:ahLst/>
              <a:rect l="l" t="t" r="r" b="b"/>
              <a:pathLst>
                <a:path w="1" h="306">
                  <a:moveTo>
                    <a:pt x="0" y="0"/>
                  </a:moveTo>
                  <a:lnTo>
                    <a:pt x="1" y="306"/>
                  </a:lnTo>
                </a:path>
              </a:pathLst>
            </a:custGeom>
            <a:noFill/>
            <a:ln w="57240">
              <a:solidFill>
                <a:srgbClr val="cc66ff"/>
              </a:solidFill>
              <a:round/>
              <a:tailEnd len="med" type="triangle" w="med"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6588000" y="6237360"/>
            <a:ext cx="6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" sz="1200" spc="-1" strike="noStrike">
                <a:solidFill>
                  <a:srgbClr val="000000"/>
                </a:solidFill>
                <a:latin typeface="Arial Unicode MS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763640" y="476280"/>
            <a:ext cx="50292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Symbol"/>
                <a:ea typeface="Symbol"/>
              </a:rPr>
              <a:t>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arameter of the LD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533520" y="1371600"/>
            <a:ext cx="2635200" cy="1984320"/>
            <a:chOff x="533520" y="1371600"/>
            <a:chExt cx="2635200" cy="1984320"/>
          </a:xfrm>
        </p:grpSpPr>
        <p:sp>
          <p:nvSpPr>
            <p:cNvPr id="1113" name=""/>
            <p:cNvSpPr/>
            <p:nvPr/>
          </p:nvSpPr>
          <p:spPr>
            <a:xfrm flipH="1">
              <a:off x="533520" y="2095560"/>
              <a:ext cx="1022400" cy="979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581040" y="2468520"/>
              <a:ext cx="556920" cy="216000"/>
              <a:chOff x="581040" y="2468520"/>
              <a:chExt cx="556920" cy="216000"/>
            </a:xfrm>
          </p:grpSpPr>
          <p:sp>
            <p:nvSpPr>
              <p:cNvPr id="1115" name=""/>
              <p:cNvSpPr/>
              <p:nvPr/>
            </p:nvSpPr>
            <p:spPr>
              <a:xfrm flipH="1" rot="5400000">
                <a:off x="867960" y="2414520"/>
                <a:ext cx="216000" cy="324000"/>
              </a:xfrm>
              <a:custGeom>
                <a:avLst/>
                <a:gdLst>
                  <a:gd name="textAreaLeft" fmla="*/ 26280 w 216000"/>
                  <a:gd name="textAreaRight" fmla="*/ 189720 w 216000"/>
                  <a:gd name="textAreaTop" fmla="*/ 26280 h 324000"/>
                  <a:gd name="textAreaBottom" fmla="*/ 297720 h 324000"/>
                </a:gdLst>
                <a:ahLst/>
                <a:rect l="textAreaLeft" t="textAreaTop" r="textAreaRight" b="textAreaBottom"/>
                <a:pathLst>
                  <a:path w="21600" h="32382">
                    <a:moveTo>
                      <a:pt x="8960" y="0"/>
                    </a:moveTo>
                    <a:arcTo wR="8960" hR="8960" stAng="16200000" swAng="-5400000"/>
                    <a:lnTo>
                      <a:pt x="0" y="23422"/>
                    </a:lnTo>
                    <a:arcTo wR="8960" hR="8960" stAng="10800000" swAng="-5400000"/>
                    <a:lnTo>
                      <a:pt x="12640" y="32382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56080" y="2534400"/>
                <a:ext cx="144720" cy="86760"/>
                <a:chOff x="856080" y="2534400"/>
                <a:chExt cx="144720" cy="86760"/>
              </a:xfrm>
            </p:grpSpPr>
            <p:sp>
              <p:nvSpPr>
                <p:cNvPr id="1117" name=""/>
                <p:cNvSpPr/>
                <p:nvPr/>
              </p:nvSpPr>
              <p:spPr>
                <a:xfrm flipH="1">
                  <a:off x="856080" y="2534400"/>
                  <a:ext cx="144720" cy="2916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>
                  <a:off x="856080" y="2591640"/>
                  <a:ext cx="144720" cy="2916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"/>
              <p:cNvSpPr/>
              <p:nvPr/>
            </p:nvSpPr>
            <p:spPr>
              <a:xfrm flipH="1">
                <a:off x="885960" y="2549880"/>
                <a:ext cx="54000" cy="5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c9c9c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997200" y="2536200"/>
                <a:ext cx="114480" cy="8388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300" y="0"/>
                    </a:moveTo>
                    <a:lnTo>
                      <a:pt x="0" y="84"/>
                    </a:lnTo>
                    <a:lnTo>
                      <a:pt x="300" y="219"/>
                    </a:lnTo>
                  </a:path>
                </a:pathLst>
              </a:custGeom>
              <a:noFill/>
              <a:ln w="381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581040" y="2472120"/>
                <a:ext cx="270360" cy="208080"/>
                <a:chOff x="581040" y="2472120"/>
                <a:chExt cx="270360" cy="2080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581040" y="2549520"/>
                  <a:ext cx="30600" cy="46440"/>
                </a:xfrm>
                <a:prstGeom prst="ellipse">
                  <a:avLst/>
                </a:prstGeom>
                <a:solidFill>
                  <a:srgbClr val="969696"/>
                </a:soli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44040" y="2483280"/>
                  <a:ext cx="20736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caca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4" name=""/>
                <p:cNvGrpSpPr/>
                <p:nvPr/>
              </p:nvGrpSpPr>
              <p:grpSpPr>
                <a:xfrm>
                  <a:off x="642600" y="2473560"/>
                  <a:ext cx="205920" cy="14760"/>
                  <a:chOff x="642600" y="2473560"/>
                  <a:chExt cx="205920" cy="147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rot="16200000">
                    <a:off x="648000" y="24681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flipV="1" rot="5400000">
                    <a:off x="673560" y="246852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rot="16200000">
                    <a:off x="699480" y="24681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 flipV="1" rot="5400000">
                    <a:off x="725400" y="246852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745920" y="2473560"/>
                    <a:ext cx="51120" cy="14760"/>
                    <a:chOff x="745920" y="2473560"/>
                    <a:chExt cx="51120" cy="14760"/>
                  </a:xfrm>
                </p:grpSpPr>
                <p:sp>
                  <p:nvSpPr>
                    <p:cNvPr id="1130" name=""/>
                    <p:cNvSpPr/>
                    <p:nvPr/>
                  </p:nvSpPr>
                  <p:spPr>
                    <a:xfrm rot="16200000">
                      <a:off x="751320" y="24681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V="1" rot="5400000">
                      <a:off x="777240" y="246852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797400" y="2473560"/>
                    <a:ext cx="51120" cy="14760"/>
                    <a:chOff x="797400" y="2473560"/>
                    <a:chExt cx="51120" cy="1476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rot="16200000">
                      <a:off x="802800" y="24681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V="1" rot="5400000">
                      <a:off x="828720" y="246852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35" name=""/>
                <p:cNvSpPr/>
                <p:nvPr/>
              </p:nvSpPr>
              <p:spPr>
                <a:xfrm rot="16200000">
                  <a:off x="647280" y="2658600"/>
                  <a:ext cx="1620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 rot="5400000">
                  <a:off x="673920" y="2658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6200000">
                  <a:off x="698760" y="2658240"/>
                  <a:ext cx="16200" cy="2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V="1" rot="5400000">
                  <a:off x="725760" y="2658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9" name=""/>
                <p:cNvGrpSpPr/>
                <p:nvPr/>
              </p:nvGrpSpPr>
              <p:grpSpPr>
                <a:xfrm>
                  <a:off x="746280" y="2662920"/>
                  <a:ext cx="50760" cy="16200"/>
                  <a:chOff x="746280" y="2662920"/>
                  <a:chExt cx="50760" cy="1620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 rot="16200000">
                    <a:off x="750600" y="265824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V="1" rot="5400000">
                    <a:off x="776160" y="265788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2" name=""/>
                <p:cNvSpPr/>
                <p:nvPr/>
              </p:nvSpPr>
              <p:spPr>
                <a:xfrm rot="16200000">
                  <a:off x="802440" y="2658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 rot="5400000">
                  <a:off x="829080" y="2658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49600" y="2482560"/>
                  <a:ext cx="360" cy="191880"/>
                </a:xfrm>
                <a:custGeom>
                  <a:avLst/>
                  <a:gdLst/>
                  <a:ahLst/>
                  <a:rect l="l" t="t" r="r" b="b"/>
                  <a:pathLst>
                    <a:path w="1" h="2233">
                      <a:moveTo>
                        <a:pt x="1" y="0"/>
                      </a:moveTo>
                      <a:lnTo>
                        <a:pt x="0" y="223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2600" y="2478960"/>
                  <a:ext cx="360" cy="190080"/>
                </a:xfrm>
                <a:custGeom>
                  <a:avLst/>
                  <a:gdLst/>
                  <a:ahLst/>
                  <a:rect l="l" t="t" r="r" b="b"/>
                  <a:pathLst>
                    <a:path w="1" h="2210">
                      <a:moveTo>
                        <a:pt x="0" y="0"/>
                      </a:moveTo>
                      <a:lnTo>
                        <a:pt x="0" y="221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10720" y="2488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61040" y="2488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09560" y="248904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57720" y="2488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32960" y="247284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84440" y="247212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79680" y="247356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2600" y="2472840"/>
                  <a:ext cx="14760" cy="103320"/>
                </a:xfrm>
                <a:custGeom>
                  <a:avLst/>
                  <a:gdLst/>
                  <a:ahLst/>
                  <a:rect l="l" t="t" r="r" b="b"/>
                  <a:pathLst>
                    <a:path w="171" h="1203">
                      <a:moveTo>
                        <a:pt x="171" y="0"/>
                      </a:moveTo>
                      <a:lnTo>
                        <a:pt x="0" y="120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35200" y="2574720"/>
                  <a:ext cx="14400" cy="105480"/>
                </a:xfrm>
                <a:custGeom>
                  <a:avLst/>
                  <a:gdLst/>
                  <a:ahLst/>
                  <a:rect l="l" t="t" r="r" b="b"/>
                  <a:pathLst>
                    <a:path w="169" h="1227">
                      <a:moveTo>
                        <a:pt x="169" y="0"/>
                      </a:moveTo>
                      <a:lnTo>
                        <a:pt x="0" y="1227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5400000">
                  <a:off x="526320" y="2547720"/>
                  <a:ext cx="185760" cy="46080"/>
                </a:xfrm>
                <a:custGeom>
                  <a:avLst/>
                  <a:gdLst>
                    <a:gd name="textAreaLeft" fmla="*/ 53280 w 185760"/>
                    <a:gd name="textAreaRight" fmla="*/ 132480 w 185760"/>
                    <a:gd name="textAreaTop" fmla="*/ 12960 h 46080"/>
                    <a:gd name="textAreaBottom" fmla="*/ 33120 h 46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11" y="21600"/>
                      </a:lnTo>
                      <a:lnTo>
                        <a:pt x="79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848484"/>
                    </a:gs>
                    <a:gs pos="100000">
                      <a:srgbClr val="ffffff"/>
                    </a:gs>
                  </a:gsLst>
                  <a:lin ang="5400000"/>
                </a:gra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6" name=""/>
            <p:cNvGrpSpPr/>
            <p:nvPr/>
          </p:nvGrpSpPr>
          <p:grpSpPr>
            <a:xfrm>
              <a:off x="1538280" y="1371600"/>
              <a:ext cx="277920" cy="1984320"/>
              <a:chOff x="1538280" y="1371600"/>
              <a:chExt cx="277920" cy="198432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1538280" y="1470240"/>
                <a:ext cx="277920" cy="1885680"/>
                <a:chOff x="1538280" y="1470240"/>
                <a:chExt cx="277920" cy="188568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>
                  <a:off x="1539000" y="1535040"/>
                  <a:ext cx="276840" cy="182088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1538280" y="1470240"/>
                  <a:ext cx="277920" cy="139320"/>
                </a:xfrm>
                <a:prstGeom prst="ellipse">
                  <a:avLst/>
                </a:prstGeom>
                <a:noFill/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538280" y="1371600"/>
                <a:ext cx="277920" cy="389160"/>
                <a:chOff x="1538280" y="1371600"/>
                <a:chExt cx="277920" cy="38916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>
                  <a:off x="1568520" y="1527120"/>
                  <a:ext cx="218880" cy="233640"/>
                </a:xfrm>
                <a:prstGeom prst="can">
                  <a:avLst>
                    <a:gd name="adj" fmla="val 34722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1538280" y="1371600"/>
                  <a:ext cx="277920" cy="23364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1574280" y="1386000"/>
                  <a:ext cx="2048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5e2f"/>
                    </a:gs>
                    <a:gs pos="100000">
                      <a:srgbClr val="00cc66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 flipH="1">
                <a:off x="1549440" y="2017800"/>
                <a:ext cx="257040" cy="1230480"/>
              </a:xfrm>
              <a:prstGeom prst="can">
                <a:avLst>
                  <a:gd name="adj" fmla="val 10092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1552680" y="2022480"/>
                <a:ext cx="258480" cy="115920"/>
              </a:xfrm>
              <a:prstGeom prst="ellipse">
                <a:avLst/>
              </a:prstGeom>
              <a:solidFill>
                <a:srgbClr val="99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 flipH="1">
              <a:off x="1170000" y="2508120"/>
              <a:ext cx="385920" cy="155880"/>
            </a:xfrm>
            <a:custGeom>
              <a:avLst/>
              <a:gdLst/>
              <a:ahLst/>
              <a:rect l="l" t="t" r="r" b="b"/>
              <a:pathLst>
                <a:path w="699" h="280">
                  <a:moveTo>
                    <a:pt x="0" y="2"/>
                  </a:moveTo>
                  <a:lnTo>
                    <a:pt x="695" y="0"/>
                  </a:lnTo>
                  <a:lnTo>
                    <a:pt x="624" y="141"/>
                  </a:lnTo>
                  <a:lnTo>
                    <a:pt x="699" y="279"/>
                  </a:lnTo>
                  <a:lnTo>
                    <a:pt x="0" y="28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1820160" y="2508120"/>
              <a:ext cx="615960" cy="149400"/>
            </a:xfrm>
            <a:prstGeom prst="leftArrow">
              <a:avLst>
                <a:gd name="adj1" fmla="val 50000"/>
                <a:gd name="adj2" fmla="val 103072"/>
              </a:avLst>
            </a:prstGeom>
            <a:solidFill>
              <a:srgbClr val="99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2482920" y="2460240"/>
              <a:ext cx="685800" cy="259560"/>
              <a:chOff x="2482920" y="2460240"/>
              <a:chExt cx="685800" cy="259560"/>
            </a:xfrm>
          </p:grpSpPr>
          <p:sp>
            <p:nvSpPr>
              <p:cNvPr id="1169" name=""/>
              <p:cNvSpPr/>
              <p:nvPr/>
            </p:nvSpPr>
            <p:spPr>
              <a:xfrm flipH="1">
                <a:off x="2503800" y="256860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417" h="1">
                    <a:moveTo>
                      <a:pt x="417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2606400" y="2619360"/>
                <a:ext cx="561960" cy="1800"/>
              </a:xfrm>
              <a:custGeom>
                <a:avLst/>
                <a:gdLst/>
                <a:ahLst/>
                <a:rect l="l" t="t" r="r" b="b"/>
                <a:pathLst>
                  <a:path w="417" h="1">
                    <a:moveTo>
                      <a:pt x="417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 rot="21409200">
                <a:off x="2516400" y="2463480"/>
                <a:ext cx="135000" cy="249480"/>
              </a:xfrm>
              <a:custGeom>
                <a:avLst/>
                <a:gdLst/>
                <a:ahLst/>
                <a:rect l="l" t="t" r="r" b="b"/>
                <a:pathLst>
                  <a:path w="699" h="1068">
                    <a:moveTo>
                      <a:pt x="699" y="48"/>
                    </a:moveTo>
                    <a:lnTo>
                      <a:pt x="621" y="12"/>
                    </a:lnTo>
                    <a:lnTo>
                      <a:pt x="417" y="0"/>
                    </a:lnTo>
                    <a:lnTo>
                      <a:pt x="108" y="144"/>
                    </a:lnTo>
                    <a:lnTo>
                      <a:pt x="57" y="260"/>
                    </a:lnTo>
                    <a:lnTo>
                      <a:pt x="0" y="456"/>
                    </a:lnTo>
                    <a:lnTo>
                      <a:pt x="21" y="759"/>
                    </a:lnTo>
                    <a:lnTo>
                      <a:pt x="69" y="888"/>
                    </a:lnTo>
                    <a:lnTo>
                      <a:pt x="183" y="1035"/>
                    </a:lnTo>
                    <a:lnTo>
                      <a:pt x="351" y="1068"/>
                    </a:lnTo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50000">
                    <a:srgbClr val="ffffff"/>
                  </a:gs>
                  <a:gs pos="100000">
                    <a:srgbClr val="9c9c9c"/>
                  </a:gs>
                </a:gsLst>
                <a:lin ang="5400000"/>
              </a:gradFill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rot="21409200">
                <a:off x="2489400" y="2473560"/>
                <a:ext cx="138240" cy="242640"/>
              </a:xfrm>
              <a:custGeom>
                <a:avLst/>
                <a:gdLst/>
                <a:ahLst/>
                <a:rect l="l" t="t" r="r" b="b"/>
                <a:pathLst>
                  <a:path w="705" h="1044">
                    <a:moveTo>
                      <a:pt x="93" y="180"/>
                    </a:moveTo>
                    <a:lnTo>
                      <a:pt x="51" y="276"/>
                    </a:lnTo>
                    <a:lnTo>
                      <a:pt x="12" y="396"/>
                    </a:lnTo>
                    <a:lnTo>
                      <a:pt x="0" y="525"/>
                    </a:lnTo>
                    <a:lnTo>
                      <a:pt x="12" y="669"/>
                    </a:lnTo>
                    <a:lnTo>
                      <a:pt x="63" y="870"/>
                    </a:lnTo>
                    <a:lnTo>
                      <a:pt x="138" y="969"/>
                    </a:lnTo>
                    <a:lnTo>
                      <a:pt x="207" y="1044"/>
                    </a:lnTo>
                    <a:lnTo>
                      <a:pt x="606" y="822"/>
                    </a:lnTo>
                    <a:lnTo>
                      <a:pt x="645" y="732"/>
                    </a:lnTo>
                    <a:lnTo>
                      <a:pt x="687" y="621"/>
                    </a:lnTo>
                    <a:lnTo>
                      <a:pt x="705" y="426"/>
                    </a:lnTo>
                    <a:lnTo>
                      <a:pt x="687" y="240"/>
                    </a:lnTo>
                    <a:lnTo>
                      <a:pt x="642" y="126"/>
                    </a:lnTo>
                    <a:lnTo>
                      <a:pt x="564" y="27"/>
                    </a:lnTo>
                    <a:lnTo>
                      <a:pt x="468" y="0"/>
                    </a:lnTo>
                    <a:lnTo>
                      <a:pt x="93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rot="21409200">
                <a:off x="2496960" y="2558880"/>
                <a:ext cx="14400" cy="3168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 rot="21409200">
                <a:off x="2593440" y="2608200"/>
                <a:ext cx="15840" cy="3312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 rot="21409200">
                <a:off x="2516040" y="2484720"/>
                <a:ext cx="76320" cy="210960"/>
              </a:xfrm>
              <a:custGeom>
                <a:avLst/>
                <a:gdLst/>
                <a:ahLst/>
                <a:rect l="l" t="t" r="r" b="b"/>
                <a:pathLst>
                  <a:path w="387" h="904">
                    <a:moveTo>
                      <a:pt x="249" y="0"/>
                    </a:moveTo>
                    <a:lnTo>
                      <a:pt x="9" y="121"/>
                    </a:lnTo>
                    <a:lnTo>
                      <a:pt x="0" y="190"/>
                    </a:lnTo>
                    <a:lnTo>
                      <a:pt x="24" y="232"/>
                    </a:lnTo>
                    <a:lnTo>
                      <a:pt x="255" y="112"/>
                    </a:lnTo>
                    <a:lnTo>
                      <a:pt x="303" y="145"/>
                    </a:lnTo>
                    <a:lnTo>
                      <a:pt x="276" y="211"/>
                    </a:lnTo>
                    <a:lnTo>
                      <a:pt x="72" y="310"/>
                    </a:lnTo>
                    <a:lnTo>
                      <a:pt x="45" y="370"/>
                    </a:lnTo>
                    <a:lnTo>
                      <a:pt x="90" y="406"/>
                    </a:lnTo>
                    <a:lnTo>
                      <a:pt x="264" y="322"/>
                    </a:lnTo>
                    <a:lnTo>
                      <a:pt x="306" y="352"/>
                    </a:lnTo>
                    <a:lnTo>
                      <a:pt x="285" y="424"/>
                    </a:lnTo>
                    <a:lnTo>
                      <a:pt x="108" y="508"/>
                    </a:lnTo>
                    <a:lnTo>
                      <a:pt x="93" y="574"/>
                    </a:lnTo>
                    <a:lnTo>
                      <a:pt x="114" y="615"/>
                    </a:lnTo>
                    <a:lnTo>
                      <a:pt x="309" y="517"/>
                    </a:lnTo>
                    <a:lnTo>
                      <a:pt x="348" y="544"/>
                    </a:lnTo>
                    <a:lnTo>
                      <a:pt x="327" y="607"/>
                    </a:lnTo>
                    <a:lnTo>
                      <a:pt x="111" y="715"/>
                    </a:lnTo>
                    <a:lnTo>
                      <a:pt x="78" y="781"/>
                    </a:lnTo>
                    <a:lnTo>
                      <a:pt x="129" y="820"/>
                    </a:lnTo>
                    <a:lnTo>
                      <a:pt x="339" y="703"/>
                    </a:lnTo>
                    <a:lnTo>
                      <a:pt x="387" y="730"/>
                    </a:lnTo>
                    <a:lnTo>
                      <a:pt x="366" y="787"/>
                    </a:lnTo>
                    <a:lnTo>
                      <a:pt x="168" y="90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 flipH="1">
              <a:off x="1901160" y="2219400"/>
              <a:ext cx="304920" cy="31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711520" y="2286000"/>
              <a:ext cx="380880" cy="31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380880" y="3657600"/>
            <a:ext cx="2743200" cy="1984320"/>
            <a:chOff x="380880" y="3657600"/>
            <a:chExt cx="2743200" cy="1984320"/>
          </a:xfrm>
        </p:grpSpPr>
        <p:sp>
          <p:nvSpPr>
            <p:cNvPr id="1179" name=""/>
            <p:cNvSpPr/>
            <p:nvPr/>
          </p:nvSpPr>
          <p:spPr>
            <a:xfrm flipH="1">
              <a:off x="488880" y="4381560"/>
              <a:ext cx="1022400" cy="979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536400" y="4754520"/>
              <a:ext cx="556920" cy="216000"/>
              <a:chOff x="536400" y="4754520"/>
              <a:chExt cx="556920" cy="216000"/>
            </a:xfrm>
          </p:grpSpPr>
          <p:sp>
            <p:nvSpPr>
              <p:cNvPr id="1181" name=""/>
              <p:cNvSpPr/>
              <p:nvPr/>
            </p:nvSpPr>
            <p:spPr>
              <a:xfrm flipH="1" rot="5400000">
                <a:off x="823320" y="4700520"/>
                <a:ext cx="216000" cy="324000"/>
              </a:xfrm>
              <a:custGeom>
                <a:avLst/>
                <a:gdLst>
                  <a:gd name="textAreaLeft" fmla="*/ 26280 w 216000"/>
                  <a:gd name="textAreaRight" fmla="*/ 189720 w 216000"/>
                  <a:gd name="textAreaTop" fmla="*/ 26280 h 324000"/>
                  <a:gd name="textAreaBottom" fmla="*/ 297720 h 324000"/>
                </a:gdLst>
                <a:ahLst/>
                <a:rect l="textAreaLeft" t="textAreaTop" r="textAreaRight" b="textAreaBottom"/>
                <a:pathLst>
                  <a:path w="21600" h="32382">
                    <a:moveTo>
                      <a:pt x="8960" y="0"/>
                    </a:moveTo>
                    <a:arcTo wR="8960" hR="8960" stAng="16200000" swAng="-5400000"/>
                    <a:lnTo>
                      <a:pt x="0" y="23422"/>
                    </a:lnTo>
                    <a:arcTo wR="8960" hR="8960" stAng="10800000" swAng="-5400000"/>
                    <a:lnTo>
                      <a:pt x="12640" y="32382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2" name=""/>
              <p:cNvGrpSpPr/>
              <p:nvPr/>
            </p:nvGrpSpPr>
            <p:grpSpPr>
              <a:xfrm>
                <a:off x="811440" y="4820400"/>
                <a:ext cx="144720" cy="86760"/>
                <a:chOff x="811440" y="4820400"/>
                <a:chExt cx="144720" cy="8676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811440" y="4820400"/>
                  <a:ext cx="144720" cy="2916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 flipV="1">
                  <a:off x="811440" y="4877640"/>
                  <a:ext cx="144720" cy="2916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 flipH="1">
                <a:off x="841320" y="4835880"/>
                <a:ext cx="54000" cy="5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c9c9c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952560" y="4822200"/>
                <a:ext cx="114480" cy="8388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300" y="0"/>
                    </a:moveTo>
                    <a:lnTo>
                      <a:pt x="0" y="84"/>
                    </a:lnTo>
                    <a:lnTo>
                      <a:pt x="300" y="219"/>
                    </a:lnTo>
                  </a:path>
                </a:pathLst>
              </a:custGeom>
              <a:noFill/>
              <a:ln w="381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536400" y="4758120"/>
                <a:ext cx="270360" cy="208080"/>
                <a:chOff x="536400" y="4758120"/>
                <a:chExt cx="270360" cy="2080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536400" y="4835520"/>
                  <a:ext cx="30600" cy="46440"/>
                </a:xfrm>
                <a:prstGeom prst="ellipse">
                  <a:avLst/>
                </a:prstGeom>
                <a:solidFill>
                  <a:srgbClr val="969696"/>
                </a:soli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599400" y="4769280"/>
                  <a:ext cx="20736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caca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597960" y="4759560"/>
                  <a:ext cx="205920" cy="14760"/>
                  <a:chOff x="597960" y="4759560"/>
                  <a:chExt cx="205920" cy="1476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rot="16200000">
                    <a:off x="603360" y="47541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V="1" rot="5400000">
                    <a:off x="628920" y="475452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rot="16200000">
                    <a:off x="654840" y="475416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V="1" rot="5400000">
                    <a:off x="680760" y="4754520"/>
                    <a:ext cx="14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5" name=""/>
                  <p:cNvGrpSpPr/>
                  <p:nvPr/>
                </p:nvGrpSpPr>
                <p:grpSpPr>
                  <a:xfrm>
                    <a:off x="701280" y="4759560"/>
                    <a:ext cx="51120" cy="14760"/>
                    <a:chOff x="701280" y="4759560"/>
                    <a:chExt cx="51120" cy="14760"/>
                  </a:xfrm>
                </p:grpSpPr>
                <p:sp>
                  <p:nvSpPr>
                    <p:cNvPr id="1196" name=""/>
                    <p:cNvSpPr/>
                    <p:nvPr/>
                  </p:nvSpPr>
                  <p:spPr>
                    <a:xfrm rot="16200000">
                      <a:off x="706680" y="47541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V="1" rot="5400000">
                      <a:off x="732600" y="475452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752760" y="4759560"/>
                    <a:ext cx="51120" cy="14760"/>
                    <a:chOff x="752760" y="4759560"/>
                    <a:chExt cx="51120" cy="14760"/>
                  </a:xfrm>
                </p:grpSpPr>
                <p:sp>
                  <p:nvSpPr>
                    <p:cNvPr id="1199" name=""/>
                    <p:cNvSpPr/>
                    <p:nvPr/>
                  </p:nvSpPr>
                  <p:spPr>
                    <a:xfrm rot="16200000">
                      <a:off x="758160" y="475416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V="1" rot="5400000">
                      <a:off x="784080" y="4754520"/>
                      <a:ext cx="14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01" name=""/>
                <p:cNvSpPr/>
                <p:nvPr/>
              </p:nvSpPr>
              <p:spPr>
                <a:xfrm rot="16200000">
                  <a:off x="602640" y="4944600"/>
                  <a:ext cx="1620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 rot="5400000">
                  <a:off x="629280" y="4944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16200000">
                  <a:off x="654120" y="4944240"/>
                  <a:ext cx="16200" cy="25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 rot="5400000">
                  <a:off x="681120" y="4944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5" name=""/>
                <p:cNvGrpSpPr/>
                <p:nvPr/>
              </p:nvGrpSpPr>
              <p:grpSpPr>
                <a:xfrm>
                  <a:off x="701640" y="4948920"/>
                  <a:ext cx="50760" cy="16200"/>
                  <a:chOff x="701640" y="4948920"/>
                  <a:chExt cx="50760" cy="1620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 rot="16200000">
                    <a:off x="705960" y="494424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V="1" rot="5400000">
                    <a:off x="731520" y="4943880"/>
                    <a:ext cx="16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8" name=""/>
                <p:cNvSpPr/>
                <p:nvPr/>
              </p:nvSpPr>
              <p:spPr>
                <a:xfrm rot="16200000">
                  <a:off x="757800" y="4944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V="1" rot="5400000">
                  <a:off x="784440" y="4944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04960" y="4768560"/>
                  <a:ext cx="360" cy="191880"/>
                </a:xfrm>
                <a:custGeom>
                  <a:avLst/>
                  <a:gdLst/>
                  <a:ahLst/>
                  <a:rect l="l" t="t" r="r" b="b"/>
                  <a:pathLst>
                    <a:path w="1" h="2233">
                      <a:moveTo>
                        <a:pt x="1" y="0"/>
                      </a:moveTo>
                      <a:lnTo>
                        <a:pt x="0" y="223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97960" y="4764960"/>
                  <a:ext cx="360" cy="190080"/>
                </a:xfrm>
                <a:custGeom>
                  <a:avLst/>
                  <a:gdLst/>
                  <a:ahLst/>
                  <a:rect l="l" t="t" r="r" b="b"/>
                  <a:pathLst>
                    <a:path w="1" h="2210">
                      <a:moveTo>
                        <a:pt x="0" y="0"/>
                      </a:moveTo>
                      <a:lnTo>
                        <a:pt x="0" y="221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66080" y="4774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16400" y="4774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64920" y="477504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13080" y="4774320"/>
                  <a:ext cx="23040" cy="17460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88320" y="475884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39800" y="475812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35040" y="4759560"/>
                  <a:ext cx="28080" cy="20664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97960" y="4758840"/>
                  <a:ext cx="14760" cy="103320"/>
                </a:xfrm>
                <a:custGeom>
                  <a:avLst/>
                  <a:gdLst/>
                  <a:ahLst/>
                  <a:rect l="l" t="t" r="r" b="b"/>
                  <a:pathLst>
                    <a:path w="171" h="1203">
                      <a:moveTo>
                        <a:pt x="171" y="0"/>
                      </a:moveTo>
                      <a:lnTo>
                        <a:pt x="0" y="120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90560" y="4860720"/>
                  <a:ext cx="14400" cy="105480"/>
                </a:xfrm>
                <a:custGeom>
                  <a:avLst/>
                  <a:gdLst/>
                  <a:ahLst/>
                  <a:rect l="l" t="t" r="r" b="b"/>
                  <a:pathLst>
                    <a:path w="169" h="1227">
                      <a:moveTo>
                        <a:pt x="169" y="0"/>
                      </a:moveTo>
                      <a:lnTo>
                        <a:pt x="0" y="1227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rot="5400000">
                  <a:off x="481680" y="4833720"/>
                  <a:ext cx="185760" cy="46080"/>
                </a:xfrm>
                <a:custGeom>
                  <a:avLst/>
                  <a:gdLst>
                    <a:gd name="textAreaLeft" fmla="*/ 53280 w 185760"/>
                    <a:gd name="textAreaRight" fmla="*/ 132480 w 185760"/>
                    <a:gd name="textAreaTop" fmla="*/ 12960 h 46080"/>
                    <a:gd name="textAreaBottom" fmla="*/ 33120 h 46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11" y="21600"/>
                      </a:lnTo>
                      <a:lnTo>
                        <a:pt x="79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848484"/>
                    </a:gs>
                    <a:gs pos="100000">
                      <a:srgbClr val="ffffff"/>
                    </a:gs>
                  </a:gsLst>
                  <a:lin ang="5400000"/>
                </a:gra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2" name=""/>
            <p:cNvGrpSpPr/>
            <p:nvPr/>
          </p:nvGrpSpPr>
          <p:grpSpPr>
            <a:xfrm>
              <a:off x="1493640" y="3657600"/>
              <a:ext cx="277560" cy="1984320"/>
              <a:chOff x="1493640" y="3657600"/>
              <a:chExt cx="277560" cy="198432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1493640" y="3756240"/>
                <a:ext cx="277560" cy="1885680"/>
                <a:chOff x="1493640" y="3756240"/>
                <a:chExt cx="277560" cy="1885680"/>
              </a:xfrm>
            </p:grpSpPr>
            <p:sp>
              <p:nvSpPr>
                <p:cNvPr id="1224" name=""/>
                <p:cNvSpPr/>
                <p:nvPr/>
              </p:nvSpPr>
              <p:spPr>
                <a:xfrm flipH="1">
                  <a:off x="1494720" y="3821040"/>
                  <a:ext cx="276480" cy="182088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1493280" y="3756240"/>
                  <a:ext cx="277560" cy="139320"/>
                </a:xfrm>
                <a:prstGeom prst="ellipse">
                  <a:avLst/>
                </a:prstGeom>
                <a:noFill/>
                <a:ln w="64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1493640" y="3657600"/>
                <a:ext cx="277560" cy="389160"/>
                <a:chOff x="1493640" y="3657600"/>
                <a:chExt cx="277560" cy="389160"/>
              </a:xfrm>
            </p:grpSpPr>
            <p:sp>
              <p:nvSpPr>
                <p:cNvPr id="1227" name=""/>
                <p:cNvSpPr/>
                <p:nvPr/>
              </p:nvSpPr>
              <p:spPr>
                <a:xfrm flipH="1">
                  <a:off x="1523880" y="3813120"/>
                  <a:ext cx="218520" cy="233640"/>
                </a:xfrm>
                <a:prstGeom prst="can">
                  <a:avLst>
                    <a:gd name="adj" fmla="val 34722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1493280" y="3657600"/>
                  <a:ext cx="277560" cy="23364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1530360" y="3672000"/>
                  <a:ext cx="20448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5e2f"/>
                    </a:gs>
                    <a:gs pos="100000">
                      <a:srgbClr val="00cc66"/>
                    </a:gs>
                  </a:gsLst>
                  <a:lin ang="10800000"/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0" name=""/>
              <p:cNvSpPr/>
              <p:nvPr/>
            </p:nvSpPr>
            <p:spPr>
              <a:xfrm flipH="1">
                <a:off x="1504800" y="4303800"/>
                <a:ext cx="256680" cy="1230480"/>
              </a:xfrm>
              <a:prstGeom prst="can">
                <a:avLst>
                  <a:gd name="adj" fmla="val 10092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1508040" y="4308480"/>
                <a:ext cx="258120" cy="115920"/>
              </a:xfrm>
              <a:prstGeom prst="ellipse">
                <a:avLst/>
              </a:prstGeom>
              <a:solidFill>
                <a:srgbClr val="99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2" name=""/>
            <p:cNvSpPr/>
            <p:nvPr/>
          </p:nvSpPr>
          <p:spPr>
            <a:xfrm flipH="1">
              <a:off x="1777320" y="4813200"/>
              <a:ext cx="615960" cy="96840"/>
            </a:xfrm>
            <a:prstGeom prst="leftArrow">
              <a:avLst>
                <a:gd name="adj1" fmla="val 50000"/>
                <a:gd name="adj2" fmla="val 159015"/>
              </a:avLst>
            </a:prstGeom>
            <a:solidFill>
              <a:srgbClr val="99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1434960" y="4819680"/>
              <a:ext cx="108000" cy="92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1333440" y="4464000"/>
              <a:ext cx="108000" cy="844560"/>
            </a:xfrm>
            <a:custGeom>
              <a:avLst/>
              <a:gdLst/>
              <a:ahLst/>
              <a:rect l="l" t="t" r="r" b="b"/>
              <a:pathLst>
                <a:path w="604" h="4718">
                  <a:moveTo>
                    <a:pt x="604" y="4127"/>
                  </a:moveTo>
                  <a:lnTo>
                    <a:pt x="0" y="4718"/>
                  </a:lnTo>
                  <a:lnTo>
                    <a:pt x="0" y="578"/>
                  </a:lnTo>
                  <a:lnTo>
                    <a:pt x="591" y="0"/>
                  </a:lnTo>
                  <a:lnTo>
                    <a:pt x="591" y="4114"/>
                  </a:lnTo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1125360" y="4794120"/>
              <a:ext cx="246240" cy="155880"/>
            </a:xfrm>
            <a:custGeom>
              <a:avLst/>
              <a:gdLst/>
              <a:ahLst/>
              <a:rect l="l" t="t" r="r" b="b"/>
              <a:pathLst>
                <a:path w="699" h="280">
                  <a:moveTo>
                    <a:pt x="0" y="2"/>
                  </a:moveTo>
                  <a:lnTo>
                    <a:pt x="695" y="0"/>
                  </a:lnTo>
                  <a:lnTo>
                    <a:pt x="624" y="141"/>
                  </a:lnTo>
                  <a:lnTo>
                    <a:pt x="699" y="279"/>
                  </a:lnTo>
                  <a:lnTo>
                    <a:pt x="0" y="28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437920" y="4720680"/>
              <a:ext cx="685800" cy="259560"/>
              <a:chOff x="2437920" y="4720680"/>
              <a:chExt cx="685800" cy="259560"/>
            </a:xfrm>
          </p:grpSpPr>
          <p:sp>
            <p:nvSpPr>
              <p:cNvPr id="1237" name=""/>
              <p:cNvSpPr/>
              <p:nvPr/>
            </p:nvSpPr>
            <p:spPr>
              <a:xfrm flipH="1">
                <a:off x="2458800" y="482904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417" h="1">
                    <a:moveTo>
                      <a:pt x="417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2561400" y="4879800"/>
                <a:ext cx="561960" cy="1800"/>
              </a:xfrm>
              <a:custGeom>
                <a:avLst/>
                <a:gdLst/>
                <a:ahLst/>
                <a:rect l="l" t="t" r="r" b="b"/>
                <a:pathLst>
                  <a:path w="417" h="1">
                    <a:moveTo>
                      <a:pt x="417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 rot="21409200">
                <a:off x="2471400" y="4723920"/>
                <a:ext cx="135000" cy="249120"/>
              </a:xfrm>
              <a:custGeom>
                <a:avLst/>
                <a:gdLst/>
                <a:ahLst/>
                <a:rect l="l" t="t" r="r" b="b"/>
                <a:pathLst>
                  <a:path w="699" h="1068">
                    <a:moveTo>
                      <a:pt x="699" y="48"/>
                    </a:moveTo>
                    <a:lnTo>
                      <a:pt x="621" y="12"/>
                    </a:lnTo>
                    <a:lnTo>
                      <a:pt x="417" y="0"/>
                    </a:lnTo>
                    <a:lnTo>
                      <a:pt x="108" y="144"/>
                    </a:lnTo>
                    <a:lnTo>
                      <a:pt x="57" y="260"/>
                    </a:lnTo>
                    <a:lnTo>
                      <a:pt x="0" y="456"/>
                    </a:lnTo>
                    <a:lnTo>
                      <a:pt x="21" y="759"/>
                    </a:lnTo>
                    <a:lnTo>
                      <a:pt x="69" y="888"/>
                    </a:lnTo>
                    <a:lnTo>
                      <a:pt x="183" y="1035"/>
                    </a:lnTo>
                    <a:lnTo>
                      <a:pt x="351" y="1068"/>
                    </a:lnTo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50000">
                    <a:srgbClr val="ffffff"/>
                  </a:gs>
                  <a:gs pos="100000">
                    <a:srgbClr val="9c9c9c"/>
                  </a:gs>
                </a:gsLst>
                <a:lin ang="5400000"/>
              </a:gradFill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 rot="21409200">
                <a:off x="2444400" y="4733640"/>
                <a:ext cx="138240" cy="243000"/>
              </a:xfrm>
              <a:custGeom>
                <a:avLst/>
                <a:gdLst/>
                <a:ahLst/>
                <a:rect l="l" t="t" r="r" b="b"/>
                <a:pathLst>
                  <a:path w="705" h="1044">
                    <a:moveTo>
                      <a:pt x="93" y="180"/>
                    </a:moveTo>
                    <a:lnTo>
                      <a:pt x="51" y="276"/>
                    </a:lnTo>
                    <a:lnTo>
                      <a:pt x="12" y="396"/>
                    </a:lnTo>
                    <a:lnTo>
                      <a:pt x="0" y="525"/>
                    </a:lnTo>
                    <a:lnTo>
                      <a:pt x="12" y="669"/>
                    </a:lnTo>
                    <a:lnTo>
                      <a:pt x="63" y="870"/>
                    </a:lnTo>
                    <a:lnTo>
                      <a:pt x="138" y="969"/>
                    </a:lnTo>
                    <a:lnTo>
                      <a:pt x="207" y="1044"/>
                    </a:lnTo>
                    <a:lnTo>
                      <a:pt x="606" y="822"/>
                    </a:lnTo>
                    <a:lnTo>
                      <a:pt x="645" y="732"/>
                    </a:lnTo>
                    <a:lnTo>
                      <a:pt x="687" y="621"/>
                    </a:lnTo>
                    <a:lnTo>
                      <a:pt x="705" y="426"/>
                    </a:lnTo>
                    <a:lnTo>
                      <a:pt x="687" y="240"/>
                    </a:lnTo>
                    <a:lnTo>
                      <a:pt x="642" y="126"/>
                    </a:lnTo>
                    <a:lnTo>
                      <a:pt x="564" y="27"/>
                    </a:lnTo>
                    <a:lnTo>
                      <a:pt x="468" y="0"/>
                    </a:lnTo>
                    <a:lnTo>
                      <a:pt x="93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 rot="21409200">
                <a:off x="2451960" y="4819320"/>
                <a:ext cx="14400" cy="3168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 rot="21409200">
                <a:off x="2548440" y="4868280"/>
                <a:ext cx="15840" cy="3348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rot="21409200">
                <a:off x="2471040" y="4744800"/>
                <a:ext cx="76320" cy="211320"/>
              </a:xfrm>
              <a:custGeom>
                <a:avLst/>
                <a:gdLst/>
                <a:ahLst/>
                <a:rect l="l" t="t" r="r" b="b"/>
                <a:pathLst>
                  <a:path w="387" h="904">
                    <a:moveTo>
                      <a:pt x="249" y="0"/>
                    </a:moveTo>
                    <a:lnTo>
                      <a:pt x="9" y="121"/>
                    </a:lnTo>
                    <a:lnTo>
                      <a:pt x="0" y="190"/>
                    </a:lnTo>
                    <a:lnTo>
                      <a:pt x="24" y="232"/>
                    </a:lnTo>
                    <a:lnTo>
                      <a:pt x="255" y="112"/>
                    </a:lnTo>
                    <a:lnTo>
                      <a:pt x="303" y="145"/>
                    </a:lnTo>
                    <a:lnTo>
                      <a:pt x="276" y="211"/>
                    </a:lnTo>
                    <a:lnTo>
                      <a:pt x="72" y="310"/>
                    </a:lnTo>
                    <a:lnTo>
                      <a:pt x="45" y="370"/>
                    </a:lnTo>
                    <a:lnTo>
                      <a:pt x="90" y="406"/>
                    </a:lnTo>
                    <a:lnTo>
                      <a:pt x="264" y="322"/>
                    </a:lnTo>
                    <a:lnTo>
                      <a:pt x="306" y="352"/>
                    </a:lnTo>
                    <a:lnTo>
                      <a:pt x="285" y="424"/>
                    </a:lnTo>
                    <a:lnTo>
                      <a:pt x="108" y="508"/>
                    </a:lnTo>
                    <a:lnTo>
                      <a:pt x="93" y="574"/>
                    </a:lnTo>
                    <a:lnTo>
                      <a:pt x="114" y="615"/>
                    </a:lnTo>
                    <a:lnTo>
                      <a:pt x="309" y="517"/>
                    </a:lnTo>
                    <a:lnTo>
                      <a:pt x="348" y="544"/>
                    </a:lnTo>
                    <a:lnTo>
                      <a:pt x="327" y="607"/>
                    </a:lnTo>
                    <a:lnTo>
                      <a:pt x="111" y="715"/>
                    </a:lnTo>
                    <a:lnTo>
                      <a:pt x="78" y="781"/>
                    </a:lnTo>
                    <a:lnTo>
                      <a:pt x="129" y="820"/>
                    </a:lnTo>
                    <a:lnTo>
                      <a:pt x="339" y="703"/>
                    </a:lnTo>
                    <a:lnTo>
                      <a:pt x="387" y="730"/>
                    </a:lnTo>
                    <a:lnTo>
                      <a:pt x="366" y="787"/>
                    </a:lnTo>
                    <a:lnTo>
                      <a:pt x="168" y="90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 flipH="1">
              <a:off x="1816200" y="4394160"/>
              <a:ext cx="838080" cy="31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0.512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2743200" y="4495680"/>
              <a:ext cx="380880" cy="31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380880" y="4114800"/>
              <a:ext cx="990720" cy="3070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Grey 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060640"/>
            <a:ext cx="2518920" cy="910800"/>
            <a:chOff x="3276720" y="2060640"/>
            <a:chExt cx="2518920" cy="910800"/>
          </a:xfrm>
        </p:grpSpPr>
        <p:sp>
          <p:nvSpPr>
            <p:cNvPr id="1248" name=""/>
            <p:cNvSpPr/>
            <p:nvPr/>
          </p:nvSpPr>
          <p:spPr>
            <a:xfrm>
              <a:off x="3276720" y="2060640"/>
              <a:ext cx="2518920" cy="91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3764160" y="2225880"/>
                  <a:ext cx="1636920" cy="62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γ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276720" y="4581360"/>
                <a:ext cx="3214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E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51" name=""/>
          <p:cNvGrpSpPr/>
          <p:nvPr/>
        </p:nvGrpSpPr>
        <p:grpSpPr>
          <a:xfrm>
            <a:off x="5867280" y="3073320"/>
            <a:ext cx="3049560" cy="1219320"/>
            <a:chOff x="5867280" y="3073320"/>
            <a:chExt cx="3049560" cy="1219320"/>
          </a:xfrm>
        </p:grpSpPr>
        <p:sp>
          <p:nvSpPr>
            <p:cNvPr id="1252" name=""/>
            <p:cNvSpPr/>
            <p:nvPr/>
          </p:nvSpPr>
          <p:spPr>
            <a:xfrm>
              <a:off x="5867280" y="3073320"/>
              <a:ext cx="2895480" cy="1219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5867280" y="3193920"/>
                  <a:ext cx="3049560" cy="107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r>
                        <m:t xml:space="preserve">=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2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4" name=""/>
          <p:cNvGrpSpPr/>
          <p:nvPr/>
        </p:nvGrpSpPr>
        <p:grpSpPr>
          <a:xfrm>
            <a:off x="5219640" y="2971800"/>
            <a:ext cx="622080" cy="1464480"/>
            <a:chOff x="5219640" y="2971800"/>
            <a:chExt cx="622080" cy="1464480"/>
          </a:xfrm>
        </p:grpSpPr>
        <p:sp>
          <p:nvSpPr>
            <p:cNvPr id="1255" name=""/>
            <p:cNvSpPr/>
            <p:nvPr/>
          </p:nvSpPr>
          <p:spPr>
            <a:xfrm>
              <a:off x="5219640" y="2971800"/>
              <a:ext cx="622080" cy="56988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lnTo>
                    <a:pt x="0" y="432"/>
                  </a:lnTo>
                  <a:lnTo>
                    <a:pt x="384" y="432"/>
                  </a:lnTo>
                </a:path>
              </a:pathLst>
            </a:custGeom>
            <a:noFill/>
            <a:ln w="572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5219640" y="3866040"/>
              <a:ext cx="622080" cy="56988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lnTo>
                    <a:pt x="0" y="432"/>
                  </a:lnTo>
                  <a:lnTo>
                    <a:pt x="384" y="432"/>
                  </a:lnTo>
                </a:path>
              </a:pathLst>
            </a:custGeom>
            <a:noFill/>
            <a:ln w="572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"/>
          <p:cNvGrpSpPr/>
          <p:nvPr/>
        </p:nvGrpSpPr>
        <p:grpSpPr>
          <a:xfrm>
            <a:off x="4343400" y="457200"/>
            <a:ext cx="4041720" cy="1719000"/>
            <a:chOff x="4343400" y="457200"/>
            <a:chExt cx="4041720" cy="1719000"/>
          </a:xfrm>
        </p:grpSpPr>
        <p:grpSp>
          <p:nvGrpSpPr>
            <p:cNvPr id="1258" name=""/>
            <p:cNvGrpSpPr/>
            <p:nvPr/>
          </p:nvGrpSpPr>
          <p:grpSpPr>
            <a:xfrm>
              <a:off x="7444800" y="957240"/>
              <a:ext cx="940320" cy="1065240"/>
              <a:chOff x="7444800" y="957240"/>
              <a:chExt cx="940320" cy="106524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7641000" y="957240"/>
                <a:ext cx="163080" cy="1064160"/>
                <a:chOff x="7641000" y="957240"/>
                <a:chExt cx="163080" cy="1064160"/>
              </a:xfrm>
            </p:grpSpPr>
            <p:sp>
              <p:nvSpPr>
                <p:cNvPr id="1260" name=""/>
                <p:cNvSpPr/>
                <p:nvPr/>
              </p:nvSpPr>
              <p:spPr>
                <a:xfrm flipH="1">
                  <a:off x="7640640" y="957240"/>
                  <a:ext cx="163080" cy="44028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>
                  <a:off x="7640640" y="1580760"/>
                  <a:ext cx="163080" cy="44028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144"/>
                      </a:moveTo>
                      <a:lnTo>
                        <a:pt x="0" y="1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"/>
              <p:cNvSpPr/>
              <p:nvPr/>
            </p:nvSpPr>
            <p:spPr>
              <a:xfrm rot="16182000">
                <a:off x="7447680" y="1391040"/>
                <a:ext cx="263520" cy="1764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1463400">
                <a:off x="7489440" y="1363680"/>
                <a:ext cx="87480" cy="235080"/>
              </a:xfrm>
              <a:custGeom>
                <a:avLst/>
                <a:gdLst/>
                <a:ahLst/>
                <a:rect l="l" t="t" r="r" b="b"/>
                <a:pathLst>
                  <a:path w="402" h="1071">
                    <a:moveTo>
                      <a:pt x="18" y="0"/>
                    </a:moveTo>
                    <a:lnTo>
                      <a:pt x="0" y="399"/>
                    </a:lnTo>
                    <a:lnTo>
                      <a:pt x="51" y="495"/>
                    </a:lnTo>
                    <a:lnTo>
                      <a:pt x="72" y="129"/>
                    </a:lnTo>
                    <a:lnTo>
                      <a:pt x="141" y="249"/>
                    </a:lnTo>
                    <a:lnTo>
                      <a:pt x="114" y="639"/>
                    </a:lnTo>
                    <a:lnTo>
                      <a:pt x="174" y="753"/>
                    </a:lnTo>
                    <a:lnTo>
                      <a:pt x="201" y="315"/>
                    </a:lnTo>
                    <a:lnTo>
                      <a:pt x="267" y="414"/>
                    </a:lnTo>
                    <a:lnTo>
                      <a:pt x="237" y="813"/>
                    </a:lnTo>
                    <a:lnTo>
                      <a:pt x="309" y="891"/>
                    </a:lnTo>
                    <a:lnTo>
                      <a:pt x="327" y="480"/>
                    </a:lnTo>
                    <a:lnTo>
                      <a:pt x="402" y="582"/>
                    </a:lnTo>
                    <a:lnTo>
                      <a:pt x="381" y="1071"/>
                    </a:lnTo>
                  </a:path>
                </a:pathLst>
              </a:custGeom>
              <a:noFill/>
              <a:ln w="12600">
                <a:solidFill>
                  <a:srgbClr val="66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463400">
                <a:off x="7540560" y="1563480"/>
                <a:ext cx="11160" cy="219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463400">
                <a:off x="7519680" y="1358640"/>
                <a:ext cx="11160" cy="2052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7790760" y="957240"/>
                <a:ext cx="407880" cy="1065240"/>
              </a:xfrm>
              <a:custGeom>
                <a:avLst/>
                <a:gdLst/>
                <a:ahLst/>
                <a:rect l="l" t="t" r="r" b="b"/>
                <a:pathLst>
                  <a:path w="240" h="528">
                    <a:moveTo>
                      <a:pt x="240" y="0"/>
                    </a:moveTo>
                    <a:lnTo>
                      <a:pt x="0" y="0"/>
                    </a:lnTo>
                    <a:lnTo>
                      <a:pt x="0" y="528"/>
                    </a:lnTo>
                    <a:lnTo>
                      <a:pt x="240" y="528"/>
                    </a:lnTo>
                  </a:path>
                </a:pathLst>
              </a:cu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053560" y="1298520"/>
                <a:ext cx="331560" cy="33336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 flipH="1">
              <a:off x="6162840" y="1066680"/>
              <a:ext cx="885600" cy="8496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4910040" y="731880"/>
              <a:ext cx="1449360" cy="663480"/>
            </a:xfrm>
            <a:custGeom>
              <a:avLst/>
              <a:gdLst/>
              <a:ahLst/>
              <a:rect l="l" t="t" r="r" b="b"/>
              <a:pathLst>
                <a:path w="850" h="388">
                  <a:moveTo>
                    <a:pt x="2" y="388"/>
                  </a:moveTo>
                  <a:lnTo>
                    <a:pt x="0" y="202"/>
                  </a:lnTo>
                  <a:lnTo>
                    <a:pt x="620" y="202"/>
                  </a:lnTo>
                  <a:lnTo>
                    <a:pt x="850" y="0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907240" y="1224000"/>
              <a:ext cx="452160" cy="696960"/>
            </a:xfrm>
            <a:custGeom>
              <a:avLst/>
              <a:gdLst/>
              <a:ahLst/>
              <a:rect l="l" t="t" r="r" b="b"/>
              <a:pathLst>
                <a:path w="266" h="409">
                  <a:moveTo>
                    <a:pt x="0" y="0"/>
                  </a:moveTo>
                  <a:lnTo>
                    <a:pt x="265" y="0"/>
                  </a:lnTo>
                  <a:lnTo>
                    <a:pt x="266" y="405"/>
                  </a:lnTo>
                  <a:lnTo>
                    <a:pt x="6" y="409"/>
                  </a:lnTo>
                  <a:lnTo>
                    <a:pt x="6" y="285"/>
                  </a:lnTo>
                  <a:lnTo>
                    <a:pt x="74" y="285"/>
                  </a:lnTo>
                  <a:lnTo>
                    <a:pt x="74" y="157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753160" y="1328760"/>
              <a:ext cx="333360" cy="333360"/>
            </a:xfrm>
            <a:prstGeom prst="ellipse">
              <a:avLst/>
            </a:prstGeom>
            <a:solidFill>
              <a:srgbClr val="ffcc66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57640" y="649440"/>
              <a:ext cx="115920" cy="67284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67240" y="488880"/>
              <a:ext cx="646200" cy="390600"/>
            </a:xfrm>
            <a:custGeom>
              <a:avLst/>
              <a:gdLst/>
              <a:ahLst/>
              <a:rect l="l" t="t" r="r" b="b"/>
              <a:pathLst>
                <a:path w="1305" h="405">
                  <a:moveTo>
                    <a:pt x="1305" y="165"/>
                  </a:moveTo>
                  <a:lnTo>
                    <a:pt x="1305" y="1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4343400" y="888840"/>
              <a:ext cx="268200" cy="600120"/>
              <a:chOff x="4343400" y="888840"/>
              <a:chExt cx="268200" cy="60012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4343400" y="888840"/>
                <a:ext cx="268200" cy="80640"/>
                <a:chOff x="4343400" y="888840"/>
                <a:chExt cx="268200" cy="8064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343400" y="888840"/>
                  <a:ext cx="2682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03880" y="969480"/>
                  <a:ext cx="1339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343400" y="1061640"/>
                <a:ext cx="268200" cy="80640"/>
                <a:chOff x="4343400" y="1061640"/>
                <a:chExt cx="268200" cy="8064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343400" y="1061640"/>
                  <a:ext cx="2682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403880" y="1142280"/>
                  <a:ext cx="1339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343400" y="1234800"/>
                <a:ext cx="268200" cy="80640"/>
                <a:chOff x="4343400" y="1234800"/>
                <a:chExt cx="268200" cy="8064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343400" y="1234800"/>
                  <a:ext cx="2682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03880" y="1315440"/>
                  <a:ext cx="1339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343400" y="1408320"/>
                <a:ext cx="268200" cy="80640"/>
                <a:chOff x="4343400" y="1408320"/>
                <a:chExt cx="268200" cy="8064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343400" y="1408320"/>
                  <a:ext cx="2682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03880" y="1488960"/>
                  <a:ext cx="1339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5114880" y="1319040"/>
              <a:ext cx="360" cy="586080"/>
            </a:xfrm>
            <a:custGeom>
              <a:avLst/>
              <a:gdLst/>
              <a:ahLst/>
              <a:rect l="l" t="t" r="r" b="b"/>
              <a:pathLst>
                <a:path w="1" h="608">
                  <a:moveTo>
                    <a:pt x="0" y="0"/>
                  </a:moveTo>
                  <a:lnTo>
                    <a:pt x="0" y="608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4465800" y="1498680"/>
              <a:ext cx="1441440" cy="417600"/>
            </a:xfrm>
            <a:custGeom>
              <a:avLst/>
              <a:gdLst/>
              <a:ahLst/>
              <a:rect l="l" t="t" r="r" b="b"/>
              <a:pathLst>
                <a:path w="844" h="244">
                  <a:moveTo>
                    <a:pt x="844" y="0"/>
                  </a:moveTo>
                  <a:lnTo>
                    <a:pt x="844" y="240"/>
                  </a:lnTo>
                  <a:lnTo>
                    <a:pt x="0" y="244"/>
                  </a:lnTo>
                </a:path>
              </a:pathLst>
            </a:cu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16480" y="1749600"/>
              <a:ext cx="333360" cy="333360"/>
            </a:xfrm>
            <a:prstGeom prst="ellipse">
              <a:avLst/>
            </a:prstGeom>
            <a:solidFill>
              <a:srgbClr val="99ffcc"/>
            </a:solidFill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6232680" y="1380600"/>
              <a:ext cx="480600" cy="187560"/>
              <a:chOff x="6232680" y="1380600"/>
              <a:chExt cx="480600" cy="187560"/>
            </a:xfrm>
          </p:grpSpPr>
          <p:sp>
            <p:nvSpPr>
              <p:cNvPr id="1291" name=""/>
              <p:cNvSpPr/>
              <p:nvPr/>
            </p:nvSpPr>
            <p:spPr>
              <a:xfrm flipH="1" rot="5400000">
                <a:off x="6479280" y="1334520"/>
                <a:ext cx="187560" cy="279720"/>
              </a:xfrm>
              <a:custGeom>
                <a:avLst/>
                <a:gdLst>
                  <a:gd name="textAreaLeft" fmla="*/ 22680 w 187560"/>
                  <a:gd name="textAreaRight" fmla="*/ 164880 w 187560"/>
                  <a:gd name="textAreaTop" fmla="*/ 22680 h 279720"/>
                  <a:gd name="textAreaBottom" fmla="*/ 257040 h 279720"/>
                </a:gdLst>
                <a:ahLst/>
                <a:rect l="textAreaLeft" t="textAreaTop" r="textAreaRight" b="textAreaBottom"/>
                <a:pathLst>
                  <a:path w="21600" h="32193">
                    <a:moveTo>
                      <a:pt x="8960" y="0"/>
                    </a:moveTo>
                    <a:arcTo wR="8960" hR="8960" stAng="16200000" swAng="-5400000"/>
                    <a:lnTo>
                      <a:pt x="0" y="23233"/>
                    </a:lnTo>
                    <a:arcTo wR="8960" hR="8960" stAng="10800000" swAng="-5400000"/>
                    <a:lnTo>
                      <a:pt x="12640" y="32193"/>
                    </a:lnTo>
                    <a:arcTo wR="8960" hR="8960" stAng="5400000" swAng="-5400000"/>
                    <a:lnTo>
                      <a:pt x="21600" y="8960"/>
                    </a:lnTo>
                    <a:arcTo wR="8960" hR="896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2" name=""/>
              <p:cNvGrpSpPr/>
              <p:nvPr/>
            </p:nvGrpSpPr>
            <p:grpSpPr>
              <a:xfrm>
                <a:off x="6469560" y="1438200"/>
                <a:ext cx="124920" cy="75600"/>
                <a:chOff x="6469560" y="1438200"/>
                <a:chExt cx="124920" cy="75600"/>
              </a:xfrm>
            </p:grpSpPr>
            <p:sp>
              <p:nvSpPr>
                <p:cNvPr id="1293" name=""/>
                <p:cNvSpPr/>
                <p:nvPr/>
              </p:nvSpPr>
              <p:spPr>
                <a:xfrm flipH="1">
                  <a:off x="6469200" y="1438200"/>
                  <a:ext cx="124920" cy="2520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 flipV="1">
                  <a:off x="6469200" y="1488600"/>
                  <a:ext cx="124920" cy="25200"/>
                </a:xfrm>
                <a:custGeom>
                  <a:avLst/>
                  <a:gdLst/>
                  <a:ahLst/>
                  <a:rect l="l" t="t" r="r" b="b"/>
                  <a:pathLst>
                    <a:path w="900" h="180">
                      <a:moveTo>
                        <a:pt x="900" y="180"/>
                      </a:moveTo>
                      <a:lnTo>
                        <a:pt x="540" y="18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"/>
              <p:cNvSpPr/>
              <p:nvPr/>
            </p:nvSpPr>
            <p:spPr>
              <a:xfrm flipH="1">
                <a:off x="6495120" y="1451520"/>
                <a:ext cx="46440" cy="4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c9c9c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6591960" y="1440000"/>
                <a:ext cx="98640" cy="7272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300" y="0"/>
                    </a:moveTo>
                    <a:lnTo>
                      <a:pt x="0" y="84"/>
                    </a:lnTo>
                    <a:lnTo>
                      <a:pt x="300" y="219"/>
                    </a:lnTo>
                  </a:path>
                </a:pathLst>
              </a:custGeom>
              <a:noFill/>
              <a:ln w="381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6232680" y="1384200"/>
                <a:ext cx="233280" cy="180720"/>
                <a:chOff x="6232680" y="1384200"/>
                <a:chExt cx="233280" cy="18072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6232680" y="1451520"/>
                  <a:ext cx="26640" cy="40320"/>
                </a:xfrm>
                <a:prstGeom prst="ellipse">
                  <a:avLst/>
                </a:prstGeom>
                <a:solidFill>
                  <a:srgbClr val="969696"/>
                </a:soli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287040" y="1393560"/>
                  <a:ext cx="178920" cy="16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acaca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6285960" y="1385280"/>
                  <a:ext cx="177840" cy="12960"/>
                  <a:chOff x="6285960" y="1385280"/>
                  <a:chExt cx="177840" cy="1296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 rot="16200000">
                    <a:off x="6290280" y="1380600"/>
                    <a:ext cx="12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V="1" rot="5400000">
                    <a:off x="6312960" y="1381320"/>
                    <a:ext cx="12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rot="16200000">
                    <a:off x="6334560" y="1380600"/>
                    <a:ext cx="12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V="1" rot="5400000">
                    <a:off x="6357600" y="1381320"/>
                    <a:ext cx="122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5" name=""/>
                  <p:cNvGrpSpPr/>
                  <p:nvPr/>
                </p:nvGrpSpPr>
                <p:grpSpPr>
                  <a:xfrm>
                    <a:off x="6374880" y="1385280"/>
                    <a:ext cx="44280" cy="12960"/>
                    <a:chOff x="6374880" y="1385280"/>
                    <a:chExt cx="44280" cy="12960"/>
                  </a:xfrm>
                </p:grpSpPr>
                <p:sp>
                  <p:nvSpPr>
                    <p:cNvPr id="1306" name=""/>
                    <p:cNvSpPr/>
                    <p:nvPr/>
                  </p:nvSpPr>
                  <p:spPr>
                    <a:xfrm rot="16200000">
                      <a:off x="6379200" y="1380600"/>
                      <a:ext cx="122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 flipV="1" rot="5400000">
                      <a:off x="6402240" y="1381320"/>
                      <a:ext cx="122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6419520" y="1385280"/>
                    <a:ext cx="44280" cy="12960"/>
                    <a:chOff x="6419520" y="1385280"/>
                    <a:chExt cx="44280" cy="1296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 rot="16200000">
                      <a:off x="6423840" y="1380600"/>
                      <a:ext cx="122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 flipV="1" rot="5400000">
                      <a:off x="6446880" y="1381320"/>
                      <a:ext cx="122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10266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1026653"/>
                        </a:path>
                      </a:pathLst>
                    </a:custGeom>
                    <a:noFill/>
                    <a:ln w="648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11" name=""/>
                <p:cNvSpPr/>
                <p:nvPr/>
              </p:nvSpPr>
              <p:spPr>
                <a:xfrm rot="16200000">
                  <a:off x="6289920" y="1546200"/>
                  <a:ext cx="136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V="1" rot="5400000">
                  <a:off x="6312960" y="1546560"/>
                  <a:ext cx="136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16200000">
                  <a:off x="6334200" y="1546200"/>
                  <a:ext cx="13680" cy="2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 rot="5400000">
                  <a:off x="6357600" y="1546560"/>
                  <a:ext cx="136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6375240" y="1550520"/>
                  <a:ext cx="44280" cy="14400"/>
                  <a:chOff x="6375240" y="1550520"/>
                  <a:chExt cx="44280" cy="144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 rot="16200000">
                    <a:off x="6378480" y="1546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V="1" rot="5400000">
                    <a:off x="6401520" y="1546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 rot="16200000">
                  <a:off x="6423480" y="1545840"/>
                  <a:ext cx="136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V="1" rot="5400000">
                  <a:off x="6446520" y="1546560"/>
                  <a:ext cx="13680" cy="2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464520" y="1393200"/>
                  <a:ext cx="360" cy="166680"/>
                </a:xfrm>
                <a:custGeom>
                  <a:avLst/>
                  <a:gdLst/>
                  <a:ahLst/>
                  <a:rect l="l" t="t" r="r" b="b"/>
                  <a:pathLst>
                    <a:path w="1" h="2233">
                      <a:moveTo>
                        <a:pt x="1" y="0"/>
                      </a:moveTo>
                      <a:lnTo>
                        <a:pt x="0" y="223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285960" y="1390320"/>
                  <a:ext cx="360" cy="164880"/>
                </a:xfrm>
                <a:custGeom>
                  <a:avLst/>
                  <a:gdLst/>
                  <a:ahLst/>
                  <a:rect l="l" t="t" r="r" b="b"/>
                  <a:pathLst>
                    <a:path w="1" h="2210">
                      <a:moveTo>
                        <a:pt x="0" y="0"/>
                      </a:moveTo>
                      <a:lnTo>
                        <a:pt x="0" y="221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6431040" y="1398240"/>
                  <a:ext cx="19800" cy="15156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6388200" y="1398240"/>
                  <a:ext cx="19800" cy="15192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343560" y="1398960"/>
                  <a:ext cx="19800" cy="15156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298560" y="1398240"/>
                  <a:ext cx="19800" cy="151920"/>
                </a:xfrm>
                <a:custGeom>
                  <a:avLst/>
                  <a:gdLst/>
                  <a:ahLst/>
                  <a:rect l="l" t="t" r="r" b="b"/>
                  <a:pathLst>
                    <a:path w="270" h="2030">
                      <a:moveTo>
                        <a:pt x="270" y="0"/>
                      </a:moveTo>
                      <a:lnTo>
                        <a:pt x="0" y="203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363720" y="1384920"/>
                  <a:ext cx="24120" cy="179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408000" y="1384200"/>
                  <a:ext cx="24120" cy="179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318000" y="1385640"/>
                  <a:ext cx="24120" cy="179280"/>
                </a:xfrm>
                <a:custGeom>
                  <a:avLst/>
                  <a:gdLst/>
                  <a:ahLst/>
                  <a:rect l="l" t="t" r="r" b="b"/>
                  <a:pathLst>
                    <a:path w="330" h="2400">
                      <a:moveTo>
                        <a:pt x="330" y="0"/>
                      </a:moveTo>
                      <a:lnTo>
                        <a:pt x="0" y="2400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285960" y="1384920"/>
                  <a:ext cx="12600" cy="89640"/>
                </a:xfrm>
                <a:custGeom>
                  <a:avLst/>
                  <a:gdLst/>
                  <a:ahLst/>
                  <a:rect l="l" t="t" r="r" b="b"/>
                  <a:pathLst>
                    <a:path w="171" h="1203">
                      <a:moveTo>
                        <a:pt x="171" y="0"/>
                      </a:moveTo>
                      <a:lnTo>
                        <a:pt x="0" y="1203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451920" y="1473480"/>
                  <a:ext cx="12240" cy="91440"/>
                </a:xfrm>
                <a:custGeom>
                  <a:avLst/>
                  <a:gdLst/>
                  <a:ahLst/>
                  <a:rect l="l" t="t" r="r" b="b"/>
                  <a:pathLst>
                    <a:path w="169" h="1227">
                      <a:moveTo>
                        <a:pt x="169" y="0"/>
                      </a:moveTo>
                      <a:lnTo>
                        <a:pt x="0" y="1227"/>
                      </a:lnTo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rot="5400000">
                  <a:off x="6184800" y="1449720"/>
                  <a:ext cx="161280" cy="39960"/>
                </a:xfrm>
                <a:custGeom>
                  <a:avLst/>
                  <a:gdLst>
                    <a:gd name="textAreaLeft" fmla="*/ 46080 w 161280"/>
                    <a:gd name="textAreaRight" fmla="*/ 115200 w 161280"/>
                    <a:gd name="textAreaTop" fmla="*/ 11520 h 39960"/>
                    <a:gd name="textAreaBottom" fmla="*/ 28440 h 3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611" y="21600"/>
                      </a:lnTo>
                      <a:lnTo>
                        <a:pt x="798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848484"/>
                    </a:gs>
                    <a:gs pos="100000">
                      <a:srgbClr val="ffffff"/>
                    </a:gs>
                  </a:gsLst>
                  <a:lin ang="5400000"/>
                </a:gradFill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2" name=""/>
            <p:cNvGrpSpPr/>
            <p:nvPr/>
          </p:nvGrpSpPr>
          <p:grpSpPr>
            <a:xfrm>
              <a:off x="7020000" y="457200"/>
              <a:ext cx="241200" cy="1719000"/>
              <a:chOff x="7020000" y="457200"/>
              <a:chExt cx="241200" cy="17190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027200" y="952200"/>
                <a:ext cx="231840" cy="1212840"/>
                <a:chOff x="7027200" y="952200"/>
                <a:chExt cx="231840" cy="1212840"/>
              </a:xfrm>
            </p:grpSpPr>
            <p:sp>
              <p:nvSpPr>
                <p:cNvPr id="1334" name=""/>
                <p:cNvSpPr/>
                <p:nvPr/>
              </p:nvSpPr>
              <p:spPr>
                <a:xfrm flipH="1">
                  <a:off x="7027920" y="993600"/>
                  <a:ext cx="230760" cy="117144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7027200" y="952200"/>
                  <a:ext cx="231840" cy="8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e00"/>
                    </a:gs>
                    <a:gs pos="50000">
                      <a:srgbClr val="99cc00"/>
                    </a:gs>
                    <a:gs pos="100000">
                      <a:srgbClr val="465e00"/>
                    </a:gs>
                  </a:gsLst>
                  <a:lin ang="10800000"/>
                </a:gra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7020000" y="542160"/>
                <a:ext cx="241200" cy="1634040"/>
                <a:chOff x="7020000" y="542160"/>
                <a:chExt cx="241200" cy="1634040"/>
              </a:xfrm>
            </p:grpSpPr>
            <p:sp>
              <p:nvSpPr>
                <p:cNvPr id="1337" name=""/>
                <p:cNvSpPr/>
                <p:nvPr/>
              </p:nvSpPr>
              <p:spPr>
                <a:xfrm flipH="1">
                  <a:off x="7020720" y="598320"/>
                  <a:ext cx="240120" cy="1577880"/>
                </a:xfrm>
                <a:custGeom>
                  <a:avLst/>
                  <a:gdLst/>
                  <a:ahLst/>
                  <a:rect l="l" t="t" r="r" b="b"/>
                  <a:pathLst>
                    <a:path w="423" h="2808">
                      <a:moveTo>
                        <a:pt x="0" y="0"/>
                      </a:moveTo>
                      <a:lnTo>
                        <a:pt x="423" y="3"/>
                      </a:lnTo>
                      <a:lnTo>
                        <a:pt x="423" y="2613"/>
                      </a:lnTo>
                      <a:lnTo>
                        <a:pt x="399" y="2691"/>
                      </a:lnTo>
                      <a:lnTo>
                        <a:pt x="351" y="2757"/>
                      </a:lnTo>
                      <a:lnTo>
                        <a:pt x="297" y="2793"/>
                      </a:lnTo>
                      <a:lnTo>
                        <a:pt x="204" y="2808"/>
                      </a:lnTo>
                      <a:lnTo>
                        <a:pt x="135" y="2793"/>
                      </a:lnTo>
                      <a:lnTo>
                        <a:pt x="72" y="2754"/>
                      </a:lnTo>
                      <a:lnTo>
                        <a:pt x="24" y="2694"/>
                      </a:lnTo>
                      <a:lnTo>
                        <a:pt x="0" y="26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7020000" y="542160"/>
                  <a:ext cx="241200" cy="120600"/>
                </a:xfrm>
                <a:prstGeom prst="ellips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7020000" y="457200"/>
                <a:ext cx="241200" cy="336240"/>
                <a:chOff x="7020000" y="457200"/>
                <a:chExt cx="241200" cy="336240"/>
              </a:xfrm>
            </p:grpSpPr>
            <p:sp>
              <p:nvSpPr>
                <p:cNvPr id="1340" name=""/>
                <p:cNvSpPr/>
                <p:nvPr/>
              </p:nvSpPr>
              <p:spPr>
                <a:xfrm flipH="1">
                  <a:off x="7046280" y="591480"/>
                  <a:ext cx="189720" cy="201960"/>
                </a:xfrm>
                <a:prstGeom prst="can">
                  <a:avLst>
                    <a:gd name="adj" fmla="val 34722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7020000" y="457200"/>
                  <a:ext cx="241200" cy="201960"/>
                </a:xfrm>
                <a:prstGeom prst="can">
                  <a:avLst>
                    <a:gd name="adj" fmla="val 38888"/>
                  </a:avLst>
                </a:prstGeom>
                <a:gradFill rotWithShape="0">
                  <a:gsLst>
                    <a:gs pos="0">
                      <a:srgbClr val="007038"/>
                    </a:gs>
                    <a:gs pos="50000">
                      <a:srgbClr val="00cc66"/>
                    </a:gs>
                    <a:gs pos="100000">
                      <a:srgbClr val="007038"/>
                    </a:gs>
                  </a:gsLst>
                  <a:lin ang="10800000"/>
                </a:gra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>
                  <a:off x="7051680" y="469440"/>
                  <a:ext cx="177480" cy="5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5e2f"/>
                    </a:gs>
                    <a:gs pos="100000">
                      <a:srgbClr val="00cc66"/>
                    </a:gs>
                  </a:gsLst>
                  <a:lin ang="10800000"/>
                </a:gra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3" name=""/>
          <p:cNvSpPr/>
          <p:nvPr/>
        </p:nvSpPr>
        <p:spPr>
          <a:xfrm>
            <a:off x="468360" y="476280"/>
            <a:ext cx="3422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OLLEC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539640" y="2205000"/>
            <a:ext cx="8089920" cy="2361960"/>
            <a:chOff x="539640" y="2205000"/>
            <a:chExt cx="8089920" cy="2361960"/>
          </a:xfrm>
        </p:grpSpPr>
        <p:sp>
          <p:nvSpPr>
            <p:cNvPr id="1345" name=""/>
            <p:cNvSpPr/>
            <p:nvPr/>
          </p:nvSpPr>
          <p:spPr>
            <a:xfrm>
              <a:off x="539640" y="2205000"/>
              <a:ext cx="5790960" cy="23619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66800" y="2357280"/>
              <a:ext cx="672840" cy="3373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bb704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9000" y="2357280"/>
              <a:ext cx="711000" cy="3373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7ac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95840" y="2205000"/>
              <a:ext cx="2133720" cy="23619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648120" y="2357280"/>
              <a:ext cx="762120" cy="33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bb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35040" y="235728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=V/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06480" y="2357280"/>
              <a:ext cx="142884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T = a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11640" y="235728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-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562520" y="2344680"/>
              <a:ext cx="762120" cy="337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n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4932360" y="4797360"/>
            <a:ext cx="2438280" cy="1805040"/>
            <a:chOff x="4932360" y="4797360"/>
            <a:chExt cx="2438280" cy="1805040"/>
          </a:xfrm>
        </p:grpSpPr>
        <p:sp>
          <p:nvSpPr>
            <p:cNvPr id="1355" name=""/>
            <p:cNvSpPr/>
            <p:nvPr/>
          </p:nvSpPr>
          <p:spPr>
            <a:xfrm>
              <a:off x="4932360" y="4797360"/>
              <a:ext cx="2438280" cy="1805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89200" y="5031000"/>
              <a:ext cx="1828440" cy="1295280"/>
            </a:xfrm>
            <a:custGeom>
              <a:avLst/>
              <a:gdLst/>
              <a:ahLst/>
              <a:rect l="l" t="t" r="r" b="b"/>
              <a:pathLst>
                <a:path w="1152" h="864">
                  <a:moveTo>
                    <a:pt x="0" y="0"/>
                  </a:moveTo>
                  <a:lnTo>
                    <a:pt x="0" y="864"/>
                  </a:lnTo>
                  <a:lnTo>
                    <a:pt x="1152" y="864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76600" y="5002200"/>
              <a:ext cx="1612440" cy="863640"/>
            </a:xfrm>
            <a:custGeom>
              <a:avLst/>
              <a:gdLst/>
              <a:ahLst/>
              <a:rect l="l" t="t" r="r" b="b"/>
              <a:pathLst>
                <a:path w="1016" h="544">
                  <a:moveTo>
                    <a:pt x="1016" y="0"/>
                  </a:moveTo>
                  <a:lnTo>
                    <a:pt x="0" y="544"/>
                  </a:lnTo>
                </a:path>
              </a:pathLst>
            </a:custGeom>
            <a:noFill/>
            <a:ln w="38160">
              <a:solidFill>
                <a:srgbClr val="66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711840" y="6326280"/>
              <a:ext cx="505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i="1" lang="es-ES" sz="1400" spc="-1" strike="noStrike" baseline="-25000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1" i="1" lang="es-ES" sz="1400" spc="-1" strike="noStrike" baseline="30000">
                  <a:solidFill>
                    <a:srgbClr val="ffff00"/>
                  </a:solidFill>
                  <a:latin typeface="Times New Roman"/>
                </a:rPr>
                <a:t>-0.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84640" y="4878360"/>
              <a:ext cx="30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00"/>
                  </a:solidFill>
                  <a:latin typeface="Times New Roman"/>
                </a:rPr>
                <a:t>ln</a:t>
              </a: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7520" y="5293080"/>
              <a:ext cx="852840" cy="85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0" y="5645"/>
                  </a:moveTo>
                  <a:arcTo wR="10800" hR="10800" stAng="-1710547" swAng="171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0" y="5645"/>
                  </a:moveTo>
                  <a:arcTo wR="10800" hR="10800" stAng="-1710547" swAng="1710547"/>
                </a:path>
              </a:pathLst>
            </a:custGeom>
            <a:solidFill>
              <a:srgbClr val="008080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1" name=""/>
                <p:cNvSpPr txBox="1"/>
                <p:nvPr/>
              </p:nvSpPr>
              <p:spPr>
                <a:xfrm>
                  <a:off x="6365520" y="5343480"/>
                  <a:ext cx="7822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γ</m:t>
                          </m:r>
                        </m:num>
                        <m:den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62" name=""/>
            <p:cNvSpPr/>
            <p:nvPr/>
          </p:nvSpPr>
          <p:spPr>
            <a:xfrm>
              <a:off x="6075000" y="5626080"/>
              <a:ext cx="3045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787320" y="2959200"/>
            <a:ext cx="7505640" cy="383400"/>
            <a:chOff x="787320" y="2959200"/>
            <a:chExt cx="7505640" cy="383400"/>
          </a:xfrm>
        </p:grpSpPr>
        <p:sp>
          <p:nvSpPr>
            <p:cNvPr id="1364" name=""/>
            <p:cNvSpPr/>
            <p:nvPr/>
          </p:nvSpPr>
          <p:spPr>
            <a:xfrm>
              <a:off x="1635120" y="2971800"/>
              <a:ext cx="672840" cy="3708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bb70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87320" y="2971800"/>
              <a:ext cx="711000" cy="3708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7ac8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16440" y="297180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bb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03360" y="297180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574800" y="2971800"/>
              <a:ext cx="142884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79960" y="297180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1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-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530840" y="295920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n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787320" y="3340080"/>
            <a:ext cx="7505640" cy="408960"/>
            <a:chOff x="787320" y="3340080"/>
            <a:chExt cx="7505640" cy="408960"/>
          </a:xfrm>
        </p:grpSpPr>
        <p:sp>
          <p:nvSpPr>
            <p:cNvPr id="1372" name=""/>
            <p:cNvSpPr/>
            <p:nvPr/>
          </p:nvSpPr>
          <p:spPr>
            <a:xfrm>
              <a:off x="1635120" y="3352680"/>
              <a:ext cx="672840" cy="3708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bb70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7320" y="3352680"/>
              <a:ext cx="711000" cy="3708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7ac8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16440" y="335268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bb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403360" y="337824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74800" y="3378240"/>
              <a:ext cx="142884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79960" y="337824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2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-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530840" y="334008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n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787320" y="3720960"/>
            <a:ext cx="7505640" cy="408960"/>
            <a:chOff x="787320" y="3720960"/>
            <a:chExt cx="7505640" cy="408960"/>
          </a:xfrm>
        </p:grpSpPr>
        <p:sp>
          <p:nvSpPr>
            <p:cNvPr id="1380" name=""/>
            <p:cNvSpPr/>
            <p:nvPr/>
          </p:nvSpPr>
          <p:spPr>
            <a:xfrm>
              <a:off x="1635120" y="3733560"/>
              <a:ext cx="672840" cy="3708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bb70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7320" y="3733560"/>
              <a:ext cx="711000" cy="3708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7ac8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16440" y="373356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bb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03360" y="375912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574800" y="3759120"/>
              <a:ext cx="142884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79960" y="375912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3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-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530840" y="372096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n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787320" y="4102200"/>
            <a:ext cx="7505640" cy="408600"/>
            <a:chOff x="787320" y="4102200"/>
            <a:chExt cx="7505640" cy="408600"/>
          </a:xfrm>
        </p:grpSpPr>
        <p:sp>
          <p:nvSpPr>
            <p:cNvPr id="1388" name=""/>
            <p:cNvSpPr/>
            <p:nvPr/>
          </p:nvSpPr>
          <p:spPr>
            <a:xfrm>
              <a:off x="1635120" y="4114800"/>
              <a:ext cx="672840" cy="37080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bb70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7320" y="4114800"/>
              <a:ext cx="711000" cy="3708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7ac8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16440" y="411480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bbb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403360" y="414000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74800" y="4140000"/>
              <a:ext cx="142884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79960" y="4140000"/>
              <a:ext cx="106668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Bn</a:t>
              </a:r>
              <a:r>
                <a:rPr b="1" i="1" lang="es-ES" sz="1600" spc="-1" strike="noStrike" baseline="30000">
                  <a:solidFill>
                    <a:srgbClr val="000000"/>
                  </a:solidFill>
                  <a:latin typeface="Times New Roman"/>
                </a:rPr>
                <a:t>-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530840" y="4102200"/>
              <a:ext cx="762120" cy="3708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2a2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n</a:t>
              </a:r>
              <a:r>
                <a:rPr b="1" i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6248520" y="2971800"/>
            <a:ext cx="2133360" cy="2146320"/>
            <a:chOff x="6248520" y="2971800"/>
            <a:chExt cx="2133360" cy="2146320"/>
          </a:xfrm>
        </p:grpSpPr>
        <p:sp>
          <p:nvSpPr>
            <p:cNvPr id="1396" name=""/>
            <p:cNvSpPr/>
            <p:nvPr/>
          </p:nvSpPr>
          <p:spPr>
            <a:xfrm>
              <a:off x="6248520" y="2997360"/>
              <a:ext cx="1440" cy="1955520"/>
            </a:xfrm>
            <a:custGeom>
              <a:avLst/>
              <a:gdLst/>
              <a:ahLst/>
              <a:rect l="l" t="t" r="r" b="b"/>
              <a:pathLst>
                <a:path w="1" h="1232">
                  <a:moveTo>
                    <a:pt x="0" y="0"/>
                  </a:moveTo>
                  <a:lnTo>
                    <a:pt x="1" y="1232"/>
                  </a:lnTo>
                </a:path>
              </a:pathLst>
            </a:custGeom>
            <a:noFill/>
            <a:ln w="7632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89640" y="2971800"/>
              <a:ext cx="1092240" cy="2146320"/>
            </a:xfrm>
            <a:custGeom>
              <a:avLst/>
              <a:gdLst/>
              <a:ahLst/>
              <a:rect l="l" t="t" r="r" b="b"/>
              <a:pathLst>
                <a:path w="688" h="1352">
                  <a:moveTo>
                    <a:pt x="688" y="0"/>
                  </a:moveTo>
                  <a:lnTo>
                    <a:pt x="688" y="1352"/>
                  </a:lnTo>
                  <a:lnTo>
                    <a:pt x="0" y="1352"/>
                  </a:lnTo>
                </a:path>
              </a:pathLst>
            </a:custGeom>
            <a:noFill/>
            <a:ln w="7632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5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8" name=""/>
          <p:cNvGrpSpPr/>
          <p:nvPr/>
        </p:nvGrpSpPr>
        <p:grpSpPr>
          <a:xfrm>
            <a:off x="2540160" y="1181160"/>
            <a:ext cx="2438280" cy="1805040"/>
            <a:chOff x="2540160" y="1181160"/>
            <a:chExt cx="2438280" cy="1805040"/>
          </a:xfrm>
        </p:grpSpPr>
        <p:sp>
          <p:nvSpPr>
            <p:cNvPr id="1399" name=""/>
            <p:cNvSpPr/>
            <p:nvPr/>
          </p:nvSpPr>
          <p:spPr>
            <a:xfrm>
              <a:off x="2540160" y="1181160"/>
              <a:ext cx="2438280" cy="1805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0" name=""/>
                <p:cNvSpPr txBox="1"/>
                <p:nvPr/>
              </p:nvSpPr>
              <p:spPr>
                <a:xfrm>
                  <a:off x="3798720" y="1641600"/>
                  <a:ext cx="10512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γ</m:t>
                          </m:r>
                        </m:num>
                        <m:den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1" name=""/>
            <p:cNvSpPr/>
            <p:nvPr/>
          </p:nvSpPr>
          <p:spPr>
            <a:xfrm>
              <a:off x="2844720" y="1427040"/>
              <a:ext cx="1828800" cy="1295640"/>
            </a:xfrm>
            <a:custGeom>
              <a:avLst/>
              <a:gdLst/>
              <a:ahLst/>
              <a:rect l="l" t="t" r="r" b="b"/>
              <a:pathLst>
                <a:path w="1152" h="864">
                  <a:moveTo>
                    <a:pt x="0" y="0"/>
                  </a:moveTo>
                  <a:lnTo>
                    <a:pt x="0" y="864"/>
                  </a:lnTo>
                  <a:lnTo>
                    <a:pt x="1152" y="864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32120" y="1398600"/>
              <a:ext cx="1612800" cy="863640"/>
            </a:xfrm>
            <a:custGeom>
              <a:avLst/>
              <a:gdLst/>
              <a:ahLst/>
              <a:rect l="l" t="t" r="r" b="b"/>
              <a:pathLst>
                <a:path w="1016" h="544">
                  <a:moveTo>
                    <a:pt x="1016" y="0"/>
                  </a:moveTo>
                  <a:lnTo>
                    <a:pt x="0" y="544"/>
                  </a:lnTo>
                </a:path>
              </a:pathLst>
            </a:custGeom>
            <a:noFill/>
            <a:ln w="38160">
              <a:solidFill>
                <a:srgbClr val="66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68960" y="2722680"/>
              <a:ext cx="563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r>
                <a:rPr b="1" i="1" lang="es-ES" sz="1400" spc="-1" strike="noStrike" baseline="-25000">
                  <a:solidFill>
                    <a:srgbClr val="ffff00"/>
                  </a:solidFill>
                  <a:latin typeface="Times New Roman"/>
                </a:rPr>
                <a:t>B</a:t>
              </a:r>
              <a:r>
                <a:rPr b="1" i="1" lang="es-ES" sz="1400" spc="-1" strike="noStrike" baseline="30000">
                  <a:solidFill>
                    <a:srgbClr val="ffff00"/>
                  </a:solidFill>
                  <a:latin typeface="Times New Roman"/>
                </a:rPr>
                <a:t>-0.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40160" y="1274760"/>
              <a:ext cx="30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00"/>
                  </a:solidFill>
                  <a:latin typeface="Times New Roman"/>
                </a:rPr>
                <a:t>ln</a:t>
              </a:r>
              <a:r>
                <a:rPr b="1" i="1" lang="es-ES" sz="1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22680" y="1688760"/>
              <a:ext cx="853560" cy="8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0" y="5645"/>
                  </a:moveTo>
                  <a:arcTo wR="10800" hR="10800" stAng="-1710547" swAng="171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0" y="5645"/>
                  </a:moveTo>
                  <a:arcTo wR="10800" hR="10800" stAng="-1710547" swAng="1710547"/>
                </a:path>
              </a:pathLst>
            </a:custGeom>
            <a:solidFill>
              <a:srgbClr val="008080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3429000" y="304920"/>
            <a:ext cx="25113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From the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95680" y="914400"/>
            <a:ext cx="0" cy="76212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378240" y="3162240"/>
            <a:ext cx="17524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We ob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40360" y="2476440"/>
            <a:ext cx="0" cy="76212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3522600" y="3760920"/>
                <a:ext cx="1297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1" name=""/>
          <p:cNvSpPr/>
          <p:nvPr/>
        </p:nvSpPr>
        <p:spPr>
          <a:xfrm>
            <a:off x="4140360" y="3492360"/>
            <a:ext cx="1440" cy="444600"/>
          </a:xfrm>
          <a:custGeom>
            <a:avLst/>
            <a:gdLst/>
            <a:ahLst/>
            <a:rect l="l" t="t" r="r" b="b"/>
            <a:pathLst>
              <a:path w="1" h="280">
                <a:moveTo>
                  <a:pt x="0" y="0"/>
                </a:moveTo>
                <a:lnTo>
                  <a:pt x="0" y="280"/>
                </a:lnTo>
              </a:path>
            </a:pathLst>
          </a:custGeom>
          <a:noFill/>
          <a:ln w="5724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76520" y="4838760"/>
            <a:ext cx="56386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And finally the </a:t>
            </a:r>
            <a:r>
              <a:rPr b="1" i="1" lang="es-ES" sz="2000" spc="-1" strike="noStrike">
                <a:solidFill>
                  <a:srgbClr val="ff3300"/>
                </a:solidFill>
                <a:latin typeface="Times New Roman"/>
              </a:rPr>
              <a:t> Planck´s constant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4419720"/>
            <a:ext cx="1440" cy="444240"/>
          </a:xfrm>
          <a:custGeom>
            <a:avLst/>
            <a:gdLst/>
            <a:ahLst/>
            <a:rect l="l" t="t" r="r" b="b"/>
            <a:pathLst>
              <a:path w="1" h="280">
                <a:moveTo>
                  <a:pt x="0" y="0"/>
                </a:moveTo>
                <a:lnTo>
                  <a:pt x="0" y="280"/>
                </a:lnTo>
              </a:path>
            </a:pathLst>
          </a:custGeom>
          <a:noFill/>
          <a:ln w="5724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564000" y="5445000"/>
                <a:ext cx="1177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5" name=""/>
          <p:cNvSpPr/>
          <p:nvPr/>
        </p:nvSpPr>
        <p:spPr>
          <a:xfrm>
            <a:off x="5003640" y="5445000"/>
            <a:ext cx="2667240" cy="120276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s-ES" sz="1800" spc="-1" strike="noStrike">
                <a:solidFill>
                  <a:srgbClr val="0033cc"/>
                </a:solidFill>
                <a:latin typeface="Times New Roman"/>
              </a:rPr>
              <a:t>: Planck´s cons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0" lang="es-ES" sz="1800" spc="-1" strike="noStrike">
                <a:solidFill>
                  <a:srgbClr val="0033cc"/>
                </a:solidFill>
                <a:latin typeface="Times New Roman"/>
              </a:rPr>
              <a:t>: Boltzmann´s consta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s-ES" sz="1800" spc="-1" strike="noStrike">
                <a:solidFill>
                  <a:srgbClr val="0033cc"/>
                </a:solidFill>
                <a:latin typeface="Times New Roman"/>
              </a:rPr>
              <a:t>: speed of l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127400" y="5143680"/>
            <a:ext cx="1800" cy="444240"/>
          </a:xfrm>
          <a:custGeom>
            <a:avLst/>
            <a:gdLst/>
            <a:ahLst/>
            <a:rect l="l" t="t" r="r" b="b"/>
            <a:pathLst>
              <a:path w="1" h="280">
                <a:moveTo>
                  <a:pt x="0" y="0"/>
                </a:moveTo>
                <a:lnTo>
                  <a:pt x="0" y="280"/>
                </a:lnTo>
              </a:path>
            </a:pathLst>
          </a:custGeom>
          <a:noFill/>
          <a:ln w="5724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2411280" y="191628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End of presen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idea of light qua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Times New Roman"/>
              </a:rPr>
              <a:t>Planck (1900)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emission of radiant energy by matter does not take place continuously, but in finite “quanta of energy” h</a:t>
            </a:r>
            <a:r>
              <a:rPr b="0" i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Planck’s constant 6.63x10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3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J.s,               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=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Times New Roman"/>
              </a:rPr>
              <a:t>Einstein (1905):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light quanta (photons) as inherent in the nature of radiation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35280" y="5300640"/>
            <a:ext cx="14382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333360"/>
            <a:ext cx="73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Distribution of intensity  of heat radiation as a function of the waveleng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56720" y="1484280"/>
            <a:ext cx="118728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Times New Roman"/>
              </a:rPr>
              <a:t>Emissivity (=1 for  perfect  black-body radi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56720" y="3933720"/>
            <a:ext cx="11872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s-ES" sz="16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s-ES" sz="16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s-ES" sz="16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s-ES" sz="1600" spc="-1" strike="noStrike">
                <a:solidFill>
                  <a:srgbClr val="ffff99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Times New Roman"/>
              </a:rPr>
              <a:t>Constant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021360"/>
            <a:ext cx="50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7600" cy="4029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140360" y="2205000"/>
                <a:ext cx="31683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04000" y="2060640"/>
            <a:ext cx="151308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2133720"/>
            <a:ext cx="287964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ere  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c/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h: Planck’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c: velocity of lig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k: Boltzmann’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9640" y="1989000"/>
                <a:ext cx="4105440" cy="246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11280" y="40464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Planck’s radiation law    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diation energy per time unit for the wavelength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85264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5013360"/>
            <a:ext cx="3602160" cy="1440000"/>
          </a:xfrm>
          <a:prstGeom prst="wedgeEllipseCallout">
            <a:avLst>
              <a:gd name="adj1" fmla="val -96935"/>
              <a:gd name="adj2" fmla="val -1862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in objective of this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228600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66"/>
                </a:solidFill>
                <a:latin typeface="Times New Roman"/>
              </a:rPr>
              <a:t>Report on  the experimen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80880"/>
            <a:ext cx="7543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mission of a 12 V tungsten l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155600" y="1295280"/>
            <a:ext cx="5796000" cy="3438360"/>
            <a:chOff x="1155600" y="1295280"/>
            <a:chExt cx="5796000" cy="3438360"/>
          </a:xfrm>
        </p:grpSpPr>
        <p:sp>
          <p:nvSpPr>
            <p:cNvPr id="65" name=""/>
            <p:cNvSpPr/>
            <p:nvPr/>
          </p:nvSpPr>
          <p:spPr>
            <a:xfrm>
              <a:off x="1155600" y="1295280"/>
              <a:ext cx="463680" cy="38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6600"/>
                  </a:solidFill>
                  <a:latin typeface="Times New Roman"/>
                </a:rPr>
                <a:t>u</a:t>
              </a:r>
              <a:r>
                <a:rPr b="0" lang="es-ES_tradnl" sz="1800" spc="-1" strike="noStrike" baseline="-25000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65840" y="4267080"/>
              <a:ext cx="1957320" cy="46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6600"/>
                  </a:solidFill>
                  <a:latin typeface="Times New Roman"/>
                </a:rPr>
                <a:t>wavelength, </a:t>
              </a:r>
              <a:r>
                <a:rPr b="0" i="1" lang="es-ES_tradnl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27200" y="1385640"/>
              <a:ext cx="5324400" cy="2770200"/>
            </a:xfrm>
            <a:custGeom>
              <a:avLst/>
              <a:gdLst/>
              <a:ahLst/>
              <a:rect l="l" t="t" r="r" b="b"/>
              <a:pathLst>
                <a:path w="2202" h="1147">
                  <a:moveTo>
                    <a:pt x="0" y="0"/>
                  </a:moveTo>
                  <a:lnTo>
                    <a:pt x="0" y="1145"/>
                  </a:lnTo>
                  <a:lnTo>
                    <a:pt x="2202" y="11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215040" y="1395360"/>
                <a:ext cx="23544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" name=""/>
          <p:cNvGrpSpPr/>
          <p:nvPr/>
        </p:nvGrpSpPr>
        <p:grpSpPr>
          <a:xfrm>
            <a:off x="3390840" y="5714640"/>
            <a:ext cx="928800" cy="360360"/>
            <a:chOff x="3390840" y="5714640"/>
            <a:chExt cx="928800" cy="360360"/>
          </a:xfrm>
        </p:grpSpPr>
        <p:sp>
          <p:nvSpPr>
            <p:cNvPr id="70" name=""/>
            <p:cNvSpPr/>
            <p:nvPr/>
          </p:nvSpPr>
          <p:spPr>
            <a:xfrm flipH="1" rot="5400000">
              <a:off x="3870000" y="5625360"/>
              <a:ext cx="360360" cy="538560"/>
            </a:xfrm>
            <a:custGeom>
              <a:avLst/>
              <a:gdLst>
                <a:gd name="textAreaLeft" fmla="*/ 43560 w 360360"/>
                <a:gd name="textAreaRight" fmla="*/ 316800 w 360360"/>
                <a:gd name="textAreaTop" fmla="*/ 43560 h 538560"/>
                <a:gd name="textAreaBottom" fmla="*/ 495000 h 538560"/>
              </a:gdLst>
              <a:ahLst/>
              <a:rect l="textAreaLeft" t="textAreaTop" r="textAreaRight" b="textAreaBottom"/>
              <a:pathLst>
                <a:path w="21600" h="32271">
                  <a:moveTo>
                    <a:pt x="8960" y="0"/>
                  </a:moveTo>
                  <a:arcTo wR="8960" hR="8960" stAng="16200000" swAng="-5400000"/>
                  <a:lnTo>
                    <a:pt x="0" y="23311"/>
                  </a:lnTo>
                  <a:arcTo wR="8960" hR="8960" stAng="10800000" swAng="-5400000"/>
                  <a:lnTo>
                    <a:pt x="12640" y="32271"/>
                  </a:lnTo>
                  <a:arcTo wR="8960" hR="8960" stAng="5400000" swAng="-5400000"/>
                  <a:lnTo>
                    <a:pt x="21600" y="8960"/>
                  </a:lnTo>
                  <a:arcTo wR="8960" hR="8960" stAng="0" swAng="-5400000"/>
                  <a:close/>
                </a:path>
              </a:pathLst>
            </a:custGeom>
            <a:noFill/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849120" y="5824800"/>
              <a:ext cx="240840" cy="144720"/>
              <a:chOff x="3849120" y="5824800"/>
              <a:chExt cx="240840" cy="14472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3848760" y="5824800"/>
                <a:ext cx="24084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3848760" y="5921280"/>
                <a:ext cx="24084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H="1">
              <a:off x="3899520" y="5850360"/>
              <a:ext cx="90000" cy="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9c9c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84920" y="5828760"/>
              <a:ext cx="190080" cy="13896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300" y="0"/>
                  </a:moveTo>
                  <a:lnTo>
                    <a:pt x="0" y="84"/>
                  </a:lnTo>
                  <a:lnTo>
                    <a:pt x="300" y="219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390840" y="5726880"/>
              <a:ext cx="449280" cy="346320"/>
              <a:chOff x="3390840" y="5726880"/>
              <a:chExt cx="449280" cy="346320"/>
            </a:xfrm>
          </p:grpSpPr>
          <p:sp>
            <p:nvSpPr>
              <p:cNvPr id="77" name=""/>
              <p:cNvSpPr/>
              <p:nvPr/>
            </p:nvSpPr>
            <p:spPr>
              <a:xfrm>
                <a:off x="3390840" y="5855760"/>
                <a:ext cx="51120" cy="77400"/>
              </a:xfrm>
              <a:prstGeom prst="ellipse">
                <a:avLst/>
              </a:prstGeom>
              <a:solidFill>
                <a:srgbClr val="969696"/>
              </a:soli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95600" y="5745240"/>
                <a:ext cx="344520" cy="309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caca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493440" y="5729040"/>
                <a:ext cx="342720" cy="25200"/>
                <a:chOff x="3493440" y="5729040"/>
                <a:chExt cx="342720" cy="25200"/>
              </a:xfrm>
            </p:grpSpPr>
            <p:sp>
              <p:nvSpPr>
                <p:cNvPr id="80" name=""/>
                <p:cNvSpPr/>
                <p:nvPr/>
              </p:nvSpPr>
              <p:spPr>
                <a:xfrm rot="16200000">
                  <a:off x="3502080" y="57200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 rot="5400000">
                  <a:off x="3545640" y="57207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6200000">
                  <a:off x="3587760" y="57200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 rot="5400000">
                  <a:off x="3631320" y="57207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3664800" y="5729040"/>
                  <a:ext cx="85680" cy="25200"/>
                  <a:chOff x="3664800" y="5729040"/>
                  <a:chExt cx="85680" cy="2520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 rot="16200000">
                    <a:off x="3673440" y="57200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 rot="5400000">
                    <a:off x="3717000" y="57207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3750480" y="5729040"/>
                  <a:ext cx="85680" cy="25200"/>
                  <a:chOff x="3750480" y="5729040"/>
                  <a:chExt cx="85680" cy="252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rot="16200000">
                    <a:off x="3759120" y="57200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V="1" rot="5400000">
                    <a:off x="3802680" y="57207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" name=""/>
              <p:cNvSpPr/>
              <p:nvPr/>
            </p:nvSpPr>
            <p:spPr>
              <a:xfrm rot="16200000">
                <a:off x="3501000" y="6037920"/>
                <a:ext cx="27720" cy="4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5400000">
                <a:off x="3544560" y="6037560"/>
                <a:ext cx="2772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3586680" y="6037920"/>
                <a:ext cx="2772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5400000">
                <a:off x="3630600" y="6037560"/>
                <a:ext cx="2772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3665520" y="6045120"/>
                <a:ext cx="85680" cy="27720"/>
                <a:chOff x="3665520" y="6045120"/>
                <a:chExt cx="85680" cy="27720"/>
              </a:xfrm>
            </p:grpSpPr>
            <p:sp>
              <p:nvSpPr>
                <p:cNvPr id="95" name=""/>
                <p:cNvSpPr/>
                <p:nvPr/>
              </p:nvSpPr>
              <p:spPr>
                <a:xfrm rot="16200000">
                  <a:off x="3672720" y="603792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 rot="5400000">
                  <a:off x="3716280" y="603756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rot="16200000">
                <a:off x="3758400" y="6037920"/>
                <a:ext cx="2772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 rot="5400000">
                <a:off x="3801960" y="6037560"/>
                <a:ext cx="2772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37240" y="5744160"/>
                <a:ext cx="360" cy="319320"/>
              </a:xfrm>
              <a:custGeom>
                <a:avLst/>
                <a:gdLst/>
                <a:ahLst/>
                <a:rect l="l" t="t" r="r" b="b"/>
                <a:pathLst>
                  <a:path w="1" h="2233">
                    <a:moveTo>
                      <a:pt x="1" y="0"/>
                    </a:moveTo>
                    <a:lnTo>
                      <a:pt x="0" y="223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93440" y="5738400"/>
                <a:ext cx="360" cy="316080"/>
              </a:xfrm>
              <a:custGeom>
                <a:avLst/>
                <a:gdLst/>
                <a:ahLst/>
                <a:rect l="l" t="t" r="r" b="b"/>
                <a:pathLst>
                  <a:path w="1" h="2210">
                    <a:moveTo>
                      <a:pt x="0" y="0"/>
                    </a:moveTo>
                    <a:lnTo>
                      <a:pt x="0" y="221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72800" y="5754240"/>
                <a:ext cx="38520" cy="29052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90360" y="5753520"/>
                <a:ext cx="38520" cy="29088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04680" y="5755320"/>
                <a:ext cx="38520" cy="29052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18280" y="5753520"/>
                <a:ext cx="38520" cy="29088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43200" y="5728320"/>
                <a:ext cx="46800" cy="34380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28880" y="5726880"/>
                <a:ext cx="46800" cy="34380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5000" y="5729400"/>
                <a:ext cx="46800" cy="34380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93440" y="5728320"/>
                <a:ext cx="24480" cy="172080"/>
              </a:xfrm>
              <a:custGeom>
                <a:avLst/>
                <a:gdLst/>
                <a:ahLst/>
                <a:rect l="l" t="t" r="r" b="b"/>
                <a:pathLst>
                  <a:path w="171" h="1203">
                    <a:moveTo>
                      <a:pt x="171" y="0"/>
                    </a:moveTo>
                    <a:lnTo>
                      <a:pt x="0" y="120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3120" y="589788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169" h="1227">
                    <a:moveTo>
                      <a:pt x="169" y="0"/>
                    </a:moveTo>
                    <a:lnTo>
                      <a:pt x="0" y="122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3300480" y="5852520"/>
                <a:ext cx="308880" cy="77040"/>
              </a:xfrm>
              <a:custGeom>
                <a:avLst/>
                <a:gdLst>
                  <a:gd name="textAreaLeft" fmla="*/ 88560 w 308880"/>
                  <a:gd name="textAreaRight" fmla="*/ 220320 w 308880"/>
                  <a:gd name="textAreaTop" fmla="*/ 21960 h 77040"/>
                  <a:gd name="textAreaBottom" fmla="*/ 55080 h 7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11" y="21600"/>
                    </a:lnTo>
                    <a:lnTo>
                      <a:pt x="79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48484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87800" y="50166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7760" y="4191120"/>
            <a:ext cx="3781440" cy="1523880"/>
          </a:xfrm>
          <a:custGeom>
            <a:avLst/>
            <a:gdLst>
              <a:gd name="textAreaLeft" fmla="*/ 1240560 w 3781440"/>
              <a:gd name="textAreaRight" fmla="*/ 2540880 w 3781440"/>
              <a:gd name="textAreaTop" fmla="*/ 500040 h 1523880"/>
              <a:gd name="textAreaBottom" fmla="*/ 1023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95" y="21600"/>
                </a:lnTo>
                <a:lnTo>
                  <a:pt x="9605" y="21600"/>
                </a:lnTo>
                <a:close/>
              </a:path>
            </a:pathLst>
          </a:custGeom>
          <a:gradFill rotWithShape="0">
            <a:gsLst>
              <a:gs pos="0">
                <a:srgbClr val="464638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80880"/>
            <a:ext cx="75438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imes New Roman"/>
              </a:rPr>
              <a:t>The light spectrum emitted by the filament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55600" y="1285920"/>
            <a:ext cx="5796000" cy="3438000"/>
            <a:chOff x="1155600" y="1285920"/>
            <a:chExt cx="5796000" cy="3438000"/>
          </a:xfrm>
        </p:grpSpPr>
        <p:sp>
          <p:nvSpPr>
            <p:cNvPr id="115" name=""/>
            <p:cNvSpPr/>
            <p:nvPr/>
          </p:nvSpPr>
          <p:spPr>
            <a:xfrm>
              <a:off x="1155600" y="1285920"/>
              <a:ext cx="463680" cy="38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6600"/>
                  </a:solidFill>
                  <a:latin typeface="Times New Roman"/>
                </a:rPr>
                <a:t>u</a:t>
              </a:r>
              <a:r>
                <a:rPr b="0" lang="es-ES_tradnl" sz="1800" spc="-1" strike="noStrike" baseline="-25000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7200" y="1376280"/>
              <a:ext cx="5324400" cy="2769840"/>
            </a:xfrm>
            <a:custGeom>
              <a:avLst/>
              <a:gdLst/>
              <a:ahLst/>
              <a:rect l="l" t="t" r="r" b="b"/>
              <a:pathLst>
                <a:path w="2202" h="1147">
                  <a:moveTo>
                    <a:pt x="0" y="0"/>
                  </a:moveTo>
                  <a:lnTo>
                    <a:pt x="0" y="1145"/>
                  </a:lnTo>
                  <a:lnTo>
                    <a:pt x="2202" y="11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5840" y="4257360"/>
              <a:ext cx="19573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6600"/>
                  </a:solidFill>
                  <a:latin typeface="Times New Roman"/>
                </a:rPr>
                <a:t>wavelength, </a:t>
              </a:r>
              <a:r>
                <a:rPr b="0" i="1" lang="es-ES_tradnl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676520" y="1549440"/>
            <a:ext cx="5310000" cy="2585880"/>
          </a:xfrm>
          <a:custGeom>
            <a:avLst/>
            <a:gdLst/>
            <a:ahLst/>
            <a:rect l="l" t="t" r="r" b="b"/>
            <a:pathLst>
              <a:path w="2196" h="1071">
                <a:moveTo>
                  <a:pt x="0" y="1068"/>
                </a:moveTo>
                <a:lnTo>
                  <a:pt x="42" y="1038"/>
                </a:lnTo>
                <a:lnTo>
                  <a:pt x="75" y="1002"/>
                </a:lnTo>
                <a:lnTo>
                  <a:pt x="138" y="825"/>
                </a:lnTo>
                <a:lnTo>
                  <a:pt x="210" y="564"/>
                </a:lnTo>
                <a:lnTo>
                  <a:pt x="261" y="423"/>
                </a:lnTo>
                <a:lnTo>
                  <a:pt x="315" y="282"/>
                </a:lnTo>
                <a:lnTo>
                  <a:pt x="381" y="150"/>
                </a:lnTo>
                <a:lnTo>
                  <a:pt x="444" y="72"/>
                </a:lnTo>
                <a:lnTo>
                  <a:pt x="513" y="15"/>
                </a:lnTo>
                <a:lnTo>
                  <a:pt x="555" y="0"/>
                </a:lnTo>
                <a:lnTo>
                  <a:pt x="597" y="6"/>
                </a:lnTo>
                <a:lnTo>
                  <a:pt x="648" y="18"/>
                </a:lnTo>
                <a:lnTo>
                  <a:pt x="684" y="42"/>
                </a:lnTo>
                <a:lnTo>
                  <a:pt x="756" y="90"/>
                </a:lnTo>
                <a:lnTo>
                  <a:pt x="795" y="126"/>
                </a:lnTo>
                <a:lnTo>
                  <a:pt x="840" y="162"/>
                </a:lnTo>
                <a:lnTo>
                  <a:pt x="897" y="231"/>
                </a:lnTo>
                <a:lnTo>
                  <a:pt x="1017" y="390"/>
                </a:lnTo>
                <a:lnTo>
                  <a:pt x="1107" y="507"/>
                </a:lnTo>
                <a:lnTo>
                  <a:pt x="1182" y="591"/>
                </a:lnTo>
                <a:lnTo>
                  <a:pt x="1290" y="696"/>
                </a:lnTo>
                <a:lnTo>
                  <a:pt x="1377" y="753"/>
                </a:lnTo>
                <a:lnTo>
                  <a:pt x="1494" y="807"/>
                </a:lnTo>
                <a:lnTo>
                  <a:pt x="1650" y="855"/>
                </a:lnTo>
                <a:lnTo>
                  <a:pt x="1818" y="897"/>
                </a:lnTo>
                <a:lnTo>
                  <a:pt x="1953" y="921"/>
                </a:lnTo>
                <a:lnTo>
                  <a:pt x="2046" y="936"/>
                </a:lnTo>
                <a:lnTo>
                  <a:pt x="2196" y="951"/>
                </a:lnTo>
                <a:lnTo>
                  <a:pt x="2196" y="1071"/>
                </a:lnTo>
                <a:lnTo>
                  <a:pt x="0" y="106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767676"/>
              </a:gs>
            </a:gsLst>
            <a:lin ang="5400000"/>
          </a:gra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215040" y="1319040"/>
                <a:ext cx="23544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λ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384720" y="5713560"/>
            <a:ext cx="928440" cy="358560"/>
            <a:chOff x="3384720" y="5713560"/>
            <a:chExt cx="928440" cy="358560"/>
          </a:xfrm>
        </p:grpSpPr>
        <p:sp>
          <p:nvSpPr>
            <p:cNvPr id="121" name=""/>
            <p:cNvSpPr/>
            <p:nvPr/>
          </p:nvSpPr>
          <p:spPr>
            <a:xfrm flipH="1" rot="5400000">
              <a:off x="3863880" y="5622840"/>
              <a:ext cx="358560" cy="540000"/>
            </a:xfrm>
            <a:custGeom>
              <a:avLst/>
              <a:gdLst>
                <a:gd name="textAreaLeft" fmla="*/ 43560 w 358560"/>
                <a:gd name="textAreaRight" fmla="*/ 315000 w 358560"/>
                <a:gd name="textAreaTop" fmla="*/ 43560 h 540000"/>
                <a:gd name="textAreaBottom" fmla="*/ 496440 h 540000"/>
              </a:gdLst>
              <a:ahLst/>
              <a:rect l="textAreaLeft" t="textAreaTop" r="textAreaRight" b="textAreaBottom"/>
              <a:pathLst>
                <a:path w="21600" h="32519">
                  <a:moveTo>
                    <a:pt x="8960" y="0"/>
                  </a:moveTo>
                  <a:arcTo wR="8960" hR="8960" stAng="16200000" swAng="-5400000"/>
                  <a:lnTo>
                    <a:pt x="0" y="23559"/>
                  </a:lnTo>
                  <a:arcTo wR="8960" hR="8960" stAng="10800000" swAng="-5400000"/>
                  <a:lnTo>
                    <a:pt x="12640" y="32519"/>
                  </a:lnTo>
                  <a:arcTo wR="8960" hR="8960" stAng="5400000" swAng="-5400000"/>
                  <a:lnTo>
                    <a:pt x="21600" y="8960"/>
                  </a:lnTo>
                  <a:arcTo wR="8960" hR="896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43000" y="5823000"/>
              <a:ext cx="241200" cy="144360"/>
              <a:chOff x="3843000" y="5823000"/>
              <a:chExt cx="241200" cy="1443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3843000" y="582300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843000" y="591912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3892320" y="5848560"/>
              <a:ext cx="900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9c9c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077360" y="5826240"/>
              <a:ext cx="190440" cy="13932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300" y="0"/>
                  </a:moveTo>
                  <a:lnTo>
                    <a:pt x="0" y="84"/>
                  </a:lnTo>
                  <a:lnTo>
                    <a:pt x="300" y="219"/>
                  </a:lnTo>
                </a:path>
              </a:pathLst>
            </a:custGeom>
            <a:noFill/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84720" y="5719680"/>
              <a:ext cx="450360" cy="345240"/>
              <a:chOff x="3384720" y="5719680"/>
              <a:chExt cx="450360" cy="345240"/>
            </a:xfrm>
          </p:grpSpPr>
          <p:sp>
            <p:nvSpPr>
              <p:cNvPr id="128" name=""/>
              <p:cNvSpPr/>
              <p:nvPr/>
            </p:nvSpPr>
            <p:spPr>
              <a:xfrm>
                <a:off x="3384720" y="5848200"/>
                <a:ext cx="51480" cy="77040"/>
              </a:xfrm>
              <a:prstGeom prst="ellipse">
                <a:avLst/>
              </a:prstGeom>
              <a:solidFill>
                <a:srgbClr val="969696"/>
              </a:soli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89840" y="5738040"/>
                <a:ext cx="345240" cy="30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caca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3487680" y="5721840"/>
                <a:ext cx="343440" cy="25200"/>
                <a:chOff x="3487680" y="5721840"/>
                <a:chExt cx="343440" cy="25200"/>
              </a:xfrm>
            </p:grpSpPr>
            <p:sp>
              <p:nvSpPr>
                <p:cNvPr id="131" name=""/>
                <p:cNvSpPr/>
                <p:nvPr/>
              </p:nvSpPr>
              <p:spPr>
                <a:xfrm rot="16200000">
                  <a:off x="349632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 rot="5400000">
                  <a:off x="353988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358200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 rot="5400000">
                  <a:off x="362592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3659400" y="5721840"/>
                  <a:ext cx="85680" cy="25200"/>
                  <a:chOff x="3659400" y="5721840"/>
                  <a:chExt cx="85680" cy="252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16200000">
                    <a:off x="366804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 rot="5400000">
                    <a:off x="371160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3745440" y="5721840"/>
                  <a:ext cx="85680" cy="25200"/>
                  <a:chOff x="3745440" y="5721840"/>
                  <a:chExt cx="85680" cy="252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16200000">
                    <a:off x="375408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V="1" rot="5400000">
                    <a:off x="379764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 rot="16200000">
                <a:off x="34956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 rot="5400000">
                <a:off x="35388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358128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 rot="5400000">
                <a:off x="36252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660120" y="6036840"/>
                <a:ext cx="85680" cy="27720"/>
                <a:chOff x="3660120" y="6036840"/>
                <a:chExt cx="85680" cy="27720"/>
              </a:xfrm>
            </p:grpSpPr>
            <p:sp>
              <p:nvSpPr>
                <p:cNvPr id="146" name=""/>
                <p:cNvSpPr/>
                <p:nvPr/>
              </p:nvSpPr>
              <p:spPr>
                <a:xfrm rot="16200000">
                  <a:off x="3667320" y="602964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 rot="5400000">
                  <a:off x="3710880" y="602928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rot="16200000">
                <a:off x="37530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 rot="5400000">
                <a:off x="379692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1840" y="5736960"/>
                <a:ext cx="360" cy="318600"/>
              </a:xfrm>
              <a:custGeom>
                <a:avLst/>
                <a:gdLst/>
                <a:ahLst/>
                <a:rect l="l" t="t" r="r" b="b"/>
                <a:pathLst>
                  <a:path w="1" h="2233">
                    <a:moveTo>
                      <a:pt x="1" y="0"/>
                    </a:moveTo>
                    <a:lnTo>
                      <a:pt x="0" y="223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87680" y="5731200"/>
                <a:ext cx="360" cy="315360"/>
              </a:xfrm>
              <a:custGeom>
                <a:avLst/>
                <a:gdLst/>
                <a:ahLst/>
                <a:rect l="l" t="t" r="r" b="b"/>
                <a:pathLst>
                  <a:path w="1" h="2210">
                    <a:moveTo>
                      <a:pt x="0" y="0"/>
                    </a:moveTo>
                    <a:lnTo>
                      <a:pt x="0" y="221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7400" y="574704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8460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98920" y="574812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1216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37440" y="572112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23120" y="571968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49240" y="572220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87680" y="5721120"/>
                <a:ext cx="24480" cy="171360"/>
              </a:xfrm>
              <a:custGeom>
                <a:avLst/>
                <a:gdLst/>
                <a:ahLst/>
                <a:rect l="l" t="t" r="r" b="b"/>
                <a:pathLst>
                  <a:path w="171" h="1203">
                    <a:moveTo>
                      <a:pt x="171" y="0"/>
                    </a:moveTo>
                    <a:lnTo>
                      <a:pt x="0" y="120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07720" y="5889960"/>
                <a:ext cx="23760" cy="174960"/>
              </a:xfrm>
              <a:custGeom>
                <a:avLst/>
                <a:gdLst/>
                <a:ahLst/>
                <a:rect l="l" t="t" r="r" b="b"/>
                <a:pathLst>
                  <a:path w="169" h="1227">
                    <a:moveTo>
                      <a:pt x="169" y="0"/>
                    </a:moveTo>
                    <a:lnTo>
                      <a:pt x="0" y="122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3294720" y="5844600"/>
                <a:ext cx="307800" cy="77040"/>
              </a:xfrm>
              <a:custGeom>
                <a:avLst/>
                <a:gdLst>
                  <a:gd name="textAreaLeft" fmla="*/ 88200 w 307800"/>
                  <a:gd name="textAreaRight" fmla="*/ 219600 w 307800"/>
                  <a:gd name="textAreaTop" fmla="*/ 21960 h 77040"/>
                  <a:gd name="textAreaBottom" fmla="*/ 55080 h 7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11" y="21600"/>
                    </a:lnTo>
                    <a:lnTo>
                      <a:pt x="79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48484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87800" y="5016600"/>
            <a:ext cx="1828800" cy="17524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7760" y="4191120"/>
            <a:ext cx="3781440" cy="1523880"/>
          </a:xfrm>
          <a:custGeom>
            <a:avLst/>
            <a:gdLst>
              <a:gd name="textAreaLeft" fmla="*/ 1240560 w 3781440"/>
              <a:gd name="textAreaRight" fmla="*/ 2540880 w 3781440"/>
              <a:gd name="textAreaTop" fmla="*/ 500040 h 1523880"/>
              <a:gd name="textAreaBottom" fmla="*/ 1023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995" y="21600"/>
                </a:lnTo>
                <a:lnTo>
                  <a:pt x="9605" y="21600"/>
                </a:lnTo>
                <a:close/>
              </a:path>
            </a:pathLst>
          </a:custGeom>
          <a:gradFill rotWithShape="0">
            <a:gsLst>
              <a:gs pos="0">
                <a:srgbClr val="464638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52800" y="4191120"/>
            <a:ext cx="3781440" cy="990360"/>
          </a:xfrm>
          <a:custGeom>
            <a:avLst/>
            <a:gdLst>
              <a:gd name="textAreaLeft" fmla="*/ 915840 w 3781440"/>
              <a:gd name="textAreaRight" fmla="*/ 2865600 w 3781440"/>
              <a:gd name="textAreaTop" fmla="*/ 239760 h 990360"/>
              <a:gd name="textAreaBottom" fmla="*/ 7506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334" y="21600"/>
                </a:lnTo>
                <a:lnTo>
                  <a:pt x="6266" y="2160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55600" y="1285920"/>
            <a:ext cx="5796000" cy="3438000"/>
            <a:chOff x="1155600" y="1285920"/>
            <a:chExt cx="5796000" cy="3438000"/>
          </a:xfrm>
        </p:grpSpPr>
        <p:sp>
          <p:nvSpPr>
            <p:cNvPr id="166" name=""/>
            <p:cNvSpPr/>
            <p:nvPr/>
          </p:nvSpPr>
          <p:spPr>
            <a:xfrm>
              <a:off x="1155600" y="1285920"/>
              <a:ext cx="463680" cy="387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ff6600"/>
                  </a:solidFill>
                  <a:latin typeface="Times New Roman"/>
                </a:rPr>
                <a:t>u</a:t>
              </a:r>
              <a:r>
                <a:rPr b="0" lang="es-ES_tradnl" sz="1800" spc="-1" strike="noStrike" baseline="-25000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7200" y="1376280"/>
              <a:ext cx="5324400" cy="2769840"/>
            </a:xfrm>
            <a:custGeom>
              <a:avLst/>
              <a:gdLst/>
              <a:ahLst/>
              <a:rect l="l" t="t" r="r" b="b"/>
              <a:pathLst>
                <a:path w="2202" h="1147">
                  <a:moveTo>
                    <a:pt x="0" y="0"/>
                  </a:moveTo>
                  <a:lnTo>
                    <a:pt x="0" y="1145"/>
                  </a:lnTo>
                  <a:lnTo>
                    <a:pt x="2202" y="11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5840" y="4257360"/>
              <a:ext cx="19573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6600"/>
                  </a:solidFill>
                  <a:latin typeface="Times New Roman"/>
                </a:rPr>
                <a:t>wavelength, </a:t>
              </a:r>
              <a:r>
                <a:rPr b="0" i="1" lang="es-ES_tradnl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676520" y="1549440"/>
            <a:ext cx="5310000" cy="2585880"/>
          </a:xfrm>
          <a:custGeom>
            <a:avLst/>
            <a:gdLst/>
            <a:ahLst/>
            <a:rect l="l" t="t" r="r" b="b"/>
            <a:pathLst>
              <a:path w="2196" h="1071">
                <a:moveTo>
                  <a:pt x="0" y="1068"/>
                </a:moveTo>
                <a:lnTo>
                  <a:pt x="42" y="1038"/>
                </a:lnTo>
                <a:lnTo>
                  <a:pt x="75" y="1002"/>
                </a:lnTo>
                <a:lnTo>
                  <a:pt x="138" y="825"/>
                </a:lnTo>
                <a:lnTo>
                  <a:pt x="210" y="564"/>
                </a:lnTo>
                <a:lnTo>
                  <a:pt x="261" y="423"/>
                </a:lnTo>
                <a:lnTo>
                  <a:pt x="315" y="282"/>
                </a:lnTo>
                <a:lnTo>
                  <a:pt x="381" y="150"/>
                </a:lnTo>
                <a:lnTo>
                  <a:pt x="444" y="72"/>
                </a:lnTo>
                <a:lnTo>
                  <a:pt x="513" y="15"/>
                </a:lnTo>
                <a:lnTo>
                  <a:pt x="555" y="0"/>
                </a:lnTo>
                <a:lnTo>
                  <a:pt x="597" y="6"/>
                </a:lnTo>
                <a:lnTo>
                  <a:pt x="648" y="18"/>
                </a:lnTo>
                <a:lnTo>
                  <a:pt x="684" y="42"/>
                </a:lnTo>
                <a:lnTo>
                  <a:pt x="756" y="90"/>
                </a:lnTo>
                <a:lnTo>
                  <a:pt x="795" y="126"/>
                </a:lnTo>
                <a:lnTo>
                  <a:pt x="840" y="162"/>
                </a:lnTo>
                <a:lnTo>
                  <a:pt x="897" y="231"/>
                </a:lnTo>
                <a:lnTo>
                  <a:pt x="1017" y="390"/>
                </a:lnTo>
                <a:lnTo>
                  <a:pt x="1107" y="507"/>
                </a:lnTo>
                <a:lnTo>
                  <a:pt x="1182" y="591"/>
                </a:lnTo>
                <a:lnTo>
                  <a:pt x="1290" y="696"/>
                </a:lnTo>
                <a:lnTo>
                  <a:pt x="1377" y="753"/>
                </a:lnTo>
                <a:lnTo>
                  <a:pt x="1494" y="807"/>
                </a:lnTo>
                <a:lnTo>
                  <a:pt x="1650" y="855"/>
                </a:lnTo>
                <a:lnTo>
                  <a:pt x="1818" y="897"/>
                </a:lnTo>
                <a:lnTo>
                  <a:pt x="1953" y="921"/>
                </a:lnTo>
                <a:lnTo>
                  <a:pt x="2046" y="936"/>
                </a:lnTo>
                <a:lnTo>
                  <a:pt x="2196" y="951"/>
                </a:lnTo>
                <a:lnTo>
                  <a:pt x="2196" y="1071"/>
                </a:lnTo>
                <a:lnTo>
                  <a:pt x="0" y="1068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215040" y="1395360"/>
                <a:ext cx="23544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143680" y="50292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6600"/>
                </a:solidFill>
                <a:latin typeface="Times New Roman"/>
              </a:rPr>
              <a:t>Liqui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9240" y="4635360"/>
            <a:ext cx="525600" cy="6080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8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60440" y="421596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15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imes New Roman"/>
              </a:rPr>
              <a:t>A narrow  band of  the visible spectrum is selected with a combination  of Orange II and Copper Sulphate solution (it absorbs infrared strong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384720" y="5713560"/>
            <a:ext cx="928440" cy="358560"/>
            <a:chOff x="3384720" y="5713560"/>
            <a:chExt cx="928440" cy="358560"/>
          </a:xfrm>
        </p:grpSpPr>
        <p:sp>
          <p:nvSpPr>
            <p:cNvPr id="176" name=""/>
            <p:cNvSpPr/>
            <p:nvPr/>
          </p:nvSpPr>
          <p:spPr>
            <a:xfrm flipH="1" rot="5400000">
              <a:off x="3863880" y="5622840"/>
              <a:ext cx="358560" cy="540000"/>
            </a:xfrm>
            <a:custGeom>
              <a:avLst/>
              <a:gdLst>
                <a:gd name="textAreaLeft" fmla="*/ 43560 w 358560"/>
                <a:gd name="textAreaRight" fmla="*/ 315000 w 358560"/>
                <a:gd name="textAreaTop" fmla="*/ 43560 h 540000"/>
                <a:gd name="textAreaBottom" fmla="*/ 496440 h 540000"/>
              </a:gdLst>
              <a:ahLst/>
              <a:rect l="textAreaLeft" t="textAreaTop" r="textAreaRight" b="textAreaBottom"/>
              <a:pathLst>
                <a:path w="21600" h="32519">
                  <a:moveTo>
                    <a:pt x="8960" y="0"/>
                  </a:moveTo>
                  <a:arcTo wR="8960" hR="8960" stAng="16200000" swAng="-5400000"/>
                  <a:lnTo>
                    <a:pt x="0" y="23559"/>
                  </a:lnTo>
                  <a:arcTo wR="8960" hR="8960" stAng="10800000" swAng="-5400000"/>
                  <a:lnTo>
                    <a:pt x="12640" y="32519"/>
                  </a:lnTo>
                  <a:arcTo wR="8960" hR="8960" stAng="5400000" swAng="-5400000"/>
                  <a:lnTo>
                    <a:pt x="21600" y="8960"/>
                  </a:lnTo>
                  <a:arcTo wR="8960" hR="896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843000" y="5823000"/>
              <a:ext cx="241200" cy="144360"/>
              <a:chOff x="3843000" y="5823000"/>
              <a:chExt cx="241200" cy="144360"/>
            </a:xfrm>
          </p:grpSpPr>
          <p:sp>
            <p:nvSpPr>
              <p:cNvPr id="178" name=""/>
              <p:cNvSpPr/>
              <p:nvPr/>
            </p:nvSpPr>
            <p:spPr>
              <a:xfrm flipH="1">
                <a:off x="3843000" y="582300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3843000" y="5919120"/>
                <a:ext cx="241200" cy="48240"/>
              </a:xfrm>
              <a:custGeom>
                <a:avLst/>
                <a:gdLst/>
                <a:ahLst/>
                <a:rect l="l" t="t" r="r" b="b"/>
                <a:pathLst>
                  <a:path w="900" h="180">
                    <a:moveTo>
                      <a:pt x="900" y="180"/>
                    </a:moveTo>
                    <a:lnTo>
                      <a:pt x="540" y="18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 flipH="1">
              <a:off x="3892320" y="5848560"/>
              <a:ext cx="90000" cy="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9c9c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077360" y="5826240"/>
              <a:ext cx="190440" cy="139320"/>
            </a:xfrm>
            <a:custGeom>
              <a:avLst/>
              <a:gdLst/>
              <a:ahLst/>
              <a:rect l="l" t="t" r="r" b="b"/>
              <a:pathLst>
                <a:path w="300" h="219">
                  <a:moveTo>
                    <a:pt x="300" y="0"/>
                  </a:moveTo>
                  <a:lnTo>
                    <a:pt x="0" y="84"/>
                  </a:lnTo>
                  <a:lnTo>
                    <a:pt x="300" y="219"/>
                  </a:lnTo>
                </a:path>
              </a:pathLst>
            </a:custGeom>
            <a:noFill/>
            <a:ln w="381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384720" y="5719680"/>
              <a:ext cx="450360" cy="345240"/>
              <a:chOff x="3384720" y="5719680"/>
              <a:chExt cx="450360" cy="345240"/>
            </a:xfrm>
          </p:grpSpPr>
          <p:sp>
            <p:nvSpPr>
              <p:cNvPr id="183" name=""/>
              <p:cNvSpPr/>
              <p:nvPr/>
            </p:nvSpPr>
            <p:spPr>
              <a:xfrm>
                <a:off x="3384720" y="5848200"/>
                <a:ext cx="51480" cy="77040"/>
              </a:xfrm>
              <a:prstGeom prst="ellipse">
                <a:avLst/>
              </a:prstGeom>
              <a:solidFill>
                <a:srgbClr val="969696"/>
              </a:soli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89840" y="5738040"/>
                <a:ext cx="345240" cy="30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caca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3487680" y="5721840"/>
                <a:ext cx="343440" cy="25200"/>
                <a:chOff x="3487680" y="5721840"/>
                <a:chExt cx="343440" cy="25200"/>
              </a:xfrm>
            </p:grpSpPr>
            <p:sp>
              <p:nvSpPr>
                <p:cNvPr id="186" name=""/>
                <p:cNvSpPr/>
                <p:nvPr/>
              </p:nvSpPr>
              <p:spPr>
                <a:xfrm rot="16200000">
                  <a:off x="349632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 rot="5400000">
                  <a:off x="353988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6200000">
                  <a:off x="3582000" y="571284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 rot="5400000">
                  <a:off x="3625920" y="5713560"/>
                  <a:ext cx="2448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659400" y="5721840"/>
                  <a:ext cx="85680" cy="25200"/>
                  <a:chOff x="3659400" y="5721840"/>
                  <a:chExt cx="85680" cy="25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366804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 rot="5400000">
                    <a:off x="371160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745440" y="5721840"/>
                  <a:ext cx="85680" cy="25200"/>
                  <a:chOff x="3745440" y="5721840"/>
                  <a:chExt cx="85680" cy="2520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3754080" y="571284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V="1" rot="5400000">
                    <a:off x="3797640" y="571356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1026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1026653"/>
                      </a:path>
                    </a:pathLst>
                  </a:custGeom>
                  <a:noFill/>
                  <a:ln w="648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 rot="16200000">
                <a:off x="34956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5400000">
                <a:off x="35388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200000">
                <a:off x="358128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 rot="5400000">
                <a:off x="362520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3660120" y="6036840"/>
                <a:ext cx="85680" cy="27720"/>
                <a:chOff x="3660120" y="6036840"/>
                <a:chExt cx="85680" cy="27720"/>
              </a:xfrm>
            </p:grpSpPr>
            <p:sp>
              <p:nvSpPr>
                <p:cNvPr id="201" name=""/>
                <p:cNvSpPr/>
                <p:nvPr/>
              </p:nvSpPr>
              <p:spPr>
                <a:xfrm rot="16200000">
                  <a:off x="3667320" y="602964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 rot="5400000">
                  <a:off x="3710880" y="6029280"/>
                  <a:ext cx="27720" cy="4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266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26653"/>
                    </a:path>
                  </a:pathLst>
                </a:custGeom>
                <a:noFill/>
                <a:ln w="648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 rot="16200000">
                <a:off x="3753000" y="602892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5400000">
                <a:off x="3796920" y="602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266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26653"/>
                  </a:path>
                </a:pathLst>
              </a:custGeom>
              <a:noFill/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31840" y="5736960"/>
                <a:ext cx="360" cy="318600"/>
              </a:xfrm>
              <a:custGeom>
                <a:avLst/>
                <a:gdLst/>
                <a:ahLst/>
                <a:rect l="l" t="t" r="r" b="b"/>
                <a:pathLst>
                  <a:path w="1" h="2233">
                    <a:moveTo>
                      <a:pt x="1" y="0"/>
                    </a:moveTo>
                    <a:lnTo>
                      <a:pt x="0" y="223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87680" y="5731200"/>
                <a:ext cx="360" cy="315360"/>
              </a:xfrm>
              <a:custGeom>
                <a:avLst/>
                <a:gdLst/>
                <a:ahLst/>
                <a:rect l="l" t="t" r="r" b="b"/>
                <a:pathLst>
                  <a:path w="1" h="2210">
                    <a:moveTo>
                      <a:pt x="0" y="0"/>
                    </a:moveTo>
                    <a:lnTo>
                      <a:pt x="0" y="221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67400" y="574704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8460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98920" y="5748120"/>
                <a:ext cx="38520" cy="28944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12160" y="5746320"/>
                <a:ext cx="38520" cy="289800"/>
              </a:xfrm>
              <a:custGeom>
                <a:avLst/>
                <a:gdLst/>
                <a:ahLst/>
                <a:rect l="l" t="t" r="r" b="b"/>
                <a:pathLst>
                  <a:path w="270" h="2030">
                    <a:moveTo>
                      <a:pt x="270" y="0"/>
                    </a:moveTo>
                    <a:lnTo>
                      <a:pt x="0" y="2030"/>
                    </a:lnTo>
                  </a:path>
                </a:pathLst>
              </a:custGeom>
              <a:noFill/>
              <a:ln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37440" y="572112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23120" y="571968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49240" y="5722200"/>
                <a:ext cx="46800" cy="342720"/>
              </a:xfrm>
              <a:custGeom>
                <a:avLst/>
                <a:gdLst/>
                <a:ahLst/>
                <a:rect l="l" t="t" r="r" b="b"/>
                <a:pathLst>
                  <a:path w="330" h="2400">
                    <a:moveTo>
                      <a:pt x="330" y="0"/>
                    </a:moveTo>
                    <a:lnTo>
                      <a:pt x="0" y="2400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87680" y="5721120"/>
                <a:ext cx="24480" cy="171360"/>
              </a:xfrm>
              <a:custGeom>
                <a:avLst/>
                <a:gdLst/>
                <a:ahLst/>
                <a:rect l="l" t="t" r="r" b="b"/>
                <a:pathLst>
                  <a:path w="171" h="1203">
                    <a:moveTo>
                      <a:pt x="171" y="0"/>
                    </a:moveTo>
                    <a:lnTo>
                      <a:pt x="0" y="1203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7720" y="5889960"/>
                <a:ext cx="23760" cy="174960"/>
              </a:xfrm>
              <a:custGeom>
                <a:avLst/>
                <a:gdLst/>
                <a:ahLst/>
                <a:rect l="l" t="t" r="r" b="b"/>
                <a:pathLst>
                  <a:path w="169" h="1227">
                    <a:moveTo>
                      <a:pt x="169" y="0"/>
                    </a:moveTo>
                    <a:lnTo>
                      <a:pt x="0" y="1227"/>
                    </a:lnTo>
                  </a:path>
                </a:pathLst>
              </a:custGeom>
              <a:noFill/>
              <a:ln w="648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3294720" y="5844600"/>
                <a:ext cx="307800" cy="77040"/>
              </a:xfrm>
              <a:custGeom>
                <a:avLst/>
                <a:gdLst>
                  <a:gd name="textAreaLeft" fmla="*/ 88200 w 307800"/>
                  <a:gd name="textAreaRight" fmla="*/ 219600 w 307800"/>
                  <a:gd name="textAreaTop" fmla="*/ 21960 h 77040"/>
                  <a:gd name="textAreaBottom" fmla="*/ 55080 h 7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611" y="21600"/>
                    </a:lnTo>
                    <a:lnTo>
                      <a:pt x="79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848484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2209680" y="2514600"/>
            <a:ext cx="114480" cy="1587600"/>
          </a:xfrm>
          <a:custGeom>
            <a:avLst/>
            <a:gdLst/>
            <a:ahLst/>
            <a:rect l="l" t="t" r="r" b="b"/>
            <a:pathLst>
              <a:path w="72" h="1000">
                <a:moveTo>
                  <a:pt x="0" y="996"/>
                </a:moveTo>
                <a:lnTo>
                  <a:pt x="0" y="224"/>
                </a:lnTo>
                <a:lnTo>
                  <a:pt x="8" y="172"/>
                </a:lnTo>
                <a:lnTo>
                  <a:pt x="72" y="0"/>
                </a:lnTo>
                <a:lnTo>
                  <a:pt x="72" y="1000"/>
                </a:lnTo>
                <a:lnTo>
                  <a:pt x="0" y="99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c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24640" y="5029200"/>
            <a:ext cx="2262960" cy="318600"/>
            <a:chOff x="2924640" y="5029200"/>
            <a:chExt cx="2262960" cy="318600"/>
          </a:xfrm>
        </p:grpSpPr>
        <p:grpSp>
          <p:nvGrpSpPr>
            <p:cNvPr id="219" name=""/>
            <p:cNvGrpSpPr/>
            <p:nvPr/>
          </p:nvGrpSpPr>
          <p:grpSpPr>
            <a:xfrm>
              <a:off x="2939760" y="5041800"/>
              <a:ext cx="1780920" cy="300960"/>
              <a:chOff x="2939760" y="5041800"/>
              <a:chExt cx="1780920" cy="300960"/>
            </a:xfrm>
          </p:grpSpPr>
          <p:sp>
            <p:nvSpPr>
              <p:cNvPr id="220" name=""/>
              <p:cNvSpPr/>
              <p:nvPr/>
            </p:nvSpPr>
            <p:spPr>
              <a:xfrm rot="5400000">
                <a:off x="3649680" y="4331520"/>
                <a:ext cx="299520" cy="171972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400000">
                <a:off x="4504320" y="5126400"/>
                <a:ext cx="300960" cy="13140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64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24640" y="5030640"/>
              <a:ext cx="2153880" cy="317160"/>
              <a:chOff x="2924640" y="5030640"/>
              <a:chExt cx="2153880" cy="317160"/>
            </a:xfrm>
          </p:grpSpPr>
          <p:sp>
            <p:nvSpPr>
              <p:cNvPr id="223" name=""/>
              <p:cNvSpPr/>
              <p:nvPr/>
            </p:nvSpPr>
            <p:spPr>
              <a:xfrm rot="5400000">
                <a:off x="3806640" y="4148280"/>
                <a:ext cx="315720" cy="2080080"/>
              </a:xfrm>
              <a:custGeom>
                <a:avLst/>
                <a:gdLst/>
                <a:ahLst/>
                <a:rect l="l" t="t" r="r" b="b"/>
                <a:pathLst>
                  <a:path w="423" h="2808">
                    <a:moveTo>
                      <a:pt x="0" y="0"/>
                    </a:moveTo>
                    <a:lnTo>
                      <a:pt x="423" y="3"/>
                    </a:lnTo>
                    <a:lnTo>
                      <a:pt x="423" y="2613"/>
                    </a:lnTo>
                    <a:lnTo>
                      <a:pt x="399" y="2691"/>
                    </a:lnTo>
                    <a:lnTo>
                      <a:pt x="351" y="2757"/>
                    </a:lnTo>
                    <a:lnTo>
                      <a:pt x="297" y="2793"/>
                    </a:lnTo>
                    <a:lnTo>
                      <a:pt x="204" y="2808"/>
                    </a:lnTo>
                    <a:lnTo>
                      <a:pt x="135" y="2793"/>
                    </a:lnTo>
                    <a:lnTo>
                      <a:pt x="72" y="2754"/>
                    </a:lnTo>
                    <a:lnTo>
                      <a:pt x="24" y="2694"/>
                    </a:lnTo>
                    <a:lnTo>
                      <a:pt x="0" y="261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4840200" y="5109480"/>
                <a:ext cx="317160" cy="159120"/>
              </a:xfrm>
              <a:prstGeom prst="ellipse">
                <a:avLst/>
              </a:prstGeom>
              <a:noFill/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rot="5400000">
              <a:off x="4752000" y="5053320"/>
              <a:ext cx="248760" cy="266760"/>
            </a:xfrm>
            <a:prstGeom prst="can">
              <a:avLst>
                <a:gd name="adj" fmla="val 34722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4895640" y="5054400"/>
              <a:ext cx="317160" cy="266760"/>
            </a:xfrm>
            <a:prstGeom prst="can">
              <a:avLst>
                <a:gd name="adj" fmla="val 38888"/>
              </a:avLst>
            </a:prstGeom>
            <a:gradFill rotWithShape="0">
              <a:gsLst>
                <a:gs pos="0">
                  <a:srgbClr val="007038"/>
                </a:gs>
                <a:gs pos="50000">
                  <a:srgbClr val="00cc66"/>
                </a:gs>
                <a:gs pos="100000">
                  <a:srgbClr val="007038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5018400" y="5151600"/>
              <a:ext cx="234720" cy="716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5e2f"/>
                </a:gs>
                <a:gs pos="100000">
                  <a:srgbClr val="00cc66"/>
                </a:gs>
              </a:gsLst>
              <a:lin ang="54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91080" y="5041800"/>
              <a:ext cx="147600" cy="29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50:02Z</dcterms:created>
  <dc:creator>Alejandro  del Mazo Vivar</dc:creator>
  <dc:description/>
  <dc:language>en-US</dc:language>
  <cp:lastModifiedBy>José María Martín García</cp:lastModifiedBy>
  <dcterms:modified xsi:type="dcterms:W3CDTF">2005-07-22T09:10:30Z</dcterms:modified>
  <cp:revision>293</cp:revision>
  <dc:subject/>
  <dc:title>Sin título de diapositiva</dc:title>
</cp:coreProperties>
</file>