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77A6F-4C61-4340-8C09-4B974FA23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EBDEC-5A8C-406C-B787-4E5E1A7B9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5F2C9-8800-4CB8-BB5C-B1CD69DF4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EAE0D-2ABF-4905-9FFC-477D8D15F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12943-72BC-4C34-A85F-1B91C50C5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8DFC8-F6F7-4F19-BE47-5686B3FDE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320D4-2514-4DCD-98A4-74D4ED93B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6A7C9-2EFD-4B05-9E06-352085FAE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0FEAD-B0B7-48D3-9D17-D07A2C613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C4BB7-38CD-4688-8799-2D50F8B66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DBA5A-5F3F-41B0-B510-33EE6741E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F6F84-2DDE-4F8B-962C-8038AB679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77BAF-7866-467B-B987-15B1C5C8E2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685960" y="173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logoIPHO2005-1" descr=""/>
          <p:cNvPicPr/>
          <p:nvPr/>
        </p:nvPicPr>
        <p:blipFill>
          <a:blip r:embed="rId1"/>
          <a:stretch/>
        </p:blipFill>
        <p:spPr>
          <a:xfrm>
            <a:off x="1219320" y="324000"/>
            <a:ext cx="6324480" cy="56959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685960" y="173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logoIPHO2005-1" descr=""/>
          <p:cNvPicPr/>
          <p:nvPr/>
        </p:nvPicPr>
        <p:blipFill>
          <a:blip r:embed="rId2"/>
          <a:stretch/>
        </p:blipFill>
        <p:spPr>
          <a:xfrm>
            <a:off x="152280" y="6095880"/>
            <a:ext cx="762120" cy="6858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344240" y="6238800"/>
            <a:ext cx="3408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3333cc"/>
                </a:solidFill>
                <a:latin typeface="Arial Black"/>
              </a:rPr>
              <a:t>36th International Physics Olympi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 Black"/>
              </a:rPr>
              <a:t>Theoretical competition, Tuesday July 5, 20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 txBox="1"/>
          <p:nvPr/>
        </p:nvSpPr>
        <p:spPr>
          <a:xfrm rot="5400000">
            <a:off x="5628600" y="3286080"/>
            <a:ext cx="6267240" cy="3049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c4b596"/>
                  </a:solidFill>
                  <a:miter/>
                </a:ln>
                <a:gradFill rotWithShape="0">
                  <a:gsLst>
                    <a:gs pos="0">
                      <a:srgbClr val="c4b596"/>
                    </a:gs>
                    <a:gs pos="100000">
                      <a:srgbClr val="5a5345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bcbcb"/>
                  </a:outerShdw>
                </a:effectLst>
                <a:latin typeface="Times New Roman"/>
              </a:rPr>
              <a:t>THEORETICAL QUESTION 1 </a:t>
            </a:r>
            <a:endParaRPr b="0" lang="en-US" sz="2400" spc="1" strike="noStrike">
              <a:ln w="12600">
                <a:solidFill>
                  <a:srgbClr val="c4b596"/>
                </a:solidFill>
                <a:miter/>
              </a:ln>
              <a:gradFill rotWithShape="0">
                <a:gsLst>
                  <a:gs pos="0">
                    <a:srgbClr val="c4b596"/>
                  </a:gs>
                  <a:gs pos="100000">
                    <a:srgbClr val="5a5345"/>
                  </a:gs>
                </a:gsLst>
                <a:lin ang="5400000"/>
              </a:gradFill>
              <a:effectLst>
                <a:outerShdw dist="53966" dir="2700000" blurRad="0" rotWithShape="0">
                  <a:srgbClr val="cbcbcb"/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5946840" y="6170760"/>
            <a:ext cx="587160" cy="5731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6649920" y="6180120"/>
            <a:ext cx="379440" cy="5446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78468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logorsef" descr=""/>
          <p:cNvPicPr/>
          <p:nvPr/>
        </p:nvPicPr>
        <p:blipFill>
          <a:blip r:embed="rId5"/>
          <a:stretch/>
        </p:blipFill>
        <p:spPr>
          <a:xfrm>
            <a:off x="5181480" y="6151680"/>
            <a:ext cx="52416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152280" y="304920"/>
            <a:ext cx="8762760" cy="6476760"/>
            <a:chOff x="152280" y="304920"/>
            <a:chExt cx="8762760" cy="6476760"/>
          </a:xfrm>
        </p:grpSpPr>
        <p:sp>
          <p:nvSpPr>
            <p:cNvPr id="52" name=""/>
            <p:cNvSpPr txBox="1"/>
            <p:nvPr/>
          </p:nvSpPr>
          <p:spPr>
            <a:xfrm rot="5400000">
              <a:off x="5628600" y="3286080"/>
              <a:ext cx="6267240" cy="304920"/>
            </a:xfrm>
            <a:prstGeom prst="rect">
              <a:avLst/>
            </a:prstGeom>
          </p:spPr>
          <p:txBody>
            <a:bodyPr wrap="none" lIns="90000" rIns="90000" tIns="46800" bIns="46800" anchor="t" anchorCtr="1" vert="eaVer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2600">
                    <a:solidFill>
                      <a:srgbClr val="c4b596"/>
                    </a:solidFill>
                    <a:miter/>
                  </a:ln>
                  <a:gradFill rotWithShape="0">
                    <a:gsLst>
                      <a:gs pos="0">
                        <a:srgbClr val="c4b596"/>
                      </a:gs>
                      <a:gs pos="100000">
                        <a:srgbClr val="5a5345"/>
                      </a:gs>
                    </a:gsLst>
                    <a:lin ang="5400000"/>
                  </a:gradFill>
                  <a:effectLst>
                    <a:outerShdw dist="53966" dir="2700000" blurRad="0" rotWithShape="0">
                      <a:srgbClr val="cbcbcb"/>
                    </a:outerShdw>
                  </a:effectLst>
                  <a:latin typeface="Times New Roman"/>
                </a:rPr>
                <a:t>THEORETICAL QUESTION 1 </a:t>
              </a:r>
              <a:endParaRPr b="0" lang="en-US" sz="2400" spc="1" strike="noStrike">
                <a:ln w="12600">
                  <a:solidFill>
                    <a:srgbClr val="c4b596"/>
                  </a:solidFill>
                  <a:miter/>
                </a:ln>
                <a:gradFill rotWithShape="0">
                  <a:gsLst>
                    <a:gs pos="0">
                      <a:srgbClr val="c4b596"/>
                    </a:gs>
                    <a:gs pos="100000">
                      <a:srgbClr val="5a5345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bcbcb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53" name=""/>
            <p:cNvSpPr txBox="1"/>
            <p:nvPr/>
          </p:nvSpPr>
          <p:spPr>
            <a:xfrm>
              <a:off x="457200" y="380880"/>
              <a:ext cx="525780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0">
                    <a:noFill/>
                  </a:ln>
                  <a:gradFill rotWithShape="0">
                    <a:gsLst>
                      <a:gs pos="0">
                        <a:srgbClr val="aaaaaa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effectLst>
                    <a:outerShdw dist="40186" dir="4303641" blurRad="0" rotWithShape="0">
                      <a:srgbClr val="4d4d4d"/>
                    </a:outerShdw>
                  </a:effectLst>
                  <a:latin typeface="Arial Black"/>
                </a:rPr>
                <a:t>An ill fated satellite</a:t>
              </a:r>
              <a:endPara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  <a:ea typeface="Arial Black"/>
              </a:endParaRPr>
            </a:p>
          </p:txBody>
        </p:sp>
        <p:pic>
          <p:nvPicPr>
            <p:cNvPr id="54" name="logoIPHO2005-1" descr=""/>
            <p:cNvPicPr/>
            <p:nvPr/>
          </p:nvPicPr>
          <p:blipFill>
            <a:blip r:embed="rId1"/>
            <a:stretch/>
          </p:blipFill>
          <p:spPr>
            <a:xfrm>
              <a:off x="152280" y="6095880"/>
              <a:ext cx="762120" cy="68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1344240" y="6238800"/>
              <a:ext cx="34084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3333cc"/>
                  </a:solidFill>
                  <a:latin typeface="Arial Black"/>
                </a:rPr>
                <a:t>36th International Physics Olympia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 Black"/>
                </a:rPr>
                <a:t>Theoretical competition, Tuesday July 5, 200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581760" y="1125360"/>
            <a:ext cx="7169400" cy="1452600"/>
            <a:chOff x="581760" y="1125360"/>
            <a:chExt cx="7169400" cy="1452600"/>
          </a:xfrm>
        </p:grpSpPr>
        <p:sp>
          <p:nvSpPr>
            <p:cNvPr id="57" name=""/>
            <p:cNvSpPr/>
            <p:nvPr/>
          </p:nvSpPr>
          <p:spPr>
            <a:xfrm>
              <a:off x="716040" y="1125360"/>
              <a:ext cx="2478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3600" spc="-1" strike="noStrike">
                  <a:solidFill>
                    <a:srgbClr val="3333cc"/>
                  </a:solidFill>
                  <a:latin typeface="Arial Black"/>
                </a:rPr>
                <a:t>Objective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81760" y="1752480"/>
              <a:ext cx="71694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ff0066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Study the orbital parameters of a geostationary satelli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and its orbit after a misfiring of the apogee engine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5946840" y="6170760"/>
            <a:ext cx="587160" cy="5731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649920" y="6180120"/>
            <a:ext cx="379440" cy="544680"/>
          </a:xfrm>
          <a:prstGeom prst="rect">
            <a:avLst/>
          </a:prstGeom>
          <a:ln w="0">
            <a:noFill/>
          </a:ln>
        </p:spPr>
      </p:pic>
      <p:pic>
        <p:nvPicPr>
          <p:cNvPr id="61" name="logorsef" descr=""/>
          <p:cNvPicPr/>
          <p:nvPr/>
        </p:nvPicPr>
        <p:blipFill>
          <a:blip r:embed="rId4"/>
          <a:stretch/>
        </p:blipFill>
        <p:spPr>
          <a:xfrm>
            <a:off x="5181480" y="6151680"/>
            <a:ext cx="524160" cy="6094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5"/>
          <a:stretch/>
        </p:blipFill>
        <p:spPr>
          <a:xfrm>
            <a:off x="4724280" y="2743200"/>
            <a:ext cx="3276720" cy="3276720"/>
          </a:xfrm>
          <a:prstGeom prst="rect">
            <a:avLst/>
          </a:prstGeom>
          <a:ln w="0">
            <a:noFill/>
          </a:ln>
        </p:spPr>
      </p:pic>
      <p:grpSp>
        <p:nvGrpSpPr>
          <p:cNvPr id="63" name=""/>
          <p:cNvGrpSpPr/>
          <p:nvPr/>
        </p:nvGrpSpPr>
        <p:grpSpPr>
          <a:xfrm>
            <a:off x="609480" y="2860560"/>
            <a:ext cx="3308400" cy="3006720"/>
            <a:chOff x="609480" y="2860560"/>
            <a:chExt cx="3308400" cy="3006720"/>
          </a:xfrm>
        </p:grpSpPr>
        <p:pic>
          <p:nvPicPr>
            <p:cNvPr id="64" name="" descr=""/>
            <p:cNvPicPr/>
            <p:nvPr/>
          </p:nvPicPr>
          <p:blipFill>
            <a:blip r:embed="rId6"/>
            <a:stretch/>
          </p:blipFill>
          <p:spPr>
            <a:xfrm>
              <a:off x="3587400" y="4959000"/>
              <a:ext cx="304920" cy="29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 flipH="1">
              <a:off x="3276000" y="434304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089080" y="4343040"/>
              <a:ext cx="149220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609480" y="2860560"/>
              <a:ext cx="3308400" cy="3006720"/>
              <a:chOff x="609480" y="2860560"/>
              <a:chExt cx="3308400" cy="3006720"/>
            </a:xfrm>
          </p:grpSpPr>
          <p:sp>
            <p:nvSpPr>
              <p:cNvPr id="68" name=""/>
              <p:cNvSpPr/>
              <p:nvPr/>
            </p:nvSpPr>
            <p:spPr>
              <a:xfrm>
                <a:off x="3581280" y="4343040"/>
                <a:ext cx="0" cy="1524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9" name=""/>
              <p:cNvGrpSpPr/>
              <p:nvPr/>
            </p:nvGrpSpPr>
            <p:grpSpPr>
              <a:xfrm>
                <a:off x="609480" y="2860560"/>
                <a:ext cx="3308400" cy="2895480"/>
                <a:chOff x="609480" y="2860560"/>
                <a:chExt cx="3308400" cy="2895480"/>
              </a:xfrm>
            </p:grpSpPr>
            <p:pic>
              <p:nvPicPr>
                <p:cNvPr id="70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3689280" y="4232160"/>
                  <a:ext cx="228600" cy="220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1" name=""/>
                <p:cNvSpPr/>
                <p:nvPr/>
              </p:nvSpPr>
              <p:spPr>
                <a:xfrm>
                  <a:off x="609480" y="2860560"/>
                  <a:ext cx="2971800" cy="2895480"/>
                </a:xfrm>
                <a:prstGeom prst="ellipse">
                  <a:avLst/>
                </a:prstGeom>
                <a:noFill/>
                <a:ln w="15840">
                  <a:solidFill>
                    <a:srgbClr val="000000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7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3146400" y="4400280"/>
                  <a:ext cx="345960" cy="3459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2622240" y="4035240"/>
                  <a:ext cx="29700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4" name=""/>
                <p:cNvSpPr/>
                <p:nvPr/>
              </p:nvSpPr>
              <p:spPr>
                <a:xfrm>
                  <a:off x="3546360" y="4305240"/>
                  <a:ext cx="75960" cy="75960"/>
                </a:xfrm>
                <a:prstGeom prst="ellipse">
                  <a:avLst/>
                </a:pr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1935000" y="4200120"/>
                  <a:ext cx="304920" cy="304920"/>
                </a:xfrm>
                <a:prstGeom prst="ellipse">
                  <a:avLst/>
                </a:prstGeom>
                <a:solidFill>
                  <a:srgbClr val="00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1" fill="hold"/>
                                        <p:tgtEl>
                                          <p:spTgt spid="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" restart="whenNotActive" nodeType="interactiveSeq" fill="hold">
                <p:stCondLst>
                  <p:cond evt="onClick">
                    <p:tgtEl>
                      <p:spTgt spid="62"/>
                    </p:tgtEl>
                  </p:cond>
                </p:stCondLst>
                <p:childTnLst>
                  <p:par>
                    <p:cTn id="13" fill="hold">
                      <p:stCondLst>
                        <p:cond evt="onClick">
                          <p:tgtEl>
                            <p:spTgt spid="62"/>
                          </p:tgtEl>
                        </p:cond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6" dur="1" fill="hold"/>
                                        <p:tgtEl>
                                          <p:spTgt spid="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152280" y="304920"/>
            <a:ext cx="8762760" cy="6476760"/>
            <a:chOff x="152280" y="304920"/>
            <a:chExt cx="8762760" cy="6476760"/>
          </a:xfrm>
        </p:grpSpPr>
        <p:sp>
          <p:nvSpPr>
            <p:cNvPr id="77" name=""/>
            <p:cNvSpPr txBox="1"/>
            <p:nvPr/>
          </p:nvSpPr>
          <p:spPr>
            <a:xfrm rot="5400000">
              <a:off x="5628600" y="3286080"/>
              <a:ext cx="6267240" cy="304920"/>
            </a:xfrm>
            <a:prstGeom prst="rect">
              <a:avLst/>
            </a:prstGeom>
          </p:spPr>
          <p:txBody>
            <a:bodyPr wrap="none" lIns="90000" rIns="90000" tIns="46800" bIns="46800" anchor="t" anchorCtr="1" vert="eaVer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2600">
                    <a:solidFill>
                      <a:srgbClr val="c4b596"/>
                    </a:solidFill>
                    <a:miter/>
                  </a:ln>
                  <a:gradFill rotWithShape="0">
                    <a:gsLst>
                      <a:gs pos="0">
                        <a:srgbClr val="c4b596"/>
                      </a:gs>
                      <a:gs pos="100000">
                        <a:srgbClr val="5a5345"/>
                      </a:gs>
                    </a:gsLst>
                    <a:lin ang="5400000"/>
                  </a:gradFill>
                  <a:effectLst>
                    <a:outerShdw dist="53966" dir="2700000" blurRad="0" rotWithShape="0">
                      <a:srgbClr val="cbcbcb"/>
                    </a:outerShdw>
                  </a:effectLst>
                  <a:latin typeface="Times New Roman"/>
                </a:rPr>
                <a:t>THEORETICAL QUESTION 1 </a:t>
              </a:r>
              <a:endParaRPr b="0" lang="en-US" sz="2400" spc="1" strike="noStrike">
                <a:ln w="12600">
                  <a:solidFill>
                    <a:srgbClr val="c4b596"/>
                  </a:solidFill>
                  <a:miter/>
                </a:ln>
                <a:gradFill rotWithShape="0">
                  <a:gsLst>
                    <a:gs pos="0">
                      <a:srgbClr val="c4b596"/>
                    </a:gs>
                    <a:gs pos="100000">
                      <a:srgbClr val="5a5345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bcbcb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78" name=""/>
            <p:cNvSpPr txBox="1"/>
            <p:nvPr/>
          </p:nvSpPr>
          <p:spPr>
            <a:xfrm>
              <a:off x="457200" y="380880"/>
              <a:ext cx="525780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0">
                    <a:noFill/>
                  </a:ln>
                  <a:gradFill rotWithShape="0">
                    <a:gsLst>
                      <a:gs pos="0">
                        <a:srgbClr val="aaaaaa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effectLst>
                    <a:outerShdw dist="40186" dir="4303641" blurRad="0" rotWithShape="0">
                      <a:srgbClr val="4d4d4d"/>
                    </a:outerShdw>
                  </a:effectLst>
                  <a:latin typeface="Arial Black"/>
                </a:rPr>
                <a:t>An ill fated satellite</a:t>
              </a:r>
              <a:endPara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  <a:ea typeface="Arial Black"/>
              </a:endParaRPr>
            </a:p>
          </p:txBody>
        </p:sp>
        <p:pic>
          <p:nvPicPr>
            <p:cNvPr id="79" name="logoIPHO2005-1" descr=""/>
            <p:cNvPicPr/>
            <p:nvPr/>
          </p:nvPicPr>
          <p:blipFill>
            <a:blip r:embed="rId1"/>
            <a:stretch/>
          </p:blipFill>
          <p:spPr>
            <a:xfrm>
              <a:off x="152280" y="6095880"/>
              <a:ext cx="762120" cy="68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"/>
            <p:cNvSpPr/>
            <p:nvPr/>
          </p:nvSpPr>
          <p:spPr>
            <a:xfrm>
              <a:off x="1344240" y="6238800"/>
              <a:ext cx="34084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3333cc"/>
                  </a:solidFill>
                  <a:latin typeface="Arial Black"/>
                </a:rPr>
                <a:t>36th International Physics Olympia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 Black"/>
                </a:rPr>
                <a:t>Theoretical competition, Tuesday July 5, 200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" name=""/>
          <p:cNvSpPr/>
          <p:nvPr/>
        </p:nvSpPr>
        <p:spPr>
          <a:xfrm>
            <a:off x="533520" y="4876920"/>
            <a:ext cx="60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efinitions of energy and angular moment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1828800" y="3314880"/>
            <a:ext cx="5257800" cy="952200"/>
            <a:chOff x="1828800" y="3314880"/>
            <a:chExt cx="5257800" cy="952200"/>
          </a:xfrm>
        </p:grpSpPr>
        <p:pic>
          <p:nvPicPr>
            <p:cNvPr id="83" name="" descr=""/>
            <p:cNvPicPr/>
            <p:nvPr/>
          </p:nvPicPr>
          <p:blipFill>
            <a:blip r:embed="rId2"/>
            <a:stretch/>
          </p:blipFill>
          <p:spPr>
            <a:xfrm>
              <a:off x="3962520" y="3314880"/>
              <a:ext cx="1628640" cy="93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" descr=""/>
            <p:cNvPicPr/>
            <p:nvPr/>
          </p:nvPicPr>
          <p:blipFill>
            <a:blip r:embed="rId3"/>
            <a:stretch/>
          </p:blipFill>
          <p:spPr>
            <a:xfrm>
              <a:off x="1828800" y="3314880"/>
              <a:ext cx="2036880" cy="952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" name="" descr=""/>
            <p:cNvPicPr/>
            <p:nvPr/>
          </p:nvPicPr>
          <p:blipFill>
            <a:blip r:embed="rId4"/>
            <a:stretch/>
          </p:blipFill>
          <p:spPr>
            <a:xfrm>
              <a:off x="5638680" y="3314880"/>
              <a:ext cx="1447920" cy="950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6" name=""/>
          <p:cNvSpPr/>
          <p:nvPr/>
        </p:nvSpPr>
        <p:spPr>
          <a:xfrm>
            <a:off x="506880" y="1125360"/>
            <a:ext cx="7526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3333cc"/>
                </a:solidFill>
                <a:latin typeface="Arial Black"/>
              </a:rPr>
              <a:t>Question 1: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etermination of orbital parameter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velocity,  energy,  and  angular momentum of a satellite in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geoestationary orbit.</a:t>
            </a:r>
            <a:r>
              <a:rPr b="1" lang="es-ES" sz="3600" spc="-1" strike="noStrike">
                <a:solidFill>
                  <a:srgbClr val="3333cc"/>
                </a:solidFill>
                <a:latin typeface="Arial Black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5"/>
          <a:stretch/>
        </p:blipFill>
        <p:spPr>
          <a:xfrm>
            <a:off x="5946840" y="6170760"/>
            <a:ext cx="587160" cy="5731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6"/>
          <a:stretch/>
        </p:blipFill>
        <p:spPr>
          <a:xfrm>
            <a:off x="6649920" y="6180120"/>
            <a:ext cx="379440" cy="544680"/>
          </a:xfrm>
          <a:prstGeom prst="rect">
            <a:avLst/>
          </a:prstGeom>
          <a:ln w="0">
            <a:noFill/>
          </a:ln>
        </p:spPr>
      </p:pic>
      <p:pic>
        <p:nvPicPr>
          <p:cNvPr id="89" name="logorsef" descr=""/>
          <p:cNvPicPr/>
          <p:nvPr/>
        </p:nvPicPr>
        <p:blipFill>
          <a:blip r:embed="rId7"/>
          <a:stretch/>
        </p:blipFill>
        <p:spPr>
          <a:xfrm>
            <a:off x="5181480" y="6151680"/>
            <a:ext cx="52416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"/>
          <p:cNvGrpSpPr/>
          <p:nvPr/>
        </p:nvGrpSpPr>
        <p:grpSpPr>
          <a:xfrm>
            <a:off x="152280" y="304920"/>
            <a:ext cx="8762760" cy="6476760"/>
            <a:chOff x="152280" y="304920"/>
            <a:chExt cx="8762760" cy="6476760"/>
          </a:xfrm>
        </p:grpSpPr>
        <p:sp>
          <p:nvSpPr>
            <p:cNvPr id="91" name=""/>
            <p:cNvSpPr txBox="1"/>
            <p:nvPr/>
          </p:nvSpPr>
          <p:spPr>
            <a:xfrm rot="5400000">
              <a:off x="5628600" y="3286080"/>
              <a:ext cx="6267240" cy="304920"/>
            </a:xfrm>
            <a:prstGeom prst="rect">
              <a:avLst/>
            </a:prstGeom>
          </p:spPr>
          <p:txBody>
            <a:bodyPr wrap="none" lIns="90000" rIns="90000" tIns="46800" bIns="46800" anchor="t" anchorCtr="1" vert="eaVer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2600">
                    <a:solidFill>
                      <a:srgbClr val="c4b596"/>
                    </a:solidFill>
                    <a:miter/>
                  </a:ln>
                  <a:gradFill rotWithShape="0">
                    <a:gsLst>
                      <a:gs pos="0">
                        <a:srgbClr val="c4b596"/>
                      </a:gs>
                      <a:gs pos="100000">
                        <a:srgbClr val="5a5345"/>
                      </a:gs>
                    </a:gsLst>
                    <a:lin ang="5400000"/>
                  </a:gradFill>
                  <a:effectLst>
                    <a:outerShdw dist="53966" dir="2700000" blurRad="0" rotWithShape="0">
                      <a:srgbClr val="cbcbcb"/>
                    </a:outerShdw>
                  </a:effectLst>
                  <a:latin typeface="Times New Roman"/>
                </a:rPr>
                <a:t>THEORETICAL QUESTION 1 </a:t>
              </a:r>
              <a:endParaRPr b="0" lang="en-US" sz="2400" spc="1" strike="noStrike">
                <a:ln w="12600">
                  <a:solidFill>
                    <a:srgbClr val="c4b596"/>
                  </a:solidFill>
                  <a:miter/>
                </a:ln>
                <a:gradFill rotWithShape="0">
                  <a:gsLst>
                    <a:gs pos="0">
                      <a:srgbClr val="c4b596"/>
                    </a:gs>
                    <a:gs pos="100000">
                      <a:srgbClr val="5a5345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bcbcb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92" name=""/>
            <p:cNvSpPr txBox="1"/>
            <p:nvPr/>
          </p:nvSpPr>
          <p:spPr>
            <a:xfrm>
              <a:off x="457200" y="380880"/>
              <a:ext cx="525780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0">
                    <a:noFill/>
                  </a:ln>
                  <a:gradFill rotWithShape="0">
                    <a:gsLst>
                      <a:gs pos="0">
                        <a:srgbClr val="aaaaaa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effectLst>
                    <a:outerShdw dist="40186" dir="4303641" blurRad="0" rotWithShape="0">
                      <a:srgbClr val="4d4d4d"/>
                    </a:outerShdw>
                  </a:effectLst>
                  <a:latin typeface="Arial Black"/>
                </a:rPr>
                <a:t>An ill fated satellite</a:t>
              </a:r>
              <a:endPara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  <a:ea typeface="Arial Black"/>
              </a:endParaRPr>
            </a:p>
          </p:txBody>
        </p:sp>
        <p:pic>
          <p:nvPicPr>
            <p:cNvPr id="93" name="logoIPHO2005-1" descr=""/>
            <p:cNvPicPr/>
            <p:nvPr/>
          </p:nvPicPr>
          <p:blipFill>
            <a:blip r:embed="rId1"/>
            <a:stretch/>
          </p:blipFill>
          <p:spPr>
            <a:xfrm>
              <a:off x="152280" y="6095880"/>
              <a:ext cx="762120" cy="68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1344240" y="6238800"/>
              <a:ext cx="34084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3333cc"/>
                  </a:solidFill>
                  <a:latin typeface="Arial Black"/>
                </a:rPr>
                <a:t>36th International Physics Olympia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 Black"/>
                </a:rPr>
                <a:t>Theoretical competition, Tuesday July 5, 200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" name=""/>
          <p:cNvSpPr/>
          <p:nvPr/>
        </p:nvSpPr>
        <p:spPr>
          <a:xfrm>
            <a:off x="462240" y="1447920"/>
            <a:ext cx="763164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3333cc"/>
                </a:solidFill>
                <a:latin typeface="Arial Black"/>
              </a:rPr>
              <a:t>Question 2: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etermination of orbital data after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isfiring of the engine; orientation, maximum and minim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radii, and perio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57200" y="3124080"/>
            <a:ext cx="260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Third Kepler la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56840" y="2438280"/>
            <a:ext cx="8937000" cy="2772000"/>
            <a:chOff x="456840" y="2438280"/>
            <a:chExt cx="8937000" cy="2772000"/>
          </a:xfrm>
        </p:grpSpPr>
        <p:sp>
          <p:nvSpPr>
            <p:cNvPr id="98" name=""/>
            <p:cNvSpPr/>
            <p:nvPr/>
          </p:nvSpPr>
          <p:spPr>
            <a:xfrm>
              <a:off x="456840" y="3952800"/>
              <a:ext cx="2694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ff0066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Provided as a hi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5632560" y="2438280"/>
              <a:ext cx="3761280" cy="2772000"/>
              <a:chOff x="5632560" y="2438280"/>
              <a:chExt cx="3761280" cy="2772000"/>
            </a:xfrm>
          </p:grpSpPr>
          <p:grpSp>
            <p:nvGrpSpPr>
              <p:cNvPr id="100" name=""/>
              <p:cNvGrpSpPr/>
              <p:nvPr/>
            </p:nvGrpSpPr>
            <p:grpSpPr>
              <a:xfrm>
                <a:off x="5632560" y="2438280"/>
                <a:ext cx="3761280" cy="2090520"/>
                <a:chOff x="5632560" y="2438280"/>
                <a:chExt cx="3761280" cy="2090520"/>
              </a:xfrm>
            </p:grpSpPr>
            <p:sp>
              <p:nvSpPr>
                <p:cNvPr id="101" name=""/>
                <p:cNvSpPr/>
                <p:nvPr/>
              </p:nvSpPr>
              <p:spPr>
                <a:xfrm flipH="1">
                  <a:off x="5632560" y="2757600"/>
                  <a:ext cx="3656160" cy="17712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8228" y="311"/>
                      </a:moveTo>
                      <a:arcTo wR="10800" hR="10800" stAng="-6226616" swAng="11597664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8228" y="311"/>
                      </a:moveTo>
                      <a:arcTo wR="10800" hR="10800" stAng="-6226616" swAng="11597664"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2" name=""/>
                <p:cNvGrpSpPr/>
                <p:nvPr/>
              </p:nvGrpSpPr>
              <p:grpSpPr>
                <a:xfrm>
                  <a:off x="5741280" y="2438280"/>
                  <a:ext cx="3652560" cy="2049120"/>
                  <a:chOff x="5741280" y="2438280"/>
                  <a:chExt cx="3652560" cy="2049120"/>
                </a:xfrm>
              </p:grpSpPr>
              <p:sp>
                <p:nvSpPr>
                  <p:cNvPr id="103" name=""/>
                  <p:cNvSpPr/>
                  <p:nvPr/>
                </p:nvSpPr>
                <p:spPr>
                  <a:xfrm>
                    <a:off x="6070320" y="3511440"/>
                    <a:ext cx="252720" cy="26856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>
                    <a:off x="6195960" y="3646440"/>
                    <a:ext cx="1741320" cy="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prstDash val="lg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V="1">
                    <a:off x="6195960" y="2760840"/>
                    <a:ext cx="1274760" cy="88560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>
                    <a:off x="5821560" y="3245040"/>
                    <a:ext cx="754920" cy="802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9739" y="4739"/>
                        </a:moveTo>
                        <a:arcTo wR="10800" hR="10800" stAng="-2048156" swAng="204815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9739" y="4739"/>
                        </a:moveTo>
                        <a:arcTo wR="10800" hR="10800" stAng="-2048156" swAng="2048156"/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>
                    <a:off x="7441920" y="2736720"/>
                    <a:ext cx="46080" cy="4788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600" bIns="-12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>
                    <a:off x="7269120" y="2438280"/>
                    <a:ext cx="655560" cy="40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s-ES_tradnl" sz="1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m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843520" y="3807000"/>
                    <a:ext cx="655560" cy="40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s-ES_tradnl" sz="1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M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>
                    <a:off x="6335640" y="3324240"/>
                    <a:ext cx="655560" cy="40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s-ES_tradnl" sz="1600" spc="-1" strike="noStrike">
                        <a:solidFill>
                          <a:srgbClr val="000000"/>
                        </a:solidFill>
                        <a:latin typeface="Symbol"/>
                        <a:ea typeface="Symbol"/>
                      </a:rPr>
                      <a:t>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>
                    <a:off x="6448320" y="2948040"/>
                    <a:ext cx="655560" cy="40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s-ES_tradnl" sz="1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r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flipH="1">
                    <a:off x="5741280" y="2716560"/>
                    <a:ext cx="3652560" cy="17708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7798" y="2574"/>
                        </a:moveTo>
                        <a:arcTo wR="10800" hR="10800" stAng="-2976677" swAng="202914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7798" y="2574"/>
                        </a:moveTo>
                        <a:arcTo wR="10800" hR="10800" stAng="-2976677" swAng="202914"/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  <a:tailEnd len="sm" type="triangle" w="sm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" name=""/>
                  <p:cNvSpPr/>
                  <p:nvPr/>
                </p:nvSpPr>
                <p:spPr>
                  <a:xfrm flipV="1">
                    <a:off x="6203880" y="3014280"/>
                    <a:ext cx="0" cy="622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" name=""/>
                  <p:cNvSpPr/>
                  <p:nvPr/>
                </p:nvSpPr>
                <p:spPr>
                  <a:xfrm>
                    <a:off x="5784840" y="3090960"/>
                    <a:ext cx="655560" cy="40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s-ES_tradnl" sz="1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l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pic>
            <p:nvPicPr>
              <p:cNvPr id="115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6076800" y="4471920"/>
                <a:ext cx="1905120" cy="738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16" name=""/>
          <p:cNvGrpSpPr/>
          <p:nvPr/>
        </p:nvGrpSpPr>
        <p:grpSpPr>
          <a:xfrm>
            <a:off x="876240" y="4876920"/>
            <a:ext cx="3772080" cy="813960"/>
            <a:chOff x="876240" y="4876920"/>
            <a:chExt cx="3772080" cy="813960"/>
          </a:xfrm>
        </p:grpSpPr>
        <p:pic>
          <p:nvPicPr>
            <p:cNvPr id="117" name="" descr=""/>
            <p:cNvPicPr/>
            <p:nvPr/>
          </p:nvPicPr>
          <p:blipFill>
            <a:blip r:embed="rId3"/>
            <a:stretch/>
          </p:blipFill>
          <p:spPr>
            <a:xfrm>
              <a:off x="876240" y="4881600"/>
              <a:ext cx="1413000" cy="80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" name="" descr=""/>
            <p:cNvPicPr/>
            <p:nvPr/>
          </p:nvPicPr>
          <p:blipFill>
            <a:blip r:embed="rId4"/>
            <a:stretch/>
          </p:blipFill>
          <p:spPr>
            <a:xfrm>
              <a:off x="2400480" y="4876920"/>
              <a:ext cx="2247840" cy="8125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" name=""/>
          <p:cNvGrpSpPr/>
          <p:nvPr/>
        </p:nvGrpSpPr>
        <p:grpSpPr>
          <a:xfrm>
            <a:off x="152280" y="304920"/>
            <a:ext cx="8762760" cy="6476760"/>
            <a:chOff x="152280" y="304920"/>
            <a:chExt cx="8762760" cy="6476760"/>
          </a:xfrm>
        </p:grpSpPr>
        <p:sp>
          <p:nvSpPr>
            <p:cNvPr id="120" name=""/>
            <p:cNvSpPr txBox="1"/>
            <p:nvPr/>
          </p:nvSpPr>
          <p:spPr>
            <a:xfrm rot="5400000">
              <a:off x="5628600" y="3286080"/>
              <a:ext cx="6267240" cy="304920"/>
            </a:xfrm>
            <a:prstGeom prst="rect">
              <a:avLst/>
            </a:prstGeom>
          </p:spPr>
          <p:txBody>
            <a:bodyPr wrap="none" lIns="90000" rIns="90000" tIns="46800" bIns="46800" anchor="t" anchorCtr="1" vert="eaVer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2600">
                    <a:solidFill>
                      <a:srgbClr val="c4b596"/>
                    </a:solidFill>
                    <a:miter/>
                  </a:ln>
                  <a:gradFill rotWithShape="0">
                    <a:gsLst>
                      <a:gs pos="0">
                        <a:srgbClr val="c4b596"/>
                      </a:gs>
                      <a:gs pos="100000">
                        <a:srgbClr val="5a5345"/>
                      </a:gs>
                    </a:gsLst>
                    <a:lin ang="5400000"/>
                  </a:gradFill>
                  <a:effectLst>
                    <a:outerShdw dist="53966" dir="2700000" blurRad="0" rotWithShape="0">
                      <a:srgbClr val="cbcbcb"/>
                    </a:outerShdw>
                  </a:effectLst>
                  <a:latin typeface="Times New Roman"/>
                </a:rPr>
                <a:t>THEORETICAL QUESTION 1 </a:t>
              </a:r>
              <a:endParaRPr b="0" lang="en-US" sz="2400" spc="1" strike="noStrike">
                <a:ln w="12600">
                  <a:solidFill>
                    <a:srgbClr val="c4b596"/>
                  </a:solidFill>
                  <a:miter/>
                </a:ln>
                <a:gradFill rotWithShape="0">
                  <a:gsLst>
                    <a:gs pos="0">
                      <a:srgbClr val="c4b596"/>
                    </a:gs>
                    <a:gs pos="100000">
                      <a:srgbClr val="5a5345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bcbcb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21" name=""/>
            <p:cNvSpPr txBox="1"/>
            <p:nvPr/>
          </p:nvSpPr>
          <p:spPr>
            <a:xfrm>
              <a:off x="457200" y="380880"/>
              <a:ext cx="525780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0">
                    <a:noFill/>
                  </a:ln>
                  <a:gradFill rotWithShape="0">
                    <a:gsLst>
                      <a:gs pos="0">
                        <a:srgbClr val="aaaaaa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effectLst>
                    <a:outerShdw dist="40186" dir="4303641" blurRad="0" rotWithShape="0">
                      <a:srgbClr val="4d4d4d"/>
                    </a:outerShdw>
                  </a:effectLst>
                  <a:latin typeface="Arial Black"/>
                </a:rPr>
                <a:t>An ill fated satellite</a:t>
              </a:r>
              <a:endPara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  <a:ea typeface="Arial Black"/>
              </a:endParaRPr>
            </a:p>
          </p:txBody>
        </p:sp>
        <p:pic>
          <p:nvPicPr>
            <p:cNvPr id="122" name="logoIPHO2005-1" descr=""/>
            <p:cNvPicPr/>
            <p:nvPr/>
          </p:nvPicPr>
          <p:blipFill>
            <a:blip r:embed="rId1"/>
            <a:stretch/>
          </p:blipFill>
          <p:spPr>
            <a:xfrm>
              <a:off x="152280" y="6095880"/>
              <a:ext cx="762120" cy="68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"/>
            <p:cNvSpPr/>
            <p:nvPr/>
          </p:nvSpPr>
          <p:spPr>
            <a:xfrm>
              <a:off x="1344240" y="6238800"/>
              <a:ext cx="34084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3333cc"/>
                  </a:solidFill>
                  <a:latin typeface="Arial Black"/>
                </a:rPr>
                <a:t>36th International Physics Olympia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 Black"/>
                </a:rPr>
                <a:t>Theoretical competition, Tuesday July 5, 200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5946840" y="6170760"/>
            <a:ext cx="587160" cy="5731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33520" y="3857760"/>
            <a:ext cx="54864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nergy conserv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ngular momentum conserv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olar equation for conics (hint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6649920" y="6180120"/>
            <a:ext cx="379440" cy="544680"/>
          </a:xfrm>
          <a:prstGeom prst="rect">
            <a:avLst/>
          </a:prstGeom>
          <a:ln w="0">
            <a:noFill/>
          </a:ln>
        </p:spPr>
      </p:pic>
      <p:pic>
        <p:nvPicPr>
          <p:cNvPr id="127" name="logorsef" descr=""/>
          <p:cNvPicPr/>
          <p:nvPr/>
        </p:nvPicPr>
        <p:blipFill>
          <a:blip r:embed="rId4"/>
          <a:stretch/>
        </p:blipFill>
        <p:spPr>
          <a:xfrm>
            <a:off x="5181480" y="6151680"/>
            <a:ext cx="524160" cy="609480"/>
          </a:xfrm>
          <a:prstGeom prst="rect">
            <a:avLst/>
          </a:prstGeom>
          <a:ln w="0">
            <a:noFill/>
          </a:ln>
        </p:spPr>
      </p:pic>
      <p:grpSp>
        <p:nvGrpSpPr>
          <p:cNvPr id="128" name=""/>
          <p:cNvGrpSpPr/>
          <p:nvPr/>
        </p:nvGrpSpPr>
        <p:grpSpPr>
          <a:xfrm>
            <a:off x="380880" y="1262160"/>
            <a:ext cx="7543800" cy="2046960"/>
            <a:chOff x="380880" y="1262160"/>
            <a:chExt cx="7543800" cy="2046960"/>
          </a:xfrm>
        </p:grpSpPr>
        <p:sp>
          <p:nvSpPr>
            <p:cNvPr id="129" name=""/>
            <p:cNvSpPr/>
            <p:nvPr/>
          </p:nvSpPr>
          <p:spPr>
            <a:xfrm>
              <a:off x="380880" y="2117880"/>
              <a:ext cx="7543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Determination of the minimum boost parameter that allows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the satellite to escape and the resulting orbital data (orienta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tion, impact parameter, minimum distance to the Earth)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2720" y="1262160"/>
              <a:ext cx="4368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3600" spc="-1" strike="noStrike">
                  <a:solidFill>
                    <a:srgbClr val="3333cc"/>
                  </a:solidFill>
                  <a:latin typeface="Arial Black"/>
                </a:rPr>
                <a:t>Questions 3 and 4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" name=""/>
          <p:cNvGrpSpPr/>
          <p:nvPr/>
        </p:nvGrpSpPr>
        <p:grpSpPr>
          <a:xfrm>
            <a:off x="152280" y="304920"/>
            <a:ext cx="8762760" cy="6476760"/>
            <a:chOff x="152280" y="304920"/>
            <a:chExt cx="8762760" cy="6476760"/>
          </a:xfrm>
        </p:grpSpPr>
        <p:sp>
          <p:nvSpPr>
            <p:cNvPr id="132" name=""/>
            <p:cNvSpPr txBox="1"/>
            <p:nvPr/>
          </p:nvSpPr>
          <p:spPr>
            <a:xfrm rot="5400000">
              <a:off x="5628600" y="3286080"/>
              <a:ext cx="6267240" cy="304920"/>
            </a:xfrm>
            <a:prstGeom prst="rect">
              <a:avLst/>
            </a:prstGeom>
          </p:spPr>
          <p:txBody>
            <a:bodyPr wrap="none" lIns="90000" rIns="90000" tIns="46800" bIns="46800" anchor="t" anchorCtr="1" vert="eaVer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2600">
                    <a:solidFill>
                      <a:srgbClr val="c4b596"/>
                    </a:solidFill>
                    <a:miter/>
                  </a:ln>
                  <a:gradFill rotWithShape="0">
                    <a:gsLst>
                      <a:gs pos="0">
                        <a:srgbClr val="c4b596"/>
                      </a:gs>
                      <a:gs pos="100000">
                        <a:srgbClr val="5a5345"/>
                      </a:gs>
                    </a:gsLst>
                    <a:lin ang="5400000"/>
                  </a:gradFill>
                  <a:effectLst>
                    <a:outerShdw dist="53966" dir="2700000" blurRad="0" rotWithShape="0">
                      <a:srgbClr val="cbcbcb"/>
                    </a:outerShdw>
                  </a:effectLst>
                  <a:latin typeface="Times New Roman"/>
                </a:rPr>
                <a:t>THEORETICAL QUESTION 1 </a:t>
              </a:r>
              <a:endParaRPr b="0" lang="en-US" sz="2400" spc="1" strike="noStrike">
                <a:ln w="12600">
                  <a:solidFill>
                    <a:srgbClr val="c4b596"/>
                  </a:solidFill>
                  <a:miter/>
                </a:ln>
                <a:gradFill rotWithShape="0">
                  <a:gsLst>
                    <a:gs pos="0">
                      <a:srgbClr val="c4b596"/>
                    </a:gs>
                    <a:gs pos="100000">
                      <a:srgbClr val="5a5345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bcbcb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33" name=""/>
            <p:cNvSpPr txBox="1"/>
            <p:nvPr/>
          </p:nvSpPr>
          <p:spPr>
            <a:xfrm>
              <a:off x="457200" y="380880"/>
              <a:ext cx="525780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0">
                    <a:noFill/>
                  </a:ln>
                  <a:gradFill rotWithShape="0">
                    <a:gsLst>
                      <a:gs pos="0">
                        <a:srgbClr val="aaaaaa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effectLst>
                    <a:outerShdw dist="40186" dir="4303641" blurRad="0" rotWithShape="0">
                      <a:srgbClr val="4d4d4d"/>
                    </a:outerShdw>
                  </a:effectLst>
                  <a:latin typeface="Arial Black"/>
                </a:rPr>
                <a:t>An ill fated satellite</a:t>
              </a:r>
              <a:endPara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  <a:ea typeface="Arial Black"/>
              </a:endParaRPr>
            </a:p>
          </p:txBody>
        </p:sp>
        <p:pic>
          <p:nvPicPr>
            <p:cNvPr id="134" name="logoIPHO2005-1" descr=""/>
            <p:cNvPicPr/>
            <p:nvPr/>
          </p:nvPicPr>
          <p:blipFill>
            <a:blip r:embed="rId1"/>
            <a:stretch/>
          </p:blipFill>
          <p:spPr>
            <a:xfrm>
              <a:off x="152280" y="6095880"/>
              <a:ext cx="762120" cy="68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"/>
            <p:cNvSpPr/>
            <p:nvPr/>
          </p:nvSpPr>
          <p:spPr>
            <a:xfrm>
              <a:off x="1344240" y="6238800"/>
              <a:ext cx="34084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3333cc"/>
                  </a:solidFill>
                  <a:latin typeface="Arial Black"/>
                </a:rPr>
                <a:t>36th International Physics Olympia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 Black"/>
                </a:rPr>
                <a:t>Theoretical competition, Tuesday July 5, 200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" name=""/>
          <p:cNvSpPr/>
          <p:nvPr/>
        </p:nvSpPr>
        <p:spPr>
          <a:xfrm>
            <a:off x="554760" y="1111320"/>
            <a:ext cx="542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3333cc"/>
                </a:solidFill>
                <a:latin typeface="Arial Black"/>
              </a:rPr>
              <a:t>Physical requirement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87320" y="2133720"/>
            <a:ext cx="203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Arial Black"/>
              </a:rPr>
              <a:t>Mechanic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62120" y="300348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Newton’s law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onservation of energy and angular momentu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entripetal acceleration, Kepler’s law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51680" y="5486400"/>
            <a:ext cx="29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Geometry of conic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92840" y="4724280"/>
            <a:ext cx="47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3333cc"/>
                </a:solidFill>
                <a:latin typeface="Arial Black"/>
              </a:rPr>
              <a:t>Mathematical hint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5946840" y="6170760"/>
            <a:ext cx="587160" cy="57312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6649920" y="6180120"/>
            <a:ext cx="379440" cy="544680"/>
          </a:xfrm>
          <a:prstGeom prst="rect">
            <a:avLst/>
          </a:prstGeom>
          <a:ln w="0">
            <a:noFill/>
          </a:ln>
        </p:spPr>
      </p:pic>
      <p:pic>
        <p:nvPicPr>
          <p:cNvPr id="143" name="logorsef" descr=""/>
          <p:cNvPicPr/>
          <p:nvPr/>
        </p:nvPicPr>
        <p:blipFill>
          <a:blip r:embed="rId4"/>
          <a:stretch/>
        </p:blipFill>
        <p:spPr>
          <a:xfrm>
            <a:off x="5181480" y="6151680"/>
            <a:ext cx="52416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 rot="5400000">
            <a:off x="5628600" y="3286080"/>
            <a:ext cx="6267240" cy="3049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c4b596"/>
                  </a:solidFill>
                  <a:miter/>
                </a:ln>
                <a:gradFill rotWithShape="0">
                  <a:gsLst>
                    <a:gs pos="0">
                      <a:srgbClr val="c4b596"/>
                    </a:gs>
                    <a:gs pos="100000">
                      <a:srgbClr val="5a5345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bcbcb"/>
                  </a:outerShdw>
                </a:effectLst>
                <a:latin typeface="Times New Roman"/>
              </a:rPr>
              <a:t>THEORETICAL QUESTION 1 </a:t>
            </a:r>
            <a:endParaRPr b="0" lang="en-US" sz="2400" spc="1" strike="noStrike">
              <a:ln w="12600">
                <a:solidFill>
                  <a:srgbClr val="c4b596"/>
                </a:solidFill>
                <a:miter/>
              </a:ln>
              <a:gradFill rotWithShape="0">
                <a:gsLst>
                  <a:gs pos="0">
                    <a:srgbClr val="c4b596"/>
                  </a:gs>
                  <a:gs pos="100000">
                    <a:srgbClr val="5a5345"/>
                  </a:gs>
                </a:gsLst>
                <a:lin ang="5400000"/>
              </a:gradFill>
              <a:effectLst>
                <a:outerShdw dist="53966" dir="2700000" blurRad="0" rotWithShape="0">
                  <a:srgbClr val="cbcbcb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380880"/>
            <a:ext cx="52578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An ill fated satellite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46" name="logoIPHO2005-1" descr=""/>
          <p:cNvPicPr/>
          <p:nvPr/>
        </p:nvPicPr>
        <p:blipFill>
          <a:blip r:embed="rId1"/>
          <a:stretch/>
        </p:blipFill>
        <p:spPr>
          <a:xfrm>
            <a:off x="152280" y="6095880"/>
            <a:ext cx="762120" cy="68580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1344240" y="6238800"/>
            <a:ext cx="3408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3333cc"/>
                </a:solidFill>
                <a:latin typeface="Arial Black"/>
              </a:rPr>
              <a:t>36th International Physics Olympi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 Black"/>
              </a:rPr>
              <a:t>Theoretical competition, Tuesday July 5, 20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91200" y="1415880"/>
            <a:ext cx="329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3333cc"/>
                </a:solidFill>
                <a:latin typeface="Arial Black"/>
              </a:rPr>
              <a:t>On the record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57200" y="3216240"/>
            <a:ext cx="754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XI International Physics Olympiad (Moskow, 1979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ffff"/>
                </a:solidFill>
                <a:latin typeface="Times New Roman"/>
              </a:rPr>
              <a:t>....</a:t>
            </a:r>
            <a:r>
              <a:rPr b="0" i="1" lang="es-ES" sz="2400" spc="-1" strike="noStrike">
                <a:solidFill>
                  <a:srgbClr val="000000"/>
                </a:solidFill>
                <a:latin typeface="Times New Roman"/>
              </a:rPr>
              <a:t>Moon land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57200" y="437508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XXX International Physics Olympiad (Padova, 1999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ffff"/>
                </a:solidFill>
                <a:latin typeface="Times New Roman"/>
              </a:rPr>
              <a:t>....</a:t>
            </a:r>
            <a:r>
              <a:rPr b="0" i="1" lang="es-ES" sz="2400" spc="-1" strike="noStrike">
                <a:solidFill>
                  <a:srgbClr val="000000"/>
                </a:solidFill>
                <a:latin typeface="Times New Roman"/>
              </a:rPr>
              <a:t>A space probe to Jupi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52880" y="2227320"/>
            <a:ext cx="426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(Precedents  in previous edition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5946840" y="6170760"/>
            <a:ext cx="587160" cy="57312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3"/>
          <a:stretch/>
        </p:blipFill>
        <p:spPr>
          <a:xfrm>
            <a:off x="6649920" y="6180120"/>
            <a:ext cx="379440" cy="544680"/>
          </a:xfrm>
          <a:prstGeom prst="rect">
            <a:avLst/>
          </a:prstGeom>
          <a:ln w="0">
            <a:noFill/>
          </a:ln>
        </p:spPr>
      </p:pic>
      <p:pic>
        <p:nvPicPr>
          <p:cNvPr id="154" name="logorsef" descr=""/>
          <p:cNvPicPr/>
          <p:nvPr/>
        </p:nvPicPr>
        <p:blipFill>
          <a:blip r:embed="rId4"/>
          <a:stretch/>
        </p:blipFill>
        <p:spPr>
          <a:xfrm>
            <a:off x="5181480" y="6151680"/>
            <a:ext cx="52416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85960" y="173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logoIPHO2005-1" descr=""/>
          <p:cNvPicPr/>
          <p:nvPr/>
        </p:nvPicPr>
        <p:blipFill>
          <a:blip r:embed="rId1"/>
          <a:stretch/>
        </p:blipFill>
        <p:spPr>
          <a:xfrm>
            <a:off x="1219320" y="324000"/>
            <a:ext cx="6324480" cy="569592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2685960" y="173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logoIPHO2005-1" descr=""/>
          <p:cNvPicPr/>
          <p:nvPr/>
        </p:nvPicPr>
        <p:blipFill>
          <a:blip r:embed="rId2"/>
          <a:stretch/>
        </p:blipFill>
        <p:spPr>
          <a:xfrm>
            <a:off x="152280" y="6095880"/>
            <a:ext cx="762120" cy="68580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1344240" y="6238800"/>
            <a:ext cx="3408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3333cc"/>
                </a:solidFill>
                <a:latin typeface="Arial Black"/>
              </a:rPr>
              <a:t>36th International Physics Olympi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 Black"/>
              </a:rPr>
              <a:t>Theoretical competition, Tuesday July 5, 20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 txBox="1"/>
          <p:nvPr/>
        </p:nvSpPr>
        <p:spPr>
          <a:xfrm rot="5400000">
            <a:off x="5628600" y="3286080"/>
            <a:ext cx="6267240" cy="3049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c4b596"/>
                  </a:solidFill>
                  <a:miter/>
                </a:ln>
                <a:gradFill rotWithShape="0">
                  <a:gsLst>
                    <a:gs pos="0">
                      <a:srgbClr val="c4b596"/>
                    </a:gs>
                    <a:gs pos="100000">
                      <a:srgbClr val="5a5345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bcbcb"/>
                  </a:outerShdw>
                </a:effectLst>
                <a:latin typeface="Times New Roman"/>
              </a:rPr>
              <a:t>THEORETICAL QUESTION 1 </a:t>
            </a:r>
            <a:endParaRPr b="0" lang="en-US" sz="2400" spc="1" strike="noStrike">
              <a:ln w="12600">
                <a:solidFill>
                  <a:srgbClr val="c4b596"/>
                </a:solidFill>
                <a:miter/>
              </a:ln>
              <a:gradFill rotWithShape="0">
                <a:gsLst>
                  <a:gs pos="0">
                    <a:srgbClr val="c4b596"/>
                  </a:gs>
                  <a:gs pos="100000">
                    <a:srgbClr val="5a5345"/>
                  </a:gs>
                </a:gsLst>
                <a:lin ang="5400000"/>
              </a:gradFill>
              <a:effectLst>
                <a:outerShdw dist="53966" dir="2700000" blurRad="0" rotWithShape="0">
                  <a:srgbClr val="cbcbcb"/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5946840" y="6170760"/>
            <a:ext cx="587160" cy="5731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4"/>
          <a:stretch/>
        </p:blipFill>
        <p:spPr>
          <a:xfrm>
            <a:off x="6649920" y="6180120"/>
            <a:ext cx="379440" cy="544680"/>
          </a:xfrm>
          <a:prstGeom prst="rect">
            <a:avLst/>
          </a:prstGeom>
          <a:ln w="0">
            <a:noFill/>
          </a:ln>
        </p:spPr>
      </p:pic>
      <p:pic>
        <p:nvPicPr>
          <p:cNvPr id="163" name="logorsef" descr=""/>
          <p:cNvPicPr/>
          <p:nvPr/>
        </p:nvPicPr>
        <p:blipFill>
          <a:blip r:embed="rId5"/>
          <a:stretch/>
        </p:blipFill>
        <p:spPr>
          <a:xfrm>
            <a:off x="5181480" y="6151680"/>
            <a:ext cx="52416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0T10:40:10Z</dcterms:created>
  <dc:creator>Fernando Barbero</dc:creator>
  <dc:description/>
  <dc:language>en-US</dc:language>
  <cp:lastModifiedBy>José María Martín García</cp:lastModifiedBy>
  <dcterms:modified xsi:type="dcterms:W3CDTF">2005-07-04T11:28:32Z</dcterms:modified>
  <cp:revision>70</cp:revision>
  <dc:subject/>
  <dc:title>Presentación de PowerPoint</dc:title>
</cp:coreProperties>
</file>